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 id="360" r:id="rId263"/>
    <p:sldId id="361" r:id="rId264"/>
    <p:sldId id="362" r:id="rId265"/>
    <p:sldId id="363" r:id="rId266"/>
    <p:sldId id="364" r:id="rId267"/>
    <p:sldId id="365" r:id="rId268"/>
    <p:sldId id="366" r:id="rId269"/>
    <p:sldId id="367" r:id="rId270"/>
    <p:sldId id="368" r:id="rId271"/>
    <p:sldId id="369" r:id="rId272"/>
    <p:sldId id="370" r:id="rId273"/>
    <p:sldId id="371" r:id="rId274"/>
    <p:sldId id="372" r:id="rId275"/>
    <p:sldId id="373" r:id="rId276"/>
    <p:sldId id="374" r:id="rId277"/>
    <p:sldId id="375" r:id="rId278"/>
    <p:sldId id="376" r:id="rId279"/>
    <p:sldId id="377" r:id="rId280"/>
    <p:sldId id="378" r:id="rId2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slide" Target="slides/slide105.xml"/><Relationship Id="rId264" Type="http://schemas.openxmlformats.org/officeDocument/2006/relationships/slide" Target="slides/slide106.xml"/><Relationship Id="rId265" Type="http://schemas.openxmlformats.org/officeDocument/2006/relationships/slide" Target="slides/slide107.xml"/><Relationship Id="rId266" Type="http://schemas.openxmlformats.org/officeDocument/2006/relationships/slide" Target="slides/slide108.xml"/><Relationship Id="rId267" Type="http://schemas.openxmlformats.org/officeDocument/2006/relationships/slide" Target="slides/slide109.xml"/><Relationship Id="rId268" Type="http://schemas.openxmlformats.org/officeDocument/2006/relationships/slide" Target="slides/slide110.xml"/><Relationship Id="rId269" Type="http://schemas.openxmlformats.org/officeDocument/2006/relationships/slide" Target="slides/slide111.xml"/><Relationship Id="rId270" Type="http://schemas.openxmlformats.org/officeDocument/2006/relationships/slide" Target="slides/slide112.xml"/><Relationship Id="rId271" Type="http://schemas.openxmlformats.org/officeDocument/2006/relationships/slide" Target="slides/slide113.xml"/><Relationship Id="rId272" Type="http://schemas.openxmlformats.org/officeDocument/2006/relationships/slide" Target="slides/slide114.xml"/><Relationship Id="rId273" Type="http://schemas.openxmlformats.org/officeDocument/2006/relationships/slide" Target="slides/slide115.xml"/><Relationship Id="rId274" Type="http://schemas.openxmlformats.org/officeDocument/2006/relationships/slide" Target="slides/slide116.xml"/><Relationship Id="rId275" Type="http://schemas.openxmlformats.org/officeDocument/2006/relationships/slide" Target="slides/slide117.xml"/><Relationship Id="rId276" Type="http://schemas.openxmlformats.org/officeDocument/2006/relationships/slide" Target="slides/slide118.xml"/><Relationship Id="rId277" Type="http://schemas.openxmlformats.org/officeDocument/2006/relationships/slide" Target="slides/slide119.xml"/><Relationship Id="rId278" Type="http://schemas.openxmlformats.org/officeDocument/2006/relationships/slide" Target="slides/slide120.xml"/><Relationship Id="rId279" Type="http://schemas.openxmlformats.org/officeDocument/2006/relationships/slide" Target="slides/slide121.xml"/><Relationship Id="rId280" Type="http://schemas.openxmlformats.org/officeDocument/2006/relationships/slide" Target="slides/slide122.xml"/><Relationship Id="rId281" Type="http://schemas.openxmlformats.org/officeDocument/2006/relationships/slide" Target="slides/slide123.xml"/><Relationship Id="rId2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B92D6-5AC8-4A04-9170-151490374B3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622D2-CC7F-4D8C-974B-240DB6940D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7" name="PlaceHolder 1"/>
          <p:cNvSpPr>
            <a:spLocks noGrp="1"/>
          </p:cNvSpPr>
          <p:nvPr>
            <p:ph type="sldImg"/>
          </p:nvPr>
        </p:nvSpPr>
        <p:spPr>
          <a:xfrm>
            <a:off x="985680" y="733320"/>
            <a:ext cx="4886640" cy="3665520"/>
          </a:xfrm>
          <a:prstGeom prst="rect">
            <a:avLst/>
          </a:prstGeom>
          <a:ln w="0">
            <a:noFill/>
          </a:ln>
        </p:spPr>
      </p:sp>
      <p:sp>
        <p:nvSpPr>
          <p:cNvPr id="74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55FBA-2A20-4818-9605-091A89A0046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356C9-702F-4F3C-A984-2AC7829E9C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3" name="PlaceHolder 1"/>
          <p:cNvSpPr>
            <a:spLocks noGrp="1"/>
          </p:cNvSpPr>
          <p:nvPr>
            <p:ph type="sldImg"/>
          </p:nvPr>
        </p:nvSpPr>
        <p:spPr>
          <a:xfrm>
            <a:off x="985680" y="741240"/>
            <a:ext cx="4886640" cy="3665520"/>
          </a:xfrm>
          <a:prstGeom prst="rect">
            <a:avLst/>
          </a:prstGeom>
          <a:ln w="0">
            <a:noFill/>
          </a:ln>
        </p:spPr>
      </p:sp>
      <p:sp>
        <p:nvSpPr>
          <p:cNvPr id="7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A1BFA-2368-4121-AA2F-DF5FFD8F94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27A65-54D8-4AD0-8D82-EE820C5EB5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3" name="PlaceHolder 1"/>
          <p:cNvSpPr>
            <a:spLocks noGrp="1"/>
          </p:cNvSpPr>
          <p:nvPr>
            <p:ph type="sldImg"/>
          </p:nvPr>
        </p:nvSpPr>
        <p:spPr>
          <a:xfrm>
            <a:off x="985680" y="741240"/>
            <a:ext cx="4886640" cy="3665520"/>
          </a:xfrm>
          <a:prstGeom prst="rect">
            <a:avLst/>
          </a:prstGeom>
          <a:ln w="0">
            <a:noFill/>
          </a:ln>
        </p:spPr>
      </p:sp>
      <p:sp>
        <p:nvSpPr>
          <p:cNvPr id="7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A2184-91A0-47CC-8C46-6E84CF3E88A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FF22D-C693-43D0-A965-C487D39A9C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7" name="PlaceHolder 1"/>
          <p:cNvSpPr>
            <a:spLocks noGrp="1"/>
          </p:cNvSpPr>
          <p:nvPr>
            <p:ph type="sldImg"/>
          </p:nvPr>
        </p:nvSpPr>
        <p:spPr>
          <a:xfrm>
            <a:off x="985680" y="741240"/>
            <a:ext cx="4886640" cy="3665520"/>
          </a:xfrm>
          <a:prstGeom prst="rect">
            <a:avLst/>
          </a:prstGeom>
          <a:ln w="0">
            <a:noFill/>
          </a:ln>
        </p:spPr>
      </p:sp>
      <p:sp>
        <p:nvSpPr>
          <p:cNvPr id="7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F63DA-9B86-41EA-BE55-850960B4DE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3B820-972D-40D9-824D-B19512A224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1" name="PlaceHolder 1"/>
          <p:cNvSpPr>
            <a:spLocks noGrp="1"/>
          </p:cNvSpPr>
          <p:nvPr>
            <p:ph type="sldImg"/>
          </p:nvPr>
        </p:nvSpPr>
        <p:spPr>
          <a:xfrm>
            <a:off x="985680" y="741240"/>
            <a:ext cx="4886640" cy="3665520"/>
          </a:xfrm>
          <a:prstGeom prst="rect">
            <a:avLst/>
          </a:prstGeom>
          <a:ln w="0">
            <a:noFill/>
          </a:ln>
        </p:spPr>
      </p:sp>
      <p:sp>
        <p:nvSpPr>
          <p:cNvPr id="7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4312E-7D5A-446B-94FC-26FDBBEECE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B5534-2828-461D-8445-1B69444248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5" name="PlaceHolder 1"/>
          <p:cNvSpPr>
            <a:spLocks noGrp="1"/>
          </p:cNvSpPr>
          <p:nvPr>
            <p:ph type="sldImg"/>
          </p:nvPr>
        </p:nvSpPr>
        <p:spPr>
          <a:xfrm>
            <a:off x="985680" y="741240"/>
            <a:ext cx="4886640" cy="3665520"/>
          </a:xfrm>
          <a:prstGeom prst="rect">
            <a:avLst/>
          </a:prstGeom>
          <a:ln w="0">
            <a:noFill/>
          </a:ln>
        </p:spPr>
      </p:sp>
      <p:sp>
        <p:nvSpPr>
          <p:cNvPr id="7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AC147-4018-46E3-8A23-5D86B7E1CD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A3A7F-09CB-4D16-9B04-13D55F07C04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9" name="PlaceHolder 1"/>
          <p:cNvSpPr>
            <a:spLocks noGrp="1"/>
          </p:cNvSpPr>
          <p:nvPr>
            <p:ph type="sldImg"/>
          </p:nvPr>
        </p:nvSpPr>
        <p:spPr>
          <a:xfrm>
            <a:off x="985680" y="741240"/>
            <a:ext cx="4886640" cy="3665520"/>
          </a:xfrm>
          <a:prstGeom prst="rect">
            <a:avLst/>
          </a:prstGeom>
          <a:ln w="0">
            <a:noFill/>
          </a:ln>
        </p:spPr>
      </p:sp>
      <p:sp>
        <p:nvSpPr>
          <p:cNvPr id="7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CEE04-666E-423F-AB60-BA008E0E69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9B38D-3C03-416F-9179-D4D11AC051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3" name="PlaceHolder 1"/>
          <p:cNvSpPr>
            <a:spLocks noGrp="1"/>
          </p:cNvSpPr>
          <p:nvPr>
            <p:ph type="sldImg"/>
          </p:nvPr>
        </p:nvSpPr>
        <p:spPr>
          <a:xfrm>
            <a:off x="985680" y="741240"/>
            <a:ext cx="4886640" cy="3665520"/>
          </a:xfrm>
          <a:prstGeom prst="rect">
            <a:avLst/>
          </a:prstGeom>
          <a:ln w="0">
            <a:noFill/>
          </a:ln>
        </p:spPr>
      </p:sp>
      <p:sp>
        <p:nvSpPr>
          <p:cNvPr id="7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8AA23-3F04-47DB-8963-C0777BEA20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D65D0-C3B5-41D6-BA54-D4DA791ADD4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7" name="PlaceHolder 1"/>
          <p:cNvSpPr>
            <a:spLocks noGrp="1"/>
          </p:cNvSpPr>
          <p:nvPr>
            <p:ph type="sldImg"/>
          </p:nvPr>
        </p:nvSpPr>
        <p:spPr>
          <a:xfrm>
            <a:off x="985680" y="741240"/>
            <a:ext cx="4886640" cy="3665520"/>
          </a:xfrm>
          <a:prstGeom prst="rect">
            <a:avLst/>
          </a:prstGeom>
          <a:ln w="0">
            <a:noFill/>
          </a:ln>
        </p:spPr>
      </p:sp>
      <p:sp>
        <p:nvSpPr>
          <p:cNvPr id="7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50CF2-4538-4600-B2FE-F76EECB250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30C31-FCF7-4A1E-AAAD-06901F3E1E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1" name="PlaceHolder 1"/>
          <p:cNvSpPr>
            <a:spLocks noGrp="1"/>
          </p:cNvSpPr>
          <p:nvPr>
            <p:ph type="sldImg"/>
          </p:nvPr>
        </p:nvSpPr>
        <p:spPr>
          <a:xfrm>
            <a:off x="985680" y="741240"/>
            <a:ext cx="4886640" cy="3665520"/>
          </a:xfrm>
          <a:prstGeom prst="rect">
            <a:avLst/>
          </a:prstGeom>
          <a:ln w="0">
            <a:noFill/>
          </a:ln>
        </p:spPr>
      </p:sp>
      <p:sp>
        <p:nvSpPr>
          <p:cNvPr id="7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41D5A-527B-4A55-9282-6ED09BB349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DC243-6FF4-4A94-AEC2-E952F9B52D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5" name="PlaceHolder 1"/>
          <p:cNvSpPr>
            <a:spLocks noGrp="1"/>
          </p:cNvSpPr>
          <p:nvPr>
            <p:ph type="sldImg"/>
          </p:nvPr>
        </p:nvSpPr>
        <p:spPr>
          <a:xfrm>
            <a:off x="985680" y="741240"/>
            <a:ext cx="4886640" cy="3665520"/>
          </a:xfrm>
          <a:prstGeom prst="rect">
            <a:avLst/>
          </a:prstGeom>
          <a:ln w="0">
            <a:noFill/>
          </a:ln>
        </p:spPr>
      </p:sp>
      <p:sp>
        <p:nvSpPr>
          <p:cNvPr id="7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FB84D-B2BC-49BD-ACFB-0D10114321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0C8B7-159D-4C92-ACBD-90E3D4ADDB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9" name="PlaceHolder 1"/>
          <p:cNvSpPr>
            <a:spLocks noGrp="1"/>
          </p:cNvSpPr>
          <p:nvPr>
            <p:ph type="sldImg"/>
          </p:nvPr>
        </p:nvSpPr>
        <p:spPr>
          <a:xfrm>
            <a:off x="985680" y="741240"/>
            <a:ext cx="4886640" cy="3665520"/>
          </a:xfrm>
          <a:prstGeom prst="rect">
            <a:avLst/>
          </a:prstGeom>
          <a:ln w="0">
            <a:noFill/>
          </a:ln>
        </p:spPr>
      </p:sp>
      <p:sp>
        <p:nvSpPr>
          <p:cNvPr id="7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29675-121E-4AED-8F20-3627EEC097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B4752-C9E5-42B7-AB10-1D2F13A6B61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7" name="PlaceHolder 1"/>
          <p:cNvSpPr>
            <a:spLocks noGrp="1"/>
          </p:cNvSpPr>
          <p:nvPr>
            <p:ph type="sldImg"/>
          </p:nvPr>
        </p:nvSpPr>
        <p:spPr>
          <a:xfrm>
            <a:off x="985680" y="741240"/>
            <a:ext cx="4886640" cy="3665520"/>
          </a:xfrm>
          <a:prstGeom prst="rect">
            <a:avLst/>
          </a:prstGeom>
          <a:ln w="0">
            <a:noFill/>
          </a:ln>
        </p:spPr>
      </p:sp>
      <p:sp>
        <p:nvSpPr>
          <p:cNvPr id="75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EDED0-1F41-4A4A-A4DF-D9C015C0B9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FB252-A225-48FD-BC54-E1EE6866D3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3" name="PlaceHolder 1"/>
          <p:cNvSpPr>
            <a:spLocks noGrp="1"/>
          </p:cNvSpPr>
          <p:nvPr>
            <p:ph type="sldImg"/>
          </p:nvPr>
        </p:nvSpPr>
        <p:spPr>
          <a:xfrm>
            <a:off x="985680" y="741240"/>
            <a:ext cx="4886640" cy="3665520"/>
          </a:xfrm>
          <a:prstGeom prst="rect">
            <a:avLst/>
          </a:prstGeom>
          <a:ln w="0">
            <a:noFill/>
          </a:ln>
        </p:spPr>
      </p:sp>
      <p:sp>
        <p:nvSpPr>
          <p:cNvPr id="7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FBF36-F42C-47F2-A964-BB4204C8FC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C6A8C-4420-4FBB-B9C4-74F63BEBC1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7" name="PlaceHolder 1"/>
          <p:cNvSpPr>
            <a:spLocks noGrp="1"/>
          </p:cNvSpPr>
          <p:nvPr>
            <p:ph type="sldImg"/>
          </p:nvPr>
        </p:nvSpPr>
        <p:spPr>
          <a:xfrm>
            <a:off x="985680" y="741240"/>
            <a:ext cx="4886640" cy="3665520"/>
          </a:xfrm>
          <a:prstGeom prst="rect">
            <a:avLst/>
          </a:prstGeom>
          <a:ln w="0">
            <a:noFill/>
          </a:ln>
        </p:spPr>
      </p:sp>
      <p:sp>
        <p:nvSpPr>
          <p:cNvPr id="7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1ED4C-AF67-4659-84BE-3D2BFA17CD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07D1C-3542-4783-86B9-A369BC04D4C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1" name="PlaceHolder 1"/>
          <p:cNvSpPr>
            <a:spLocks noGrp="1"/>
          </p:cNvSpPr>
          <p:nvPr>
            <p:ph type="sldImg"/>
          </p:nvPr>
        </p:nvSpPr>
        <p:spPr>
          <a:xfrm>
            <a:off x="985680" y="741240"/>
            <a:ext cx="4886640" cy="3665520"/>
          </a:xfrm>
          <a:prstGeom prst="rect">
            <a:avLst/>
          </a:prstGeom>
          <a:ln w="0">
            <a:noFill/>
          </a:ln>
        </p:spPr>
      </p:sp>
      <p:sp>
        <p:nvSpPr>
          <p:cNvPr id="7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183C5-6332-4ABC-A5CC-A5CFE4EAC5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D3C7B-960E-485E-B24C-90A00DCA9F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5" name="PlaceHolder 1"/>
          <p:cNvSpPr>
            <a:spLocks noGrp="1"/>
          </p:cNvSpPr>
          <p:nvPr>
            <p:ph type="sldImg"/>
          </p:nvPr>
        </p:nvSpPr>
        <p:spPr>
          <a:xfrm>
            <a:off x="985680" y="741240"/>
            <a:ext cx="4886640" cy="3665520"/>
          </a:xfrm>
          <a:prstGeom prst="rect">
            <a:avLst/>
          </a:prstGeom>
          <a:ln w="0">
            <a:noFill/>
          </a:ln>
        </p:spPr>
      </p:sp>
      <p:sp>
        <p:nvSpPr>
          <p:cNvPr id="7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18434-B909-45FA-98E1-F0810C2681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FA849-8C09-45B9-8075-8032A2E1A8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9" name="PlaceHolder 1"/>
          <p:cNvSpPr>
            <a:spLocks noGrp="1"/>
          </p:cNvSpPr>
          <p:nvPr>
            <p:ph type="sldImg"/>
          </p:nvPr>
        </p:nvSpPr>
        <p:spPr>
          <a:xfrm>
            <a:off x="985680" y="741240"/>
            <a:ext cx="4886640" cy="3665520"/>
          </a:xfrm>
          <a:prstGeom prst="rect">
            <a:avLst/>
          </a:prstGeom>
          <a:ln w="0">
            <a:noFill/>
          </a:ln>
        </p:spPr>
      </p:sp>
      <p:sp>
        <p:nvSpPr>
          <p:cNvPr id="7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047B3-0EF2-4B0E-AE0B-6DFD45C7280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D338D-4EB1-4043-9677-433947F82E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53" name="PlaceHolder 1"/>
          <p:cNvSpPr>
            <a:spLocks noGrp="1"/>
          </p:cNvSpPr>
          <p:nvPr>
            <p:ph type="sldImg"/>
          </p:nvPr>
        </p:nvSpPr>
        <p:spPr>
          <a:xfrm>
            <a:off x="985680" y="741240"/>
            <a:ext cx="4886640" cy="3665520"/>
          </a:xfrm>
          <a:prstGeom prst="rect">
            <a:avLst/>
          </a:prstGeom>
          <a:ln w="0">
            <a:noFill/>
          </a:ln>
        </p:spPr>
      </p:sp>
      <p:sp>
        <p:nvSpPr>
          <p:cNvPr id="7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996E2-B8DD-4968-8DE5-87A204AB5E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22C66-B2E1-413E-8A96-3BF58E7EFE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57" name="PlaceHolder 1"/>
          <p:cNvSpPr>
            <a:spLocks noGrp="1"/>
          </p:cNvSpPr>
          <p:nvPr>
            <p:ph type="sldImg"/>
          </p:nvPr>
        </p:nvSpPr>
        <p:spPr>
          <a:xfrm>
            <a:off x="985680" y="741240"/>
            <a:ext cx="4886640" cy="3665520"/>
          </a:xfrm>
          <a:prstGeom prst="rect">
            <a:avLst/>
          </a:prstGeom>
          <a:ln w="0">
            <a:noFill/>
          </a:ln>
        </p:spPr>
      </p:sp>
      <p:sp>
        <p:nvSpPr>
          <p:cNvPr id="7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74EBF-3BF9-443D-B47D-179CB3D8C2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16CD8-ABDB-4872-AF8B-8405332701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1" name="PlaceHolder 1"/>
          <p:cNvSpPr>
            <a:spLocks noGrp="1"/>
          </p:cNvSpPr>
          <p:nvPr>
            <p:ph type="sldImg"/>
          </p:nvPr>
        </p:nvSpPr>
        <p:spPr>
          <a:xfrm>
            <a:off x="985680" y="741240"/>
            <a:ext cx="4886640" cy="3665520"/>
          </a:xfrm>
          <a:prstGeom prst="rect">
            <a:avLst/>
          </a:prstGeom>
          <a:ln w="0">
            <a:noFill/>
          </a:ln>
        </p:spPr>
      </p:sp>
      <p:sp>
        <p:nvSpPr>
          <p:cNvPr id="7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73E05-536B-481D-9CE5-BF4702F3F6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C1DC9-D447-4FBC-AB7B-BEBA24CCE9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5" name="PlaceHolder 1"/>
          <p:cNvSpPr>
            <a:spLocks noGrp="1"/>
          </p:cNvSpPr>
          <p:nvPr>
            <p:ph type="sldImg"/>
          </p:nvPr>
        </p:nvSpPr>
        <p:spPr>
          <a:xfrm>
            <a:off x="985680" y="741240"/>
            <a:ext cx="4886640" cy="3665520"/>
          </a:xfrm>
          <a:prstGeom prst="rect">
            <a:avLst/>
          </a:prstGeom>
          <a:ln w="0">
            <a:noFill/>
          </a:ln>
        </p:spPr>
      </p:sp>
      <p:sp>
        <p:nvSpPr>
          <p:cNvPr id="7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5EFB1-D47F-4E45-BCDE-A325D9D28F2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2823D-7A02-44BF-A88E-DB6BB7C469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9" name="PlaceHolder 1"/>
          <p:cNvSpPr>
            <a:spLocks noGrp="1"/>
          </p:cNvSpPr>
          <p:nvPr>
            <p:ph type="sldImg"/>
          </p:nvPr>
        </p:nvSpPr>
        <p:spPr>
          <a:xfrm>
            <a:off x="985680" y="741240"/>
            <a:ext cx="4886640" cy="3665520"/>
          </a:xfrm>
          <a:prstGeom prst="rect">
            <a:avLst/>
          </a:prstGeom>
          <a:ln w="0">
            <a:noFill/>
          </a:ln>
        </p:spPr>
      </p:sp>
      <p:sp>
        <p:nvSpPr>
          <p:cNvPr id="7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B91E6-BE3C-4CC8-B6BF-82B3067CFC6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485C2-7B07-4AB9-B8E3-4FBDBB7B93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1" name="PlaceHolder 1"/>
          <p:cNvSpPr>
            <a:spLocks noGrp="1"/>
          </p:cNvSpPr>
          <p:nvPr>
            <p:ph type="sldImg"/>
          </p:nvPr>
        </p:nvSpPr>
        <p:spPr>
          <a:xfrm>
            <a:off x="985680" y="741240"/>
            <a:ext cx="4886640" cy="3665520"/>
          </a:xfrm>
          <a:prstGeom prst="rect">
            <a:avLst/>
          </a:prstGeom>
          <a:ln w="0">
            <a:noFill/>
          </a:ln>
        </p:spPr>
      </p:sp>
      <p:sp>
        <p:nvSpPr>
          <p:cNvPr id="75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9D60A-AA02-4D32-B54E-299A48EDCF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99637-08E7-423D-8AA1-1664732042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73" name="PlaceHolder 1"/>
          <p:cNvSpPr>
            <a:spLocks noGrp="1"/>
          </p:cNvSpPr>
          <p:nvPr>
            <p:ph type="sldImg"/>
          </p:nvPr>
        </p:nvSpPr>
        <p:spPr>
          <a:xfrm>
            <a:off x="985680" y="741240"/>
            <a:ext cx="4886640" cy="3665520"/>
          </a:xfrm>
          <a:prstGeom prst="rect">
            <a:avLst/>
          </a:prstGeom>
          <a:ln w="0">
            <a:noFill/>
          </a:ln>
        </p:spPr>
      </p:sp>
      <p:sp>
        <p:nvSpPr>
          <p:cNvPr id="7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140D6-29AC-4AC1-98E7-577F31E68CA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162A0-FB29-4A0D-94DC-B64498C9AC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77" name="PlaceHolder 1"/>
          <p:cNvSpPr>
            <a:spLocks noGrp="1"/>
          </p:cNvSpPr>
          <p:nvPr>
            <p:ph type="sldImg"/>
          </p:nvPr>
        </p:nvSpPr>
        <p:spPr>
          <a:xfrm>
            <a:off x="985680" y="741240"/>
            <a:ext cx="4886640" cy="3665520"/>
          </a:xfrm>
          <a:prstGeom prst="rect">
            <a:avLst/>
          </a:prstGeom>
          <a:ln w="0">
            <a:noFill/>
          </a:ln>
        </p:spPr>
      </p:sp>
      <p:sp>
        <p:nvSpPr>
          <p:cNvPr id="7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E8925-6E41-494B-9E80-29E12A4246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CD586-13F7-4638-91B4-038BAF22A4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81" name="PlaceHolder 1"/>
          <p:cNvSpPr>
            <a:spLocks noGrp="1"/>
          </p:cNvSpPr>
          <p:nvPr>
            <p:ph type="sldImg"/>
          </p:nvPr>
        </p:nvSpPr>
        <p:spPr>
          <a:xfrm>
            <a:off x="985680" y="741240"/>
            <a:ext cx="4886640" cy="3665520"/>
          </a:xfrm>
          <a:prstGeom prst="rect">
            <a:avLst/>
          </a:prstGeom>
          <a:ln w="0">
            <a:noFill/>
          </a:ln>
        </p:spPr>
      </p:sp>
      <p:sp>
        <p:nvSpPr>
          <p:cNvPr id="7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D8960-D29A-4D1F-BF9F-29A55C0882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84" name="PlaceHolder 1"/>
          <p:cNvSpPr>
            <a:spLocks noGrp="1"/>
          </p:cNvSpPr>
          <p:nvPr>
            <p:ph type="sldImg"/>
          </p:nvPr>
        </p:nvSpPr>
        <p:spPr>
          <a:xfrm>
            <a:off x="985680" y="733320"/>
            <a:ext cx="4886640" cy="3665520"/>
          </a:xfrm>
          <a:prstGeom prst="rect">
            <a:avLst/>
          </a:prstGeom>
          <a:ln w="0">
            <a:noFill/>
          </a:ln>
        </p:spPr>
      </p:sp>
      <p:sp>
        <p:nvSpPr>
          <p:cNvPr id="79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ADB25-7103-486A-9F2F-FD5AB7DD0B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F5AB6-1807-4A7A-8929-12EA281557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5" name="PlaceHolder 1"/>
          <p:cNvSpPr>
            <a:spLocks noGrp="1"/>
          </p:cNvSpPr>
          <p:nvPr>
            <p:ph type="sldImg"/>
          </p:nvPr>
        </p:nvSpPr>
        <p:spPr>
          <a:xfrm>
            <a:off x="985680" y="741240"/>
            <a:ext cx="4886640" cy="3665520"/>
          </a:xfrm>
          <a:prstGeom prst="rect">
            <a:avLst/>
          </a:prstGeom>
          <a:ln w="0">
            <a:noFill/>
          </a:ln>
        </p:spPr>
      </p:sp>
      <p:sp>
        <p:nvSpPr>
          <p:cNvPr id="7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8A3B8-D769-433C-A7CC-B83F69CE53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6B8F5-14FD-4795-A8CB-365278033E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9" name="PlaceHolder 1"/>
          <p:cNvSpPr>
            <a:spLocks noGrp="1"/>
          </p:cNvSpPr>
          <p:nvPr>
            <p:ph type="sldImg"/>
          </p:nvPr>
        </p:nvSpPr>
        <p:spPr>
          <a:xfrm>
            <a:off x="985680" y="741240"/>
            <a:ext cx="4886640" cy="3665520"/>
          </a:xfrm>
          <a:prstGeom prst="rect">
            <a:avLst/>
          </a:prstGeom>
          <a:ln w="0">
            <a:noFill/>
          </a:ln>
        </p:spPr>
      </p:sp>
      <p:sp>
        <p:nvSpPr>
          <p:cNvPr id="75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A1FA4-1359-43AA-9C97-B4E417635D2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ABD45-2316-4884-A0EA-A0704383A4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3" name="PlaceHolder 1"/>
          <p:cNvSpPr>
            <a:spLocks noGrp="1"/>
          </p:cNvSpPr>
          <p:nvPr>
            <p:ph type="sldImg"/>
          </p:nvPr>
        </p:nvSpPr>
        <p:spPr>
          <a:xfrm>
            <a:off x="985680" y="741240"/>
            <a:ext cx="4886640" cy="3665520"/>
          </a:xfrm>
          <a:prstGeom prst="rect">
            <a:avLst/>
          </a:prstGeom>
          <a:ln w="0">
            <a:noFill/>
          </a:ln>
        </p:spPr>
      </p:sp>
      <p:sp>
        <p:nvSpPr>
          <p:cNvPr id="75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2D904-95DE-4291-8317-49A2A4E526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C23EC-D203-4EFE-AD74-9B09AB3864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7" name="PlaceHolder 1"/>
          <p:cNvSpPr>
            <a:spLocks noGrp="1"/>
          </p:cNvSpPr>
          <p:nvPr>
            <p:ph type="sldImg"/>
          </p:nvPr>
        </p:nvSpPr>
        <p:spPr>
          <a:xfrm>
            <a:off x="985680" y="741240"/>
            <a:ext cx="4886640" cy="3665520"/>
          </a:xfrm>
          <a:prstGeom prst="rect">
            <a:avLst/>
          </a:prstGeom>
          <a:ln w="0">
            <a:noFill/>
          </a:ln>
        </p:spPr>
      </p:sp>
      <p:sp>
        <p:nvSpPr>
          <p:cNvPr id="7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EAE74-1CA3-4E0A-9DC1-F3168425B8A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40F0B-2F2A-4DB4-BE45-D59985957F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1" name="PlaceHolder 1"/>
          <p:cNvSpPr>
            <a:spLocks noGrp="1"/>
          </p:cNvSpPr>
          <p:nvPr>
            <p:ph type="sldImg"/>
          </p:nvPr>
        </p:nvSpPr>
        <p:spPr>
          <a:xfrm>
            <a:off x="985680" y="741240"/>
            <a:ext cx="4886640" cy="3665520"/>
          </a:xfrm>
          <a:prstGeom prst="rect">
            <a:avLst/>
          </a:prstGeom>
          <a:ln w="0">
            <a:noFill/>
          </a:ln>
        </p:spPr>
      </p:sp>
      <p:sp>
        <p:nvSpPr>
          <p:cNvPr id="75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68D57-2F0A-4F96-B103-8D7999F3BEB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20189-1217-444E-8B2C-764C53B4941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5" name="PlaceHolder 1"/>
          <p:cNvSpPr>
            <a:spLocks noGrp="1"/>
          </p:cNvSpPr>
          <p:nvPr>
            <p:ph type="sldImg"/>
          </p:nvPr>
        </p:nvSpPr>
        <p:spPr>
          <a:xfrm>
            <a:off x="985680" y="741240"/>
            <a:ext cx="4886640" cy="3665520"/>
          </a:xfrm>
          <a:prstGeom prst="rect">
            <a:avLst/>
          </a:prstGeom>
          <a:ln w="0">
            <a:noFill/>
          </a:ln>
        </p:spPr>
      </p:sp>
      <p:sp>
        <p:nvSpPr>
          <p:cNvPr id="75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6DC49-55C6-46FE-B423-2C17956655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F7C3D-0A8B-4988-A428-3C525ADCEF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9" name="PlaceHolder 1"/>
          <p:cNvSpPr>
            <a:spLocks noGrp="1"/>
          </p:cNvSpPr>
          <p:nvPr>
            <p:ph type="sldImg"/>
          </p:nvPr>
        </p:nvSpPr>
        <p:spPr>
          <a:xfrm>
            <a:off x="985680" y="741240"/>
            <a:ext cx="4886640" cy="3665520"/>
          </a:xfrm>
          <a:prstGeom prst="rect">
            <a:avLst/>
          </a:prstGeom>
          <a:ln w="0">
            <a:noFill/>
          </a:ln>
        </p:spPr>
      </p:sp>
      <p:sp>
        <p:nvSpPr>
          <p:cNvPr id="7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59678-96CB-4205-80D5-A516289570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7A27E-4FB6-4C9E-B0B1-5792EEF536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1" name="PlaceHolder 1"/>
          <p:cNvSpPr>
            <a:spLocks noGrp="1"/>
          </p:cNvSpPr>
          <p:nvPr>
            <p:ph type="sldImg"/>
          </p:nvPr>
        </p:nvSpPr>
        <p:spPr>
          <a:xfrm>
            <a:off x="985680" y="741240"/>
            <a:ext cx="4886640" cy="3665520"/>
          </a:xfrm>
          <a:prstGeom prst="rect">
            <a:avLst/>
          </a:prstGeom>
          <a:ln w="0">
            <a:noFill/>
          </a:ln>
        </p:spPr>
      </p:sp>
      <p:sp>
        <p:nvSpPr>
          <p:cNvPr id="7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0E67F-8CD1-45D9-A90B-6FFA51C2A3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A5115-7D0C-4570-BA8A-C752749FB9E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3" name="PlaceHolder 1"/>
          <p:cNvSpPr>
            <a:spLocks noGrp="1"/>
          </p:cNvSpPr>
          <p:nvPr>
            <p:ph type="sldImg"/>
          </p:nvPr>
        </p:nvSpPr>
        <p:spPr>
          <a:xfrm>
            <a:off x="985680" y="741240"/>
            <a:ext cx="4886640" cy="3665520"/>
          </a:xfrm>
          <a:prstGeom prst="rect">
            <a:avLst/>
          </a:prstGeom>
          <a:ln w="0">
            <a:noFill/>
          </a:ln>
        </p:spPr>
      </p:sp>
      <p:sp>
        <p:nvSpPr>
          <p:cNvPr id="75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65F70-136B-4E9E-BF2C-44613A2B7C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0693C-EDC5-4137-BAA1-F997ED0CEF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7" name="PlaceHolder 1"/>
          <p:cNvSpPr>
            <a:spLocks noGrp="1"/>
          </p:cNvSpPr>
          <p:nvPr>
            <p:ph type="sldImg"/>
          </p:nvPr>
        </p:nvSpPr>
        <p:spPr>
          <a:xfrm>
            <a:off x="985680" y="741240"/>
            <a:ext cx="4886640" cy="3665520"/>
          </a:xfrm>
          <a:prstGeom prst="rect">
            <a:avLst/>
          </a:prstGeom>
          <a:ln w="0">
            <a:noFill/>
          </a:ln>
        </p:spPr>
      </p:sp>
      <p:sp>
        <p:nvSpPr>
          <p:cNvPr id="75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ACF8A-88FD-4892-9067-ABB501F121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9E3E7-EE99-436F-90CB-47357D3E97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1" name="PlaceHolder 1"/>
          <p:cNvSpPr>
            <a:spLocks noGrp="1"/>
          </p:cNvSpPr>
          <p:nvPr>
            <p:ph type="sldImg"/>
          </p:nvPr>
        </p:nvSpPr>
        <p:spPr>
          <a:xfrm>
            <a:off x="985680" y="741240"/>
            <a:ext cx="4886640" cy="3665520"/>
          </a:xfrm>
          <a:prstGeom prst="rect">
            <a:avLst/>
          </a:prstGeom>
          <a:ln w="0">
            <a:noFill/>
          </a:ln>
        </p:spPr>
      </p:sp>
      <p:sp>
        <p:nvSpPr>
          <p:cNvPr id="7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14CE5-E7DA-425D-AF5C-B35909A162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DD3BC-E71C-4837-A2DC-8F515F7BC9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5" name="PlaceHolder 1"/>
          <p:cNvSpPr>
            <a:spLocks noGrp="1"/>
          </p:cNvSpPr>
          <p:nvPr>
            <p:ph type="sldImg"/>
          </p:nvPr>
        </p:nvSpPr>
        <p:spPr>
          <a:xfrm>
            <a:off x="985680" y="741240"/>
            <a:ext cx="4886640" cy="3665520"/>
          </a:xfrm>
          <a:prstGeom prst="rect">
            <a:avLst/>
          </a:prstGeom>
          <a:ln w="0">
            <a:noFill/>
          </a:ln>
        </p:spPr>
      </p:sp>
      <p:sp>
        <p:nvSpPr>
          <p:cNvPr id="75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250B9-BAF0-4268-8AFE-234D416CC6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77393-53E1-42EA-981C-D8D6A5687F2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9" name="PlaceHolder 1"/>
          <p:cNvSpPr>
            <a:spLocks noGrp="1"/>
          </p:cNvSpPr>
          <p:nvPr>
            <p:ph type="sldImg"/>
          </p:nvPr>
        </p:nvSpPr>
        <p:spPr>
          <a:xfrm>
            <a:off x="985680" y="741240"/>
            <a:ext cx="4886640" cy="3665520"/>
          </a:xfrm>
          <a:prstGeom prst="rect">
            <a:avLst/>
          </a:prstGeom>
          <a:ln w="0">
            <a:noFill/>
          </a:ln>
        </p:spPr>
      </p:sp>
      <p:sp>
        <p:nvSpPr>
          <p:cNvPr id="75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C4E20-93EB-493E-B113-B2509FB81B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75BCB-F49E-4546-977B-077766F8C1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3" name="PlaceHolder 1"/>
          <p:cNvSpPr>
            <a:spLocks noGrp="1"/>
          </p:cNvSpPr>
          <p:nvPr>
            <p:ph type="sldImg"/>
          </p:nvPr>
        </p:nvSpPr>
        <p:spPr>
          <a:xfrm>
            <a:off x="985680" y="741240"/>
            <a:ext cx="4886640" cy="3665520"/>
          </a:xfrm>
          <a:prstGeom prst="rect">
            <a:avLst/>
          </a:prstGeom>
          <a:ln w="0">
            <a:noFill/>
          </a:ln>
        </p:spPr>
      </p:sp>
      <p:sp>
        <p:nvSpPr>
          <p:cNvPr id="7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427D6-5343-417B-8466-0C3E170E669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60756-6C11-4B1E-AA7B-651A3898EA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7" name="PlaceHolder 1"/>
          <p:cNvSpPr>
            <a:spLocks noGrp="1"/>
          </p:cNvSpPr>
          <p:nvPr>
            <p:ph type="sldImg"/>
          </p:nvPr>
        </p:nvSpPr>
        <p:spPr>
          <a:xfrm>
            <a:off x="985680" y="741240"/>
            <a:ext cx="4886640" cy="3665520"/>
          </a:xfrm>
          <a:prstGeom prst="rect">
            <a:avLst/>
          </a:prstGeom>
          <a:ln w="0">
            <a:noFill/>
          </a:ln>
        </p:spPr>
      </p:sp>
      <p:sp>
        <p:nvSpPr>
          <p:cNvPr id="75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687CE-2D93-4840-BBFF-FD07C34A71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283BD-1004-4E5A-8426-168023C28B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1" name="PlaceHolder 1"/>
          <p:cNvSpPr>
            <a:spLocks noGrp="1"/>
          </p:cNvSpPr>
          <p:nvPr>
            <p:ph type="sldImg"/>
          </p:nvPr>
        </p:nvSpPr>
        <p:spPr>
          <a:xfrm>
            <a:off x="985680" y="741240"/>
            <a:ext cx="4886640" cy="3665520"/>
          </a:xfrm>
          <a:prstGeom prst="rect">
            <a:avLst/>
          </a:prstGeom>
          <a:ln w="0">
            <a:noFill/>
          </a:ln>
        </p:spPr>
      </p:sp>
      <p:sp>
        <p:nvSpPr>
          <p:cNvPr id="7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8C40E-FAAC-42E9-8490-49CE7751D86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35D75-B0A3-4AD5-9E1B-BE94C462AF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5" name="PlaceHolder 1"/>
          <p:cNvSpPr>
            <a:spLocks noGrp="1"/>
          </p:cNvSpPr>
          <p:nvPr>
            <p:ph type="sldImg"/>
          </p:nvPr>
        </p:nvSpPr>
        <p:spPr>
          <a:xfrm>
            <a:off x="985680" y="741240"/>
            <a:ext cx="4886640" cy="3665520"/>
          </a:xfrm>
          <a:prstGeom prst="rect">
            <a:avLst/>
          </a:prstGeom>
          <a:ln w="0">
            <a:noFill/>
          </a:ln>
        </p:spPr>
      </p:sp>
      <p:sp>
        <p:nvSpPr>
          <p:cNvPr id="7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AD87B-4F5B-41E3-B18D-91EF5AA7354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AE889-6384-4C17-B958-2E7BC30115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9" name="PlaceHolder 1"/>
          <p:cNvSpPr>
            <a:spLocks noGrp="1"/>
          </p:cNvSpPr>
          <p:nvPr>
            <p:ph type="sldImg"/>
          </p:nvPr>
        </p:nvSpPr>
        <p:spPr>
          <a:xfrm>
            <a:off x="985680" y="741240"/>
            <a:ext cx="4886640" cy="3665520"/>
          </a:xfrm>
          <a:prstGeom prst="rect">
            <a:avLst/>
          </a:prstGeom>
          <a:ln w="0">
            <a:noFill/>
          </a:ln>
        </p:spPr>
      </p:sp>
      <p:sp>
        <p:nvSpPr>
          <p:cNvPr id="7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D230F-FF2E-485E-9A87-CEBD575B61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A78E0-9F9F-4A11-A8F3-069A0AE0EE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5" name="PlaceHolder 1"/>
          <p:cNvSpPr>
            <a:spLocks noGrp="1"/>
          </p:cNvSpPr>
          <p:nvPr>
            <p:ph type="sldImg"/>
          </p:nvPr>
        </p:nvSpPr>
        <p:spPr>
          <a:xfrm>
            <a:off x="985680" y="741240"/>
            <a:ext cx="4886640" cy="3665520"/>
          </a:xfrm>
          <a:prstGeom prst="rect">
            <a:avLst/>
          </a:prstGeom>
          <a:ln w="0">
            <a:noFill/>
          </a:ln>
        </p:spPr>
      </p:sp>
      <p:sp>
        <p:nvSpPr>
          <p:cNvPr id="7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5E270-302E-4ADD-81DB-548E76F68A1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9E32B-587A-4C5D-BFD2-FCFB6F243F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3" name="PlaceHolder 1"/>
          <p:cNvSpPr>
            <a:spLocks noGrp="1"/>
          </p:cNvSpPr>
          <p:nvPr>
            <p:ph type="sldImg"/>
          </p:nvPr>
        </p:nvSpPr>
        <p:spPr>
          <a:xfrm>
            <a:off x="985680" y="741240"/>
            <a:ext cx="4886640" cy="3665520"/>
          </a:xfrm>
          <a:prstGeom prst="rect">
            <a:avLst/>
          </a:prstGeom>
          <a:ln w="0">
            <a:noFill/>
          </a:ln>
        </p:spPr>
      </p:sp>
      <p:sp>
        <p:nvSpPr>
          <p:cNvPr id="7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34DD8-2C29-41C3-A81E-96EC08B4C1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12836-E5F9-4854-9519-6C6306096C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7" name="PlaceHolder 1"/>
          <p:cNvSpPr>
            <a:spLocks noGrp="1"/>
          </p:cNvSpPr>
          <p:nvPr>
            <p:ph type="sldImg"/>
          </p:nvPr>
        </p:nvSpPr>
        <p:spPr>
          <a:xfrm>
            <a:off x="985680" y="741240"/>
            <a:ext cx="4886640" cy="3665520"/>
          </a:xfrm>
          <a:prstGeom prst="rect">
            <a:avLst/>
          </a:prstGeom>
          <a:ln w="0">
            <a:noFill/>
          </a:ln>
        </p:spPr>
      </p:sp>
      <p:sp>
        <p:nvSpPr>
          <p:cNvPr id="7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1E41C-739E-43CA-9F4C-1772C6B6AF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708DF-CB9A-455D-9D45-69D1D17427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1" name="PlaceHolder 1"/>
          <p:cNvSpPr>
            <a:spLocks noGrp="1"/>
          </p:cNvSpPr>
          <p:nvPr>
            <p:ph type="sldImg"/>
          </p:nvPr>
        </p:nvSpPr>
        <p:spPr>
          <a:xfrm>
            <a:off x="985680" y="741240"/>
            <a:ext cx="4886640" cy="3665520"/>
          </a:xfrm>
          <a:prstGeom prst="rect">
            <a:avLst/>
          </a:prstGeom>
          <a:ln w="0">
            <a:noFill/>
          </a:ln>
        </p:spPr>
      </p:sp>
      <p:sp>
        <p:nvSpPr>
          <p:cNvPr id="7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92254-5B87-495F-89CF-DD264649E1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4977A-FB23-498B-B3A2-D64D4C34BE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5" name="PlaceHolder 1"/>
          <p:cNvSpPr>
            <a:spLocks noGrp="1"/>
          </p:cNvSpPr>
          <p:nvPr>
            <p:ph type="sldImg"/>
          </p:nvPr>
        </p:nvSpPr>
        <p:spPr>
          <a:xfrm>
            <a:off x="985680" y="741240"/>
            <a:ext cx="4886640" cy="3665520"/>
          </a:xfrm>
          <a:prstGeom prst="rect">
            <a:avLst/>
          </a:prstGeom>
          <a:ln w="0">
            <a:noFill/>
          </a:ln>
        </p:spPr>
      </p:sp>
      <p:sp>
        <p:nvSpPr>
          <p:cNvPr id="7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99BB6-9FBB-40F6-BA77-E89DEE2E31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7477C-1786-4CE7-9A5A-91A7033E8A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9" name="PlaceHolder 1"/>
          <p:cNvSpPr>
            <a:spLocks noGrp="1"/>
          </p:cNvSpPr>
          <p:nvPr>
            <p:ph type="sldImg"/>
          </p:nvPr>
        </p:nvSpPr>
        <p:spPr>
          <a:xfrm>
            <a:off x="985680" y="741240"/>
            <a:ext cx="4886640" cy="3665520"/>
          </a:xfrm>
          <a:prstGeom prst="rect">
            <a:avLst/>
          </a:prstGeom>
          <a:ln w="0">
            <a:noFill/>
          </a:ln>
        </p:spPr>
      </p:sp>
      <p:sp>
        <p:nvSpPr>
          <p:cNvPr id="7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01ADA-F928-489A-A3D8-C05A7D8479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41EFB-83AE-4759-98B5-90566AC757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3" name="PlaceHolder 1"/>
          <p:cNvSpPr>
            <a:spLocks noGrp="1"/>
          </p:cNvSpPr>
          <p:nvPr>
            <p:ph type="sldImg"/>
          </p:nvPr>
        </p:nvSpPr>
        <p:spPr>
          <a:xfrm>
            <a:off x="985680" y="741240"/>
            <a:ext cx="4886640" cy="3665520"/>
          </a:xfrm>
          <a:prstGeom prst="rect">
            <a:avLst/>
          </a:prstGeom>
          <a:ln w="0">
            <a:noFill/>
          </a:ln>
        </p:spPr>
      </p:sp>
      <p:sp>
        <p:nvSpPr>
          <p:cNvPr id="7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87518-B36C-4700-9CA7-FBEC1EAE23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305CA-4A49-499A-93A5-3F4FA625C1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7" name="PlaceHolder 1"/>
          <p:cNvSpPr>
            <a:spLocks noGrp="1"/>
          </p:cNvSpPr>
          <p:nvPr>
            <p:ph type="sldImg"/>
          </p:nvPr>
        </p:nvSpPr>
        <p:spPr>
          <a:xfrm>
            <a:off x="985680" y="741240"/>
            <a:ext cx="4886640" cy="3665520"/>
          </a:xfrm>
          <a:prstGeom prst="rect">
            <a:avLst/>
          </a:prstGeom>
          <a:ln w="0">
            <a:noFill/>
          </a:ln>
        </p:spPr>
      </p:sp>
      <p:sp>
        <p:nvSpPr>
          <p:cNvPr id="7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79060-C432-4287-A178-987C5D7540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A67A6-9407-42AE-8297-D67141AD25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1" name="PlaceHolder 1"/>
          <p:cNvSpPr>
            <a:spLocks noGrp="1"/>
          </p:cNvSpPr>
          <p:nvPr>
            <p:ph type="sldImg"/>
          </p:nvPr>
        </p:nvSpPr>
        <p:spPr>
          <a:xfrm>
            <a:off x="985680" y="741240"/>
            <a:ext cx="4886640" cy="3665520"/>
          </a:xfrm>
          <a:prstGeom prst="rect">
            <a:avLst/>
          </a:prstGeom>
          <a:ln w="0">
            <a:noFill/>
          </a:ln>
        </p:spPr>
      </p:sp>
      <p:sp>
        <p:nvSpPr>
          <p:cNvPr id="7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19CDD-974F-47FC-9FD1-91D72AEAE9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D8EA6-BA62-4A74-A58B-65C3FFDE1A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5" name="PlaceHolder 1"/>
          <p:cNvSpPr>
            <a:spLocks noGrp="1"/>
          </p:cNvSpPr>
          <p:nvPr>
            <p:ph type="sldImg"/>
          </p:nvPr>
        </p:nvSpPr>
        <p:spPr>
          <a:xfrm>
            <a:off x="985680" y="741240"/>
            <a:ext cx="4886640" cy="3665520"/>
          </a:xfrm>
          <a:prstGeom prst="rect">
            <a:avLst/>
          </a:prstGeom>
          <a:ln w="0">
            <a:noFill/>
          </a:ln>
        </p:spPr>
      </p:sp>
      <p:sp>
        <p:nvSpPr>
          <p:cNvPr id="7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42609-D923-440E-AC5C-E714CEE05A1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806B6-6C0E-46EB-9C86-1E77FFBA66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9" name="PlaceHolder 1"/>
          <p:cNvSpPr>
            <a:spLocks noGrp="1"/>
          </p:cNvSpPr>
          <p:nvPr>
            <p:ph type="sldImg"/>
          </p:nvPr>
        </p:nvSpPr>
        <p:spPr>
          <a:xfrm>
            <a:off x="985680" y="741240"/>
            <a:ext cx="4886640" cy="3665520"/>
          </a:xfrm>
          <a:prstGeom prst="rect">
            <a:avLst/>
          </a:prstGeom>
          <a:ln w="0">
            <a:noFill/>
          </a:ln>
        </p:spPr>
      </p:sp>
      <p:sp>
        <p:nvSpPr>
          <p:cNvPr id="7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47A1E-0E07-4D68-804C-E854B919EC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522A7-87DD-4E8E-B1E0-290E3E569E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9" name="PlaceHolder 1"/>
          <p:cNvSpPr>
            <a:spLocks noGrp="1"/>
          </p:cNvSpPr>
          <p:nvPr>
            <p:ph type="sldImg"/>
          </p:nvPr>
        </p:nvSpPr>
        <p:spPr>
          <a:xfrm>
            <a:off x="985680" y="741240"/>
            <a:ext cx="4886640" cy="3665520"/>
          </a:xfrm>
          <a:prstGeom prst="rect">
            <a:avLst/>
          </a:prstGeom>
          <a:ln w="0">
            <a:noFill/>
          </a:ln>
        </p:spPr>
      </p:sp>
      <p:sp>
        <p:nvSpPr>
          <p:cNvPr id="7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0D2CD-8B20-45A8-9DBD-72B467C7C93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9B44C-F065-4B31-9FBE-678A9EBB0B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3" name="PlaceHolder 1"/>
          <p:cNvSpPr>
            <a:spLocks noGrp="1"/>
          </p:cNvSpPr>
          <p:nvPr>
            <p:ph type="sldImg"/>
          </p:nvPr>
        </p:nvSpPr>
        <p:spPr>
          <a:xfrm>
            <a:off x="985680" y="741240"/>
            <a:ext cx="4886640" cy="3665520"/>
          </a:xfrm>
          <a:prstGeom prst="rect">
            <a:avLst/>
          </a:prstGeom>
          <a:ln w="0">
            <a:noFill/>
          </a:ln>
        </p:spPr>
      </p:sp>
      <p:sp>
        <p:nvSpPr>
          <p:cNvPr id="7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E7705-5438-4A06-9DDD-9C3CCDBC5FB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504DF-D22A-4C64-B1E3-721ED13C99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7" name="PlaceHolder 1"/>
          <p:cNvSpPr>
            <a:spLocks noGrp="1"/>
          </p:cNvSpPr>
          <p:nvPr>
            <p:ph type="sldImg"/>
          </p:nvPr>
        </p:nvSpPr>
        <p:spPr>
          <a:xfrm>
            <a:off x="985680" y="741240"/>
            <a:ext cx="4886640" cy="3665520"/>
          </a:xfrm>
          <a:prstGeom prst="rect">
            <a:avLst/>
          </a:prstGeom>
          <a:ln w="0">
            <a:noFill/>
          </a:ln>
        </p:spPr>
      </p:sp>
      <p:sp>
        <p:nvSpPr>
          <p:cNvPr id="7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EB450-8A84-4842-B5BF-86676DC353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50D16-0D6D-430E-832B-5A2CFF7840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1" name="PlaceHolder 1"/>
          <p:cNvSpPr>
            <a:spLocks noGrp="1"/>
          </p:cNvSpPr>
          <p:nvPr>
            <p:ph type="sldImg"/>
          </p:nvPr>
        </p:nvSpPr>
        <p:spPr>
          <a:xfrm>
            <a:off x="985680" y="741240"/>
            <a:ext cx="4886640" cy="3665520"/>
          </a:xfrm>
          <a:prstGeom prst="rect">
            <a:avLst/>
          </a:prstGeom>
          <a:ln w="0">
            <a:noFill/>
          </a:ln>
        </p:spPr>
      </p:sp>
      <p:sp>
        <p:nvSpPr>
          <p:cNvPr id="7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CAF42-AC24-4C66-BD02-BC482C34C5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FF7FF-3D7C-4B51-A9DA-E17798365A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5" name="PlaceHolder 1"/>
          <p:cNvSpPr>
            <a:spLocks noGrp="1"/>
          </p:cNvSpPr>
          <p:nvPr>
            <p:ph type="sldImg"/>
          </p:nvPr>
        </p:nvSpPr>
        <p:spPr>
          <a:xfrm>
            <a:off x="985680" y="741240"/>
            <a:ext cx="4886640" cy="3665520"/>
          </a:xfrm>
          <a:prstGeom prst="rect">
            <a:avLst/>
          </a:prstGeom>
          <a:ln w="0">
            <a:noFill/>
          </a:ln>
        </p:spPr>
      </p:sp>
      <p:sp>
        <p:nvSpPr>
          <p:cNvPr id="7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082D2-234F-4D84-AC7B-A40DA44D81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9BE79-FA57-4C59-873A-4DFC11BE71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9" name="PlaceHolder 1"/>
          <p:cNvSpPr>
            <a:spLocks noGrp="1"/>
          </p:cNvSpPr>
          <p:nvPr>
            <p:ph type="sldImg"/>
          </p:nvPr>
        </p:nvSpPr>
        <p:spPr>
          <a:xfrm>
            <a:off x="985680" y="741240"/>
            <a:ext cx="4886640" cy="3665520"/>
          </a:xfrm>
          <a:prstGeom prst="rect">
            <a:avLst/>
          </a:prstGeom>
          <a:ln w="0">
            <a:noFill/>
          </a:ln>
        </p:spPr>
      </p:sp>
      <p:sp>
        <p:nvSpPr>
          <p:cNvPr id="7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F7966-E83B-40F6-977D-7C26FA2188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E2632-E04D-4013-BAD2-424FC5F1552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3" name="PlaceHolder 1"/>
          <p:cNvSpPr>
            <a:spLocks noGrp="1"/>
          </p:cNvSpPr>
          <p:nvPr>
            <p:ph type="sldImg"/>
          </p:nvPr>
        </p:nvSpPr>
        <p:spPr>
          <a:xfrm>
            <a:off x="985680" y="741240"/>
            <a:ext cx="4886640" cy="3665520"/>
          </a:xfrm>
          <a:prstGeom prst="rect">
            <a:avLst/>
          </a:prstGeom>
          <a:ln w="0">
            <a:noFill/>
          </a:ln>
        </p:spPr>
      </p:sp>
      <p:sp>
        <p:nvSpPr>
          <p:cNvPr id="7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CC392-B5CE-4BEE-8672-425809A332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D7B91-EBF4-4422-BCB0-887113BD05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7" name="PlaceHolder 1"/>
          <p:cNvSpPr>
            <a:spLocks noGrp="1"/>
          </p:cNvSpPr>
          <p:nvPr>
            <p:ph type="sldImg"/>
          </p:nvPr>
        </p:nvSpPr>
        <p:spPr>
          <a:xfrm>
            <a:off x="985680" y="741240"/>
            <a:ext cx="4886640" cy="3665520"/>
          </a:xfrm>
          <a:prstGeom prst="rect">
            <a:avLst/>
          </a:prstGeom>
          <a:ln w="0">
            <a:noFill/>
          </a:ln>
        </p:spPr>
      </p:sp>
      <p:sp>
        <p:nvSpPr>
          <p:cNvPr id="7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42ADB-2B17-4D1D-A577-34D62199F3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27467-1A68-4031-9E6D-537F10419A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1" name="PlaceHolder 1"/>
          <p:cNvSpPr>
            <a:spLocks noGrp="1"/>
          </p:cNvSpPr>
          <p:nvPr>
            <p:ph type="sldImg"/>
          </p:nvPr>
        </p:nvSpPr>
        <p:spPr>
          <a:xfrm>
            <a:off x="985680" y="741240"/>
            <a:ext cx="4886640" cy="3665520"/>
          </a:xfrm>
          <a:prstGeom prst="rect">
            <a:avLst/>
          </a:prstGeom>
          <a:ln w="0">
            <a:noFill/>
          </a:ln>
        </p:spPr>
      </p:sp>
      <p:sp>
        <p:nvSpPr>
          <p:cNvPr id="7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0F8B7-786C-4186-9A01-987611551AB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C0B30-5FA6-43AC-87D7-7C79B99276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5" name="PlaceHolder 1"/>
          <p:cNvSpPr>
            <a:spLocks noGrp="1"/>
          </p:cNvSpPr>
          <p:nvPr>
            <p:ph type="sldImg"/>
          </p:nvPr>
        </p:nvSpPr>
        <p:spPr>
          <a:xfrm>
            <a:off x="985680" y="741240"/>
            <a:ext cx="4886640" cy="3665520"/>
          </a:xfrm>
          <a:prstGeom prst="rect">
            <a:avLst/>
          </a:prstGeom>
          <a:ln w="0">
            <a:noFill/>
          </a:ln>
        </p:spPr>
      </p:sp>
      <p:sp>
        <p:nvSpPr>
          <p:cNvPr id="7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4018B-F4C2-4AF9-A934-CE26717916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CCBCD-0F1B-4907-9220-9EA2CF5CF4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9" name="PlaceHolder 1"/>
          <p:cNvSpPr>
            <a:spLocks noGrp="1"/>
          </p:cNvSpPr>
          <p:nvPr>
            <p:ph type="sldImg"/>
          </p:nvPr>
        </p:nvSpPr>
        <p:spPr>
          <a:xfrm>
            <a:off x="985680" y="741240"/>
            <a:ext cx="4886640" cy="3665520"/>
          </a:xfrm>
          <a:prstGeom prst="rect">
            <a:avLst/>
          </a:prstGeom>
          <a:ln w="0">
            <a:noFill/>
          </a:ln>
        </p:spPr>
      </p:sp>
      <p:sp>
        <p:nvSpPr>
          <p:cNvPr id="7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77238-FDCB-4C1A-87E1-55FCB89110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7C16A-2366-475E-A701-8306A7D011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3" name="PlaceHolder 1"/>
          <p:cNvSpPr>
            <a:spLocks noGrp="1"/>
          </p:cNvSpPr>
          <p:nvPr>
            <p:ph type="sldImg"/>
          </p:nvPr>
        </p:nvSpPr>
        <p:spPr>
          <a:xfrm>
            <a:off x="985680" y="741240"/>
            <a:ext cx="4886640" cy="3665520"/>
          </a:xfrm>
          <a:prstGeom prst="rect">
            <a:avLst/>
          </a:prstGeom>
          <a:ln w="0">
            <a:noFill/>
          </a:ln>
        </p:spPr>
      </p:sp>
      <p:sp>
        <p:nvSpPr>
          <p:cNvPr id="7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B5F51-4D4B-4575-BC20-EB912871630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A3025-93B6-4C08-AE7F-F8CFDFB8A9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3" name="PlaceHolder 1"/>
          <p:cNvSpPr>
            <a:spLocks noGrp="1"/>
          </p:cNvSpPr>
          <p:nvPr>
            <p:ph type="sldImg"/>
          </p:nvPr>
        </p:nvSpPr>
        <p:spPr>
          <a:xfrm>
            <a:off x="985680" y="741240"/>
            <a:ext cx="4886640" cy="3665520"/>
          </a:xfrm>
          <a:prstGeom prst="rect">
            <a:avLst/>
          </a:prstGeom>
          <a:ln w="0">
            <a:noFill/>
          </a:ln>
        </p:spPr>
      </p:sp>
      <p:sp>
        <p:nvSpPr>
          <p:cNvPr id="7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5BB13-E96E-41A5-BC86-474E2A854D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E84B9-87B2-4854-BB86-9542C6A2BD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7" name="PlaceHolder 1"/>
          <p:cNvSpPr>
            <a:spLocks noGrp="1"/>
          </p:cNvSpPr>
          <p:nvPr>
            <p:ph type="sldImg"/>
          </p:nvPr>
        </p:nvSpPr>
        <p:spPr>
          <a:xfrm>
            <a:off x="985680" y="741240"/>
            <a:ext cx="4886640" cy="3665520"/>
          </a:xfrm>
          <a:prstGeom prst="rect">
            <a:avLst/>
          </a:prstGeom>
          <a:ln w="0">
            <a:noFill/>
          </a:ln>
        </p:spPr>
      </p:sp>
      <p:sp>
        <p:nvSpPr>
          <p:cNvPr id="7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A600B-377F-4730-A522-471E62D110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8316F-A20D-46C8-A844-5D2A4C4A58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1" name="PlaceHolder 1"/>
          <p:cNvSpPr>
            <a:spLocks noGrp="1"/>
          </p:cNvSpPr>
          <p:nvPr>
            <p:ph type="sldImg"/>
          </p:nvPr>
        </p:nvSpPr>
        <p:spPr>
          <a:xfrm>
            <a:off x="985680" y="741240"/>
            <a:ext cx="4886640" cy="3665520"/>
          </a:xfrm>
          <a:prstGeom prst="rect">
            <a:avLst/>
          </a:prstGeom>
          <a:ln w="0">
            <a:noFill/>
          </a:ln>
        </p:spPr>
      </p:sp>
      <p:sp>
        <p:nvSpPr>
          <p:cNvPr id="7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F398D-51B0-40D8-9193-2769380A4D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657E8-C75C-4895-B15E-BAFF4C619F4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5" name="PlaceHolder 1"/>
          <p:cNvSpPr>
            <a:spLocks noGrp="1"/>
          </p:cNvSpPr>
          <p:nvPr>
            <p:ph type="sldImg"/>
          </p:nvPr>
        </p:nvSpPr>
        <p:spPr>
          <a:xfrm>
            <a:off x="985680" y="741240"/>
            <a:ext cx="4886640" cy="3665520"/>
          </a:xfrm>
          <a:prstGeom prst="rect">
            <a:avLst/>
          </a:prstGeom>
          <a:ln w="0">
            <a:noFill/>
          </a:ln>
        </p:spPr>
      </p:sp>
      <p:sp>
        <p:nvSpPr>
          <p:cNvPr id="7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55233-90EF-477C-813A-5D0684D0DE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C13E3-0A6C-4C37-95EC-B225CA7DE8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9" name="PlaceHolder 1"/>
          <p:cNvSpPr>
            <a:spLocks noGrp="1"/>
          </p:cNvSpPr>
          <p:nvPr>
            <p:ph type="sldImg"/>
          </p:nvPr>
        </p:nvSpPr>
        <p:spPr>
          <a:xfrm>
            <a:off x="985680" y="741240"/>
            <a:ext cx="4886640" cy="3665520"/>
          </a:xfrm>
          <a:prstGeom prst="rect">
            <a:avLst/>
          </a:prstGeom>
          <a:ln w="0">
            <a:noFill/>
          </a:ln>
        </p:spPr>
      </p:sp>
      <p:sp>
        <p:nvSpPr>
          <p:cNvPr id="7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D4483-A42C-4E0A-9F4C-8FDCB6D899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FEBA5-0389-4490-BCB0-5C74641241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3" name="PlaceHolder 1"/>
          <p:cNvSpPr>
            <a:spLocks noGrp="1"/>
          </p:cNvSpPr>
          <p:nvPr>
            <p:ph type="sldImg"/>
          </p:nvPr>
        </p:nvSpPr>
        <p:spPr>
          <a:xfrm>
            <a:off x="985680" y="741240"/>
            <a:ext cx="4886640" cy="3665520"/>
          </a:xfrm>
          <a:prstGeom prst="rect">
            <a:avLst/>
          </a:prstGeom>
          <a:ln w="0">
            <a:noFill/>
          </a:ln>
        </p:spPr>
      </p:sp>
      <p:sp>
        <p:nvSpPr>
          <p:cNvPr id="7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A3E21-0F55-4682-9827-D735CA7700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0EE31-9B51-4141-B381-5428CD98A7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7" name="PlaceHolder 1"/>
          <p:cNvSpPr>
            <a:spLocks noGrp="1"/>
          </p:cNvSpPr>
          <p:nvPr>
            <p:ph type="sldImg"/>
          </p:nvPr>
        </p:nvSpPr>
        <p:spPr>
          <a:xfrm>
            <a:off x="985680" y="741240"/>
            <a:ext cx="4886640" cy="3665520"/>
          </a:xfrm>
          <a:prstGeom prst="rect">
            <a:avLst/>
          </a:prstGeom>
          <a:ln w="0">
            <a:noFill/>
          </a:ln>
        </p:spPr>
      </p:sp>
      <p:sp>
        <p:nvSpPr>
          <p:cNvPr id="7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9FE63-ED6C-470E-AF9E-3DE9BC19C7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74369-3F91-42C7-9360-F48494A3CA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1" name="PlaceHolder 1"/>
          <p:cNvSpPr>
            <a:spLocks noGrp="1"/>
          </p:cNvSpPr>
          <p:nvPr>
            <p:ph type="sldImg"/>
          </p:nvPr>
        </p:nvSpPr>
        <p:spPr>
          <a:xfrm>
            <a:off x="985680" y="741240"/>
            <a:ext cx="4886640" cy="3665520"/>
          </a:xfrm>
          <a:prstGeom prst="rect">
            <a:avLst/>
          </a:prstGeom>
          <a:ln w="0">
            <a:noFill/>
          </a:ln>
        </p:spPr>
      </p:sp>
      <p:sp>
        <p:nvSpPr>
          <p:cNvPr id="7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C19DE-C57F-4951-970F-70B1D745B44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980E3-784B-49EA-A229-05FF51AAA1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5" name="PlaceHolder 1"/>
          <p:cNvSpPr>
            <a:spLocks noGrp="1"/>
          </p:cNvSpPr>
          <p:nvPr>
            <p:ph type="sldImg"/>
          </p:nvPr>
        </p:nvSpPr>
        <p:spPr>
          <a:xfrm>
            <a:off x="985680" y="741240"/>
            <a:ext cx="4886640" cy="3665520"/>
          </a:xfrm>
          <a:prstGeom prst="rect">
            <a:avLst/>
          </a:prstGeom>
          <a:ln w="0">
            <a:noFill/>
          </a:ln>
        </p:spPr>
      </p:sp>
      <p:sp>
        <p:nvSpPr>
          <p:cNvPr id="7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3E78C-B76B-4BD0-8DFA-625F773AB4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C8421-2687-4F77-B602-6F4B968FFF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9" name="PlaceHolder 1"/>
          <p:cNvSpPr>
            <a:spLocks noGrp="1"/>
          </p:cNvSpPr>
          <p:nvPr>
            <p:ph type="sldImg"/>
          </p:nvPr>
        </p:nvSpPr>
        <p:spPr>
          <a:xfrm>
            <a:off x="985680" y="741240"/>
            <a:ext cx="4886640" cy="3665520"/>
          </a:xfrm>
          <a:prstGeom prst="rect">
            <a:avLst/>
          </a:prstGeom>
          <a:ln w="0">
            <a:noFill/>
          </a:ln>
        </p:spPr>
      </p:sp>
      <p:sp>
        <p:nvSpPr>
          <p:cNvPr id="7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B389F-A2A9-453C-9094-AA7CB8192F7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F362F-DC10-4E2E-AC74-65D8D6505C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7" name="PlaceHolder 1"/>
          <p:cNvSpPr>
            <a:spLocks noGrp="1"/>
          </p:cNvSpPr>
          <p:nvPr>
            <p:ph type="sldImg"/>
          </p:nvPr>
        </p:nvSpPr>
        <p:spPr>
          <a:xfrm>
            <a:off x="985680" y="741240"/>
            <a:ext cx="4886640" cy="3665520"/>
          </a:xfrm>
          <a:prstGeom prst="rect">
            <a:avLst/>
          </a:prstGeom>
          <a:ln w="0">
            <a:noFill/>
          </a:ln>
        </p:spPr>
      </p:sp>
      <p:sp>
        <p:nvSpPr>
          <p:cNvPr id="75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DDD6D-9D4F-4C2B-B595-C739BA40CF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F3AA7-795A-44BA-A6E3-C920F786C4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3" name="PlaceHolder 1"/>
          <p:cNvSpPr>
            <a:spLocks noGrp="1"/>
          </p:cNvSpPr>
          <p:nvPr>
            <p:ph type="sldImg"/>
          </p:nvPr>
        </p:nvSpPr>
        <p:spPr>
          <a:xfrm>
            <a:off x="985680" y="741240"/>
            <a:ext cx="4886640" cy="3665520"/>
          </a:xfrm>
          <a:prstGeom prst="rect">
            <a:avLst/>
          </a:prstGeom>
          <a:ln w="0">
            <a:noFill/>
          </a:ln>
        </p:spPr>
      </p:sp>
      <p:sp>
        <p:nvSpPr>
          <p:cNvPr id="7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9840F-C8A4-44AB-9F0F-263928CC85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0F4C4-A516-4553-9D80-8370B5FCB6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7" name="PlaceHolder 1"/>
          <p:cNvSpPr>
            <a:spLocks noGrp="1"/>
          </p:cNvSpPr>
          <p:nvPr>
            <p:ph type="sldImg"/>
          </p:nvPr>
        </p:nvSpPr>
        <p:spPr>
          <a:xfrm>
            <a:off x="985680" y="741240"/>
            <a:ext cx="4886640" cy="3665520"/>
          </a:xfrm>
          <a:prstGeom prst="rect">
            <a:avLst/>
          </a:prstGeom>
          <a:ln w="0">
            <a:noFill/>
          </a:ln>
        </p:spPr>
      </p:sp>
      <p:sp>
        <p:nvSpPr>
          <p:cNvPr id="7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DA088-2579-47FC-8882-0258B2826B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A60EE-E3A4-4928-A2F7-76B4F555D9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1" name="PlaceHolder 1"/>
          <p:cNvSpPr>
            <a:spLocks noGrp="1"/>
          </p:cNvSpPr>
          <p:nvPr>
            <p:ph type="sldImg"/>
          </p:nvPr>
        </p:nvSpPr>
        <p:spPr>
          <a:xfrm>
            <a:off x="985680" y="741240"/>
            <a:ext cx="4886640" cy="3665520"/>
          </a:xfrm>
          <a:prstGeom prst="rect">
            <a:avLst/>
          </a:prstGeom>
          <a:ln w="0">
            <a:noFill/>
          </a:ln>
        </p:spPr>
      </p:sp>
      <p:sp>
        <p:nvSpPr>
          <p:cNvPr id="7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9EA10-ADC1-4CAA-96B1-8DE2AECC1E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0DC2B-D9EE-47CC-9CAA-DC0E2BF30A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5" name="PlaceHolder 1"/>
          <p:cNvSpPr>
            <a:spLocks noGrp="1"/>
          </p:cNvSpPr>
          <p:nvPr>
            <p:ph type="sldImg"/>
          </p:nvPr>
        </p:nvSpPr>
        <p:spPr>
          <a:xfrm>
            <a:off x="985680" y="741240"/>
            <a:ext cx="4886640" cy="3665520"/>
          </a:xfrm>
          <a:prstGeom prst="rect">
            <a:avLst/>
          </a:prstGeom>
          <a:ln w="0">
            <a:noFill/>
          </a:ln>
        </p:spPr>
      </p:sp>
      <p:sp>
        <p:nvSpPr>
          <p:cNvPr id="7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27564-DCC0-4728-AA62-DE5C124218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FA2DC-8ED7-484C-973D-2DFC1D3A11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9" name="PlaceHolder 1"/>
          <p:cNvSpPr>
            <a:spLocks noGrp="1"/>
          </p:cNvSpPr>
          <p:nvPr>
            <p:ph type="sldImg"/>
          </p:nvPr>
        </p:nvSpPr>
        <p:spPr>
          <a:xfrm>
            <a:off x="985680" y="741240"/>
            <a:ext cx="4886640" cy="3665520"/>
          </a:xfrm>
          <a:prstGeom prst="rect">
            <a:avLst/>
          </a:prstGeom>
          <a:ln w="0">
            <a:noFill/>
          </a:ln>
        </p:spPr>
      </p:sp>
      <p:sp>
        <p:nvSpPr>
          <p:cNvPr id="7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2E982-B7E3-4BD1-AB2E-1F7DFCBF4D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147F8-2249-47E5-9467-08DE98CF1A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3" name="PlaceHolder 1"/>
          <p:cNvSpPr>
            <a:spLocks noGrp="1"/>
          </p:cNvSpPr>
          <p:nvPr>
            <p:ph type="sldImg"/>
          </p:nvPr>
        </p:nvSpPr>
        <p:spPr>
          <a:xfrm>
            <a:off x="985680" y="741240"/>
            <a:ext cx="4886640" cy="3665520"/>
          </a:xfrm>
          <a:prstGeom prst="rect">
            <a:avLst/>
          </a:prstGeom>
          <a:ln w="0">
            <a:noFill/>
          </a:ln>
        </p:spPr>
      </p:sp>
      <p:sp>
        <p:nvSpPr>
          <p:cNvPr id="7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A42C3-8D8D-457C-AEB9-8B98C8C63D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61654-9FF0-40B4-8303-956D275534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7" name="PlaceHolder 1"/>
          <p:cNvSpPr>
            <a:spLocks noGrp="1"/>
          </p:cNvSpPr>
          <p:nvPr>
            <p:ph type="sldImg"/>
          </p:nvPr>
        </p:nvSpPr>
        <p:spPr>
          <a:xfrm>
            <a:off x="985680" y="741240"/>
            <a:ext cx="4886640" cy="3665520"/>
          </a:xfrm>
          <a:prstGeom prst="rect">
            <a:avLst/>
          </a:prstGeom>
          <a:ln w="0">
            <a:noFill/>
          </a:ln>
        </p:spPr>
      </p:sp>
      <p:sp>
        <p:nvSpPr>
          <p:cNvPr id="7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DC760-CD6E-42B5-8D2E-013138D407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09C34-104E-48F6-81FE-895F4E2DC2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1" name="PlaceHolder 1"/>
          <p:cNvSpPr>
            <a:spLocks noGrp="1"/>
          </p:cNvSpPr>
          <p:nvPr>
            <p:ph type="sldImg"/>
          </p:nvPr>
        </p:nvSpPr>
        <p:spPr>
          <a:xfrm>
            <a:off x="985680" y="741240"/>
            <a:ext cx="4886640" cy="3665520"/>
          </a:xfrm>
          <a:prstGeom prst="rect">
            <a:avLst/>
          </a:prstGeom>
          <a:ln w="0">
            <a:noFill/>
          </a:ln>
        </p:spPr>
      </p:sp>
      <p:sp>
        <p:nvSpPr>
          <p:cNvPr id="7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B8D9C-83CD-4EBD-AEFD-FFB815C2C6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CB293-C0A0-47EF-9B16-7E54C91B14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5" name="PlaceHolder 1"/>
          <p:cNvSpPr>
            <a:spLocks noGrp="1"/>
          </p:cNvSpPr>
          <p:nvPr>
            <p:ph type="sldImg"/>
          </p:nvPr>
        </p:nvSpPr>
        <p:spPr>
          <a:xfrm>
            <a:off x="985680" y="741240"/>
            <a:ext cx="4886640" cy="3665520"/>
          </a:xfrm>
          <a:prstGeom prst="rect">
            <a:avLst/>
          </a:prstGeom>
          <a:ln w="0">
            <a:noFill/>
          </a:ln>
        </p:spPr>
      </p:sp>
      <p:sp>
        <p:nvSpPr>
          <p:cNvPr id="7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3EF7A-EDC2-46C7-AD80-27F03C1726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AB1FD-2F47-46A8-858E-65B384C7CE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9" name="PlaceHolder 1"/>
          <p:cNvSpPr>
            <a:spLocks noGrp="1"/>
          </p:cNvSpPr>
          <p:nvPr>
            <p:ph type="sldImg"/>
          </p:nvPr>
        </p:nvSpPr>
        <p:spPr>
          <a:xfrm>
            <a:off x="985680" y="741240"/>
            <a:ext cx="4886640" cy="3665520"/>
          </a:xfrm>
          <a:prstGeom prst="rect">
            <a:avLst/>
          </a:prstGeom>
          <a:ln w="0">
            <a:noFill/>
          </a:ln>
        </p:spPr>
      </p:sp>
      <p:sp>
        <p:nvSpPr>
          <p:cNvPr id="7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11A3C-DA73-4EEB-9D57-0D0FCAE8F1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AA5BE-45CB-4E03-A747-23B1DB39D4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1" name="PlaceHolder 1"/>
          <p:cNvSpPr>
            <a:spLocks noGrp="1"/>
          </p:cNvSpPr>
          <p:nvPr>
            <p:ph type="sldImg"/>
          </p:nvPr>
        </p:nvSpPr>
        <p:spPr>
          <a:xfrm>
            <a:off x="985680" y="741240"/>
            <a:ext cx="4886640" cy="3665520"/>
          </a:xfrm>
          <a:prstGeom prst="rect">
            <a:avLst/>
          </a:prstGeom>
          <a:ln w="0">
            <a:noFill/>
          </a:ln>
        </p:spPr>
      </p:sp>
      <p:sp>
        <p:nvSpPr>
          <p:cNvPr id="7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5E0CC-CE24-4FA6-8DE6-97C9DBCFB4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2410E-5D64-4156-8AC4-E8C487EB6E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3" name="PlaceHolder 1"/>
          <p:cNvSpPr>
            <a:spLocks noGrp="1"/>
          </p:cNvSpPr>
          <p:nvPr>
            <p:ph type="sldImg"/>
          </p:nvPr>
        </p:nvSpPr>
        <p:spPr>
          <a:xfrm>
            <a:off x="985680" y="741240"/>
            <a:ext cx="4886640" cy="3665520"/>
          </a:xfrm>
          <a:prstGeom prst="rect">
            <a:avLst/>
          </a:prstGeom>
          <a:ln w="0">
            <a:noFill/>
          </a:ln>
        </p:spPr>
      </p:sp>
      <p:sp>
        <p:nvSpPr>
          <p:cNvPr id="7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42FFE-E67E-4563-AB7E-421BB251F3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888D3-39FE-4BC4-BA37-EA4BCD8412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7" name="PlaceHolder 1"/>
          <p:cNvSpPr>
            <a:spLocks noGrp="1"/>
          </p:cNvSpPr>
          <p:nvPr>
            <p:ph type="sldImg"/>
          </p:nvPr>
        </p:nvSpPr>
        <p:spPr>
          <a:xfrm>
            <a:off x="985680" y="741240"/>
            <a:ext cx="4886640" cy="3665520"/>
          </a:xfrm>
          <a:prstGeom prst="rect">
            <a:avLst/>
          </a:prstGeom>
          <a:ln w="0">
            <a:noFill/>
          </a:ln>
        </p:spPr>
      </p:sp>
      <p:sp>
        <p:nvSpPr>
          <p:cNvPr id="7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D6EA7-1719-477F-A483-BE7444384C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D2FAC-9983-4A94-A75A-8D4D4C3BCE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1" name="PlaceHolder 1"/>
          <p:cNvSpPr>
            <a:spLocks noGrp="1"/>
          </p:cNvSpPr>
          <p:nvPr>
            <p:ph type="sldImg"/>
          </p:nvPr>
        </p:nvSpPr>
        <p:spPr>
          <a:xfrm>
            <a:off x="985680" y="741240"/>
            <a:ext cx="4886640" cy="3665520"/>
          </a:xfrm>
          <a:prstGeom prst="rect">
            <a:avLst/>
          </a:prstGeom>
          <a:ln w="0">
            <a:noFill/>
          </a:ln>
        </p:spPr>
      </p:sp>
      <p:sp>
        <p:nvSpPr>
          <p:cNvPr id="7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D57E0-7DA0-4ED5-A687-681661B045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56AD7-7EBB-4465-92D3-6E23330E1A1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5" name="PlaceHolder 1"/>
          <p:cNvSpPr>
            <a:spLocks noGrp="1"/>
          </p:cNvSpPr>
          <p:nvPr>
            <p:ph type="sldImg"/>
          </p:nvPr>
        </p:nvSpPr>
        <p:spPr>
          <a:xfrm>
            <a:off x="985680" y="741240"/>
            <a:ext cx="4886640" cy="3665520"/>
          </a:xfrm>
          <a:prstGeom prst="rect">
            <a:avLst/>
          </a:prstGeom>
          <a:ln w="0">
            <a:noFill/>
          </a:ln>
        </p:spPr>
      </p:sp>
      <p:sp>
        <p:nvSpPr>
          <p:cNvPr id="7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AA4EC-F785-4F7C-BCB0-2B9F14BCA5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1EF0C-986A-413F-91CC-6921E52113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9" name="PlaceHolder 1"/>
          <p:cNvSpPr>
            <a:spLocks noGrp="1"/>
          </p:cNvSpPr>
          <p:nvPr>
            <p:ph type="sldImg"/>
          </p:nvPr>
        </p:nvSpPr>
        <p:spPr>
          <a:xfrm>
            <a:off x="985680" y="741240"/>
            <a:ext cx="4886640" cy="3665520"/>
          </a:xfrm>
          <a:prstGeom prst="rect">
            <a:avLst/>
          </a:prstGeom>
          <a:ln w="0">
            <a:noFill/>
          </a:ln>
        </p:spPr>
      </p:sp>
      <p:sp>
        <p:nvSpPr>
          <p:cNvPr id="7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20273-7BAE-49F3-8EAB-EC3FDC856B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B9E51-1954-4F0D-8B11-5A0CD8C2B8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3" name="PlaceHolder 1"/>
          <p:cNvSpPr>
            <a:spLocks noGrp="1"/>
          </p:cNvSpPr>
          <p:nvPr>
            <p:ph type="sldImg"/>
          </p:nvPr>
        </p:nvSpPr>
        <p:spPr>
          <a:xfrm>
            <a:off x="985680" y="741240"/>
            <a:ext cx="4886640" cy="3665520"/>
          </a:xfrm>
          <a:prstGeom prst="rect">
            <a:avLst/>
          </a:prstGeom>
          <a:ln w="0">
            <a:noFill/>
          </a:ln>
        </p:spPr>
      </p:sp>
      <p:sp>
        <p:nvSpPr>
          <p:cNvPr id="7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2C52F-0BF4-49CC-82DF-00AA0DA4C74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31DBA-3B01-4887-90ED-9EC4C4767B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7" name="PlaceHolder 1"/>
          <p:cNvSpPr>
            <a:spLocks noGrp="1"/>
          </p:cNvSpPr>
          <p:nvPr>
            <p:ph type="sldImg"/>
          </p:nvPr>
        </p:nvSpPr>
        <p:spPr>
          <a:xfrm>
            <a:off x="985680" y="741240"/>
            <a:ext cx="4886640" cy="3665520"/>
          </a:xfrm>
          <a:prstGeom prst="rect">
            <a:avLst/>
          </a:prstGeom>
          <a:ln w="0">
            <a:noFill/>
          </a:ln>
        </p:spPr>
      </p:sp>
      <p:sp>
        <p:nvSpPr>
          <p:cNvPr id="7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B4CFB-3E7D-4FE9-8002-B5E336CFE0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04C68-8225-4825-B254-5DDCDC39959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1" name="PlaceHolder 1"/>
          <p:cNvSpPr>
            <a:spLocks noGrp="1"/>
          </p:cNvSpPr>
          <p:nvPr>
            <p:ph type="sldImg"/>
          </p:nvPr>
        </p:nvSpPr>
        <p:spPr>
          <a:xfrm>
            <a:off x="985680" y="741240"/>
            <a:ext cx="4886640" cy="3665520"/>
          </a:xfrm>
          <a:prstGeom prst="rect">
            <a:avLst/>
          </a:prstGeom>
          <a:ln w="0">
            <a:noFill/>
          </a:ln>
        </p:spPr>
      </p:sp>
      <p:sp>
        <p:nvSpPr>
          <p:cNvPr id="7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18D09-6D01-40A2-853A-07B1D8B950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96B2A-B334-4C90-A956-436B99CFD9E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5" name="PlaceHolder 1"/>
          <p:cNvSpPr>
            <a:spLocks noGrp="1"/>
          </p:cNvSpPr>
          <p:nvPr>
            <p:ph type="sldImg"/>
          </p:nvPr>
        </p:nvSpPr>
        <p:spPr>
          <a:xfrm>
            <a:off x="985680" y="741240"/>
            <a:ext cx="4886640" cy="3665520"/>
          </a:xfrm>
          <a:prstGeom prst="rect">
            <a:avLst/>
          </a:prstGeom>
          <a:ln w="0">
            <a:noFill/>
          </a:ln>
        </p:spPr>
      </p:sp>
      <p:sp>
        <p:nvSpPr>
          <p:cNvPr id="7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6B051-939A-44C3-976A-62C51F9B07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D329F-3333-444B-A3E9-7880A147A1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9" name="PlaceHolder 1"/>
          <p:cNvSpPr>
            <a:spLocks noGrp="1"/>
          </p:cNvSpPr>
          <p:nvPr>
            <p:ph type="sldImg"/>
          </p:nvPr>
        </p:nvSpPr>
        <p:spPr>
          <a:xfrm>
            <a:off x="985680" y="741240"/>
            <a:ext cx="4886640" cy="3665520"/>
          </a:xfrm>
          <a:prstGeom prst="rect">
            <a:avLst/>
          </a:prstGeom>
          <a:ln w="0">
            <a:noFill/>
          </a:ln>
        </p:spPr>
      </p:sp>
      <p:sp>
        <p:nvSpPr>
          <p:cNvPr id="7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1B2E3-577A-46FA-9320-2642217FE02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2790A-0B23-4005-AAAF-F91554C1854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5" name="PlaceHolder 1"/>
          <p:cNvSpPr>
            <a:spLocks noGrp="1"/>
          </p:cNvSpPr>
          <p:nvPr>
            <p:ph type="sldImg"/>
          </p:nvPr>
        </p:nvSpPr>
        <p:spPr>
          <a:xfrm>
            <a:off x="985680" y="741240"/>
            <a:ext cx="4886640" cy="3665520"/>
          </a:xfrm>
          <a:prstGeom prst="rect">
            <a:avLst/>
          </a:prstGeom>
          <a:ln w="0">
            <a:noFill/>
          </a:ln>
        </p:spPr>
      </p:sp>
      <p:sp>
        <p:nvSpPr>
          <p:cNvPr id="75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7D117-2DC5-4E0A-949C-AA95BBBC7B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8E7EF-6655-4658-B187-8FDD924C30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3" name="PlaceHolder 1"/>
          <p:cNvSpPr>
            <a:spLocks noGrp="1"/>
          </p:cNvSpPr>
          <p:nvPr>
            <p:ph type="sldImg"/>
          </p:nvPr>
        </p:nvSpPr>
        <p:spPr>
          <a:xfrm>
            <a:off x="985680" y="741240"/>
            <a:ext cx="4886640" cy="3665520"/>
          </a:xfrm>
          <a:prstGeom prst="rect">
            <a:avLst/>
          </a:prstGeom>
          <a:ln w="0">
            <a:noFill/>
          </a:ln>
        </p:spPr>
      </p:sp>
      <p:sp>
        <p:nvSpPr>
          <p:cNvPr id="7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B411C-96C4-4A61-A84E-01A7AD09CD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33FA5-770A-471E-B149-C7143EA99F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7" name="PlaceHolder 1"/>
          <p:cNvSpPr>
            <a:spLocks noGrp="1"/>
          </p:cNvSpPr>
          <p:nvPr>
            <p:ph type="sldImg"/>
          </p:nvPr>
        </p:nvSpPr>
        <p:spPr>
          <a:xfrm>
            <a:off x="985680" y="741240"/>
            <a:ext cx="4886640" cy="3665520"/>
          </a:xfrm>
          <a:prstGeom prst="rect">
            <a:avLst/>
          </a:prstGeom>
          <a:ln w="0">
            <a:noFill/>
          </a:ln>
        </p:spPr>
      </p:sp>
      <p:sp>
        <p:nvSpPr>
          <p:cNvPr id="7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9BA40-B5C8-454C-8D03-09965C8B155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788D7-620B-4468-980E-A1C0B21D73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1" name="PlaceHolder 1"/>
          <p:cNvSpPr>
            <a:spLocks noGrp="1"/>
          </p:cNvSpPr>
          <p:nvPr>
            <p:ph type="sldImg"/>
          </p:nvPr>
        </p:nvSpPr>
        <p:spPr>
          <a:xfrm>
            <a:off x="985680" y="741240"/>
            <a:ext cx="4886640" cy="3665520"/>
          </a:xfrm>
          <a:prstGeom prst="rect">
            <a:avLst/>
          </a:prstGeom>
          <a:ln w="0">
            <a:noFill/>
          </a:ln>
        </p:spPr>
      </p:sp>
      <p:sp>
        <p:nvSpPr>
          <p:cNvPr id="7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B7338-2A9E-4BF0-AC74-012757D9D83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F19A7-A951-4DA0-9807-A68DAB3604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5" name="PlaceHolder 1"/>
          <p:cNvSpPr>
            <a:spLocks noGrp="1"/>
          </p:cNvSpPr>
          <p:nvPr>
            <p:ph type="sldImg"/>
          </p:nvPr>
        </p:nvSpPr>
        <p:spPr>
          <a:xfrm>
            <a:off x="985680" y="741240"/>
            <a:ext cx="4886640" cy="3665520"/>
          </a:xfrm>
          <a:prstGeom prst="rect">
            <a:avLst/>
          </a:prstGeom>
          <a:ln w="0">
            <a:noFill/>
          </a:ln>
        </p:spPr>
      </p:sp>
      <p:sp>
        <p:nvSpPr>
          <p:cNvPr id="7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B8308-3EF2-4132-833A-03926AEAD5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64917-D3AB-4D57-B90B-415C69D290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9" name="PlaceHolder 1"/>
          <p:cNvSpPr>
            <a:spLocks noGrp="1"/>
          </p:cNvSpPr>
          <p:nvPr>
            <p:ph type="sldImg"/>
          </p:nvPr>
        </p:nvSpPr>
        <p:spPr>
          <a:xfrm>
            <a:off x="985680" y="741240"/>
            <a:ext cx="4886640" cy="3665520"/>
          </a:xfrm>
          <a:prstGeom prst="rect">
            <a:avLst/>
          </a:prstGeom>
          <a:ln w="0">
            <a:noFill/>
          </a:ln>
        </p:spPr>
      </p:sp>
      <p:sp>
        <p:nvSpPr>
          <p:cNvPr id="7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28D38-ED04-4078-89FA-4699ABCC2B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D6563-AD04-4876-ACDF-1A404E6CC2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3" name="PlaceHolder 1"/>
          <p:cNvSpPr>
            <a:spLocks noGrp="1"/>
          </p:cNvSpPr>
          <p:nvPr>
            <p:ph type="sldImg"/>
          </p:nvPr>
        </p:nvSpPr>
        <p:spPr>
          <a:xfrm>
            <a:off x="985680" y="741240"/>
            <a:ext cx="4886640" cy="3665520"/>
          </a:xfrm>
          <a:prstGeom prst="rect">
            <a:avLst/>
          </a:prstGeom>
          <a:ln w="0">
            <a:noFill/>
          </a:ln>
        </p:spPr>
      </p:sp>
      <p:sp>
        <p:nvSpPr>
          <p:cNvPr id="7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06E4E-F3D7-46ED-8AC2-AC3F1F9BD21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D5A2D-67DF-4CAA-9871-751D30E23C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7" name="PlaceHolder 1"/>
          <p:cNvSpPr>
            <a:spLocks noGrp="1"/>
          </p:cNvSpPr>
          <p:nvPr>
            <p:ph type="sldImg"/>
          </p:nvPr>
        </p:nvSpPr>
        <p:spPr>
          <a:xfrm>
            <a:off x="985680" y="741240"/>
            <a:ext cx="4886640" cy="3665520"/>
          </a:xfrm>
          <a:prstGeom prst="rect">
            <a:avLst/>
          </a:prstGeom>
          <a:ln w="0">
            <a:noFill/>
          </a:ln>
        </p:spPr>
      </p:sp>
      <p:sp>
        <p:nvSpPr>
          <p:cNvPr id="7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10104-5629-47B5-AEF5-62622E0304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66408-D683-4E85-A378-C6005F0156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1" name="PlaceHolder 1"/>
          <p:cNvSpPr>
            <a:spLocks noGrp="1"/>
          </p:cNvSpPr>
          <p:nvPr>
            <p:ph type="sldImg"/>
          </p:nvPr>
        </p:nvSpPr>
        <p:spPr>
          <a:xfrm>
            <a:off x="985680" y="741240"/>
            <a:ext cx="4886640" cy="3665520"/>
          </a:xfrm>
          <a:prstGeom prst="rect">
            <a:avLst/>
          </a:prstGeom>
          <a:ln w="0">
            <a:noFill/>
          </a:ln>
        </p:spPr>
      </p:sp>
      <p:sp>
        <p:nvSpPr>
          <p:cNvPr id="7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04268-4775-4EB1-8E10-64CBA356CD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3187C-D6FD-4C0C-B3A8-232B2AE9FD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5" name="PlaceHolder 1"/>
          <p:cNvSpPr>
            <a:spLocks noGrp="1"/>
          </p:cNvSpPr>
          <p:nvPr>
            <p:ph type="sldImg"/>
          </p:nvPr>
        </p:nvSpPr>
        <p:spPr>
          <a:xfrm>
            <a:off x="985680" y="741240"/>
            <a:ext cx="4886640" cy="3665520"/>
          </a:xfrm>
          <a:prstGeom prst="rect">
            <a:avLst/>
          </a:prstGeom>
          <a:ln w="0">
            <a:noFill/>
          </a:ln>
        </p:spPr>
      </p:sp>
      <p:sp>
        <p:nvSpPr>
          <p:cNvPr id="7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B478D-B115-4541-AE15-824F6FE3A5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87647-B42C-471B-84C9-A266BDE982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9" name="PlaceHolder 1"/>
          <p:cNvSpPr>
            <a:spLocks noGrp="1"/>
          </p:cNvSpPr>
          <p:nvPr>
            <p:ph type="sldImg"/>
          </p:nvPr>
        </p:nvSpPr>
        <p:spPr>
          <a:xfrm>
            <a:off x="985680" y="741240"/>
            <a:ext cx="4886640" cy="3665520"/>
          </a:xfrm>
          <a:prstGeom prst="rect">
            <a:avLst/>
          </a:prstGeom>
          <a:ln w="0">
            <a:noFill/>
          </a:ln>
        </p:spPr>
      </p:sp>
      <p:sp>
        <p:nvSpPr>
          <p:cNvPr id="7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C141C-E88F-46D8-96A4-C116CF9483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136CE-0C3E-47EF-9BC7-B3FD56FC32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9" name="PlaceHolder 1"/>
          <p:cNvSpPr>
            <a:spLocks noGrp="1"/>
          </p:cNvSpPr>
          <p:nvPr>
            <p:ph type="sldImg"/>
          </p:nvPr>
        </p:nvSpPr>
        <p:spPr>
          <a:xfrm>
            <a:off x="985680" y="741240"/>
            <a:ext cx="4886640" cy="3665520"/>
          </a:xfrm>
          <a:prstGeom prst="rect">
            <a:avLst/>
          </a:prstGeom>
          <a:ln w="0">
            <a:noFill/>
          </a:ln>
        </p:spPr>
      </p:sp>
      <p:sp>
        <p:nvSpPr>
          <p:cNvPr id="75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789E5-193A-4AD3-949E-5F481B029E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52F42-9379-49A3-985D-6A4DDA8EE4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3" name="PlaceHolder 1"/>
          <p:cNvSpPr>
            <a:spLocks noGrp="1"/>
          </p:cNvSpPr>
          <p:nvPr>
            <p:ph type="sldImg"/>
          </p:nvPr>
        </p:nvSpPr>
        <p:spPr>
          <a:xfrm>
            <a:off x="985680" y="741240"/>
            <a:ext cx="4886640" cy="3665520"/>
          </a:xfrm>
          <a:prstGeom prst="rect">
            <a:avLst/>
          </a:prstGeom>
          <a:ln w="0">
            <a:noFill/>
          </a:ln>
        </p:spPr>
      </p:sp>
      <p:sp>
        <p:nvSpPr>
          <p:cNvPr id="7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FF062-0D95-4F1C-BBBA-6684276521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56151-622C-4E2E-A52B-543CB58FC3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7" name="PlaceHolder 1"/>
          <p:cNvSpPr>
            <a:spLocks noGrp="1"/>
          </p:cNvSpPr>
          <p:nvPr>
            <p:ph type="sldImg"/>
          </p:nvPr>
        </p:nvSpPr>
        <p:spPr>
          <a:xfrm>
            <a:off x="985680" y="741240"/>
            <a:ext cx="4886640" cy="3665520"/>
          </a:xfrm>
          <a:prstGeom prst="rect">
            <a:avLst/>
          </a:prstGeom>
          <a:ln w="0">
            <a:noFill/>
          </a:ln>
        </p:spPr>
      </p:sp>
      <p:sp>
        <p:nvSpPr>
          <p:cNvPr id="7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3EC20-8256-478F-9C69-D0C7D832D8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6CDDA-F1AF-4DFA-9F60-B6E08DBD74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1" name="PlaceHolder 1"/>
          <p:cNvSpPr>
            <a:spLocks noGrp="1"/>
          </p:cNvSpPr>
          <p:nvPr>
            <p:ph type="sldImg"/>
          </p:nvPr>
        </p:nvSpPr>
        <p:spPr>
          <a:xfrm>
            <a:off x="985680" y="741240"/>
            <a:ext cx="4886640" cy="3665520"/>
          </a:xfrm>
          <a:prstGeom prst="rect">
            <a:avLst/>
          </a:prstGeom>
          <a:ln w="0">
            <a:noFill/>
          </a:ln>
        </p:spPr>
      </p:sp>
      <p:sp>
        <p:nvSpPr>
          <p:cNvPr id="7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84FF5-B79A-4ABC-9F7C-F619360D80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76D7F-D1AE-4407-BC3C-CB22075984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5" name="PlaceHolder 1"/>
          <p:cNvSpPr>
            <a:spLocks noGrp="1"/>
          </p:cNvSpPr>
          <p:nvPr>
            <p:ph type="sldImg"/>
          </p:nvPr>
        </p:nvSpPr>
        <p:spPr>
          <a:xfrm>
            <a:off x="985680" y="741240"/>
            <a:ext cx="4886640" cy="3665520"/>
          </a:xfrm>
          <a:prstGeom prst="rect">
            <a:avLst/>
          </a:prstGeom>
          <a:ln w="0">
            <a:noFill/>
          </a:ln>
        </p:spPr>
      </p:sp>
      <p:sp>
        <p:nvSpPr>
          <p:cNvPr id="7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A5F19-C473-4521-9901-ED3E0D5C3F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D0483-036A-411A-A144-30B9707DAF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9" name="PlaceHolder 1"/>
          <p:cNvSpPr>
            <a:spLocks noGrp="1"/>
          </p:cNvSpPr>
          <p:nvPr>
            <p:ph type="sldImg"/>
          </p:nvPr>
        </p:nvSpPr>
        <p:spPr>
          <a:xfrm>
            <a:off x="985680" y="741240"/>
            <a:ext cx="4886640" cy="3665520"/>
          </a:xfrm>
          <a:prstGeom prst="rect">
            <a:avLst/>
          </a:prstGeom>
          <a:ln w="0">
            <a:noFill/>
          </a:ln>
        </p:spPr>
      </p:sp>
      <p:sp>
        <p:nvSpPr>
          <p:cNvPr id="7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E3DD8-C0FE-42C9-B2F0-D0F4D3AAD1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43072-10A3-4C23-875D-EDFEEB2A7D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3" name="PlaceHolder 1"/>
          <p:cNvSpPr>
            <a:spLocks noGrp="1"/>
          </p:cNvSpPr>
          <p:nvPr>
            <p:ph type="sldImg"/>
          </p:nvPr>
        </p:nvSpPr>
        <p:spPr>
          <a:xfrm>
            <a:off x="985680" y="741240"/>
            <a:ext cx="4886640" cy="3665520"/>
          </a:xfrm>
          <a:prstGeom prst="rect">
            <a:avLst/>
          </a:prstGeom>
          <a:ln w="0">
            <a:noFill/>
          </a:ln>
        </p:spPr>
      </p:sp>
      <p:sp>
        <p:nvSpPr>
          <p:cNvPr id="7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9B5C6-4E05-4A78-8F24-03353C5C5C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661A1-B0E8-4D2B-8AF0-A2A8746F61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7" name="PlaceHolder 1"/>
          <p:cNvSpPr>
            <a:spLocks noGrp="1"/>
          </p:cNvSpPr>
          <p:nvPr>
            <p:ph type="sldImg"/>
          </p:nvPr>
        </p:nvSpPr>
        <p:spPr>
          <a:xfrm>
            <a:off x="985680" y="741240"/>
            <a:ext cx="4886640" cy="3665520"/>
          </a:xfrm>
          <a:prstGeom prst="rect">
            <a:avLst/>
          </a:prstGeom>
          <a:ln w="0">
            <a:noFill/>
          </a:ln>
        </p:spPr>
      </p:sp>
      <p:sp>
        <p:nvSpPr>
          <p:cNvPr id="7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42CD7-3843-4A20-9423-B8EFB12CAC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E7146-32FB-4500-8E0D-5315FDD0920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1" name="PlaceHolder 1"/>
          <p:cNvSpPr>
            <a:spLocks noGrp="1"/>
          </p:cNvSpPr>
          <p:nvPr>
            <p:ph type="sldImg"/>
          </p:nvPr>
        </p:nvSpPr>
        <p:spPr>
          <a:xfrm>
            <a:off x="985680" y="741240"/>
            <a:ext cx="4886640" cy="3665520"/>
          </a:xfrm>
          <a:prstGeom prst="rect">
            <a:avLst/>
          </a:prstGeom>
          <a:ln w="0">
            <a:noFill/>
          </a:ln>
        </p:spPr>
      </p:sp>
      <p:sp>
        <p:nvSpPr>
          <p:cNvPr id="7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41981-825E-41EA-90EA-8262DF808F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FB3D5-1ED1-44A0-AEE5-5E05987746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5" name="PlaceHolder 1"/>
          <p:cNvSpPr>
            <a:spLocks noGrp="1"/>
          </p:cNvSpPr>
          <p:nvPr>
            <p:ph type="sldImg"/>
          </p:nvPr>
        </p:nvSpPr>
        <p:spPr>
          <a:xfrm>
            <a:off x="985680" y="741240"/>
            <a:ext cx="4886640" cy="3665520"/>
          </a:xfrm>
          <a:prstGeom prst="rect">
            <a:avLst/>
          </a:prstGeom>
          <a:ln w="0">
            <a:noFill/>
          </a:ln>
        </p:spPr>
      </p:sp>
      <p:sp>
        <p:nvSpPr>
          <p:cNvPr id="7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E3875-352E-4F46-A95D-254A45D398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BCAC8-3C69-4935-A7AC-24377FA44C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9" name="PlaceHolder 1"/>
          <p:cNvSpPr>
            <a:spLocks noGrp="1"/>
          </p:cNvSpPr>
          <p:nvPr>
            <p:ph type="sldImg"/>
          </p:nvPr>
        </p:nvSpPr>
        <p:spPr>
          <a:xfrm>
            <a:off x="985680" y="741240"/>
            <a:ext cx="4886640" cy="3665520"/>
          </a:xfrm>
          <a:prstGeom prst="rect">
            <a:avLst/>
          </a:prstGeom>
          <a:ln w="0">
            <a:noFill/>
          </a:ln>
        </p:spPr>
      </p:sp>
      <p:sp>
        <p:nvSpPr>
          <p:cNvPr id="7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001EE-AD3A-4ECA-8E7D-2175804CC5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A82852B-1510-4616-A439-32F8299C72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5807AE2-2DCA-430A-81BD-453AB991159D}"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CAB7BAA1-B9A4-44AE-B538-0D02E3269F75}"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A7CE6303-2E67-4042-A9AF-8D7C336857C5}"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6E90A8EB-7824-4F5B-9BF7-9B44FF8943F7}"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A513041-9586-4E2C-9611-65A659F0D67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7632A8E7-1D56-43CD-831D-46065DFF37CE}"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8B9B551C-030B-4A08-9DA2-3B874236572D}"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67D73CCC-2EEC-491C-8FFF-F427ECED0C93}"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05E048FC-8F54-410A-9737-EDD6C06856A1}"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E8EDB96E-D37C-4999-BA1E-DE4706E763C3}"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60377B2-EE1B-4D84-B88F-319613DE66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775F2ED-8C2D-4328-BB7B-F2654848269A}"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E4F408FA-E3C9-414A-9417-00A267E80103}"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D62E1196-0BC4-4F33-8095-2E69266B7468}"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9365940-45D0-4247-A57B-8C6187FCCB1A}"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7B4BF7AB-1429-4B2A-BC2E-63FCA6B33285}"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9B9ADF04-3BBA-4A8F-A283-A514A8947908}"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63A543E-DA7D-4D24-A3A8-7218346E8772}"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A4330617-A5D3-4CBD-842E-0B5B63C3305F}"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4E5BEF24-738B-4EE6-A71C-8D7B2D58148E}"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446D3611-1240-4915-866F-BF75FDFAF6C3}"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33BDBA50-088B-4D0D-A0D6-269D9336F7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10507597-2DD6-48C3-92C3-601D1D937BC8}"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E0989892-29DF-4A77-9E9A-69034321EB0D}"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2677F926-F424-4845-BB07-66991D3DFBCE}"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991A2CE-ACFD-47EC-AD02-059D367D1FCE}"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2B14DF11-2363-4BFC-9A3D-557EAB4B7802}"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E028050D-A0A0-41BD-A78E-7C73C6D56F2E}"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FA561B6B-472B-4250-8D53-85FAE4501A1C}"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52AF8FFF-BE95-4C1B-A5BD-4E2DA9F80351}"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FC3780F0-9749-4213-99FD-D2BC80BE0ECD}"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A64BB64-338C-4F7A-AED8-9B46A211D421}"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5E7E3F78-3DE7-460B-BA5A-593D2E9E5BE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92CC8B9-A4F4-4D8A-91A1-A4ED26C47614}"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AAD99044-4135-4EB1-AFB5-09A464DA7A34}"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5E4D78E9-51A5-4B3F-827A-8A478BA6384A}"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6C8274DD-7ED1-4D1D-97F7-79A55AC6C124}"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67C255A6-B743-4528-9E66-5BD37508A7FC}"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77E8A53-F6A4-441A-B13F-273AC9C9CF9B}"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77959001-C579-4056-95E9-65F3A9C564CE}"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E8A882B-1C9B-4228-AD15-E89C67E3E961}"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5317D473-AF7B-4FB5-8F3F-419C8DD2681D}"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C5391471-B33B-4A99-A291-53A76C69E9C5}"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48C09C8F-E78E-4191-BF62-B70AF8063C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4D5DE8F-E8E7-4CC1-A4F7-1C698D90F8E4}"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44997ADF-47D8-400A-BA3C-18DD09D36FAD}"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03A699D-753C-4A79-9149-835947DE1EC9}"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E610EC9-D4CF-4BA4-9FB0-DF8F6FD3DAAB}"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E1AC9051-83CE-4724-AEBC-7848BCF8DFC6}"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95EC0155-9536-4F24-BE78-497F859DFE70}"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0F168ED-F969-4470-88E0-FD23E5C5EB2E}"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6B19D40-088B-452F-82DE-2724E1D57094}"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B540F2DA-49AD-4C91-968B-A1BEF57DE12B}"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23799F6C-DBD2-4C05-8846-B4AE56373D7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EC109C0F-1E62-44C0-8623-E05A6F55E4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7FE1963-E2FC-4904-8FE9-AABF1CE2D08E}"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7BACC5AE-8265-4FDA-9EC9-CBF376DA6168}"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9C2C20FA-763D-4049-B7B7-53798673B2F3}"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F862EE6-A4B5-4CDA-8300-DA1C8A112AB7}"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7A40E13-C55D-4D0C-BB34-DC11EABE7525}"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E0825107-C20C-4900-A64B-711BA599BC6F}"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5A0F28ED-E38C-46D6-9143-B23128E13DDD}"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3953B00D-F4D3-45CB-8F40-5F95370B6EBF}"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8711A3B9-A64E-4141-8C8B-3EE6A246D3F1}"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8EA0D31D-42D8-432D-A88A-8BD99015BF9A}"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13F2226E-DB73-4948-9FD2-74593399CC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613D53B-789E-4CB7-8F0C-447F1314AD83}"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614ED4DC-6352-48C7-9701-A40515E508DD}"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45D17AD9-B4F4-43F9-827E-A39F5327AF5F}"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5F5586A6-3611-49A1-9E07-FCDD2DEEE640}"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208D35A1-0E8F-451F-98F4-7D7B07068268}"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A128F01-5868-4FE2-B00A-D5457A9E5AF8}"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86C9A07-1E4A-4B24-9A41-E21AA1CDA83F}"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D42E9500-7C9D-4A22-9352-D51EDEC55CB3}"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F40500FA-C9B5-45CD-A0AA-81D2A5B7B4AD}"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D84D1ECB-A6C3-4C66-9020-420993E82F5E}"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3E604619-9404-405E-B151-5C03B722FB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4E501A0-7BA3-43B9-938D-6655BB2CF81D}"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49D9691-EAEF-431D-B043-6D8EAA2D480C}"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30D81EFA-CEF5-4D8E-A825-238F8E765275}"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4975DBE4-8587-45A4-865F-DE77441C2660}"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CCDBFC3F-E9AA-4C31-9EE9-5301D62FA19B}"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4F6B4083-B973-48CB-806F-272CF263B9A5}"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3763F04-8601-4D0D-9283-05BA817F7536}"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13381D8-D925-4E8D-9732-0958677A2849}"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B6C550F7-CEA6-40F3-A337-DCFA2C28128F}"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60CE5541-BF88-4DB2-AE68-6C30171AD48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072B3A96-D046-404C-AA15-313CE8603D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A3DCFF1-74B4-4CAF-BAAE-5258BB728230}"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796350D2-B709-4224-88DD-CC4BCA984066}"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B0F6A2A2-D5BC-4A93-965B-8851FA95849F}"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91B9B4C1-D840-4558-92B0-9F78FDF1A6B6}"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BAB6E75B-ECB7-471E-A11A-16A8C737B867}"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C90B37E7-9A66-4239-8850-8538A0B429C3}"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BAD45E5E-7105-4E45-B451-EC70D55EB34C}"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B4B60BD4-5176-43DB-9FE8-823470E7AA97}"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34051CB-BF75-4899-AC3D-5124E5A59683}"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AE488A7-1780-4DBA-B45F-647D9E3578A2}"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4F9F9CA-C12A-486F-A3A9-3725B725BD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5EC960-8D7E-47EA-9A9E-E78A4EA0E662}"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A73D7D49-3141-424E-9D27-3309427CF6EF}"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D4768DB5-8B17-4587-8F2D-DD9B3521A779}"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2B1F1549-1D5D-471C-B242-50E19D33B39A}"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FBAD833C-A201-4133-A873-3A794014DBF0}"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8980FBD6-27A7-4023-9499-2DE7BDBCACC0}"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904F17B0-6EA2-44B3-9091-BDE0A2B0677C}"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75556425-493E-4D90-884E-71AC233A8F00}"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AFB1246E-60E6-4D43-A5D0-B07039A6FD7D}"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44D26937-A877-4745-A615-90C38AE31D1C}"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1905220-D07B-4DB5-A38B-15A824633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297273A-0F75-4F95-BA7C-E333E6E9BA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0D27BCD-8B11-4B9D-9F50-B144ED057B35}"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E9AA6157-CAA2-4A45-80C8-875A804490AD}"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B5DB3890-38FF-4380-9E05-E790BF50C609}"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FB6E624-3979-41D9-A91B-36C336F1F945}"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D1834104-8EFB-4870-8376-3ADDA4AE1CA1}"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BEE933CC-DE44-4336-B10B-FB287F91E4E5}"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0F31A5C7-47E0-48BC-80D2-CCA966227386}"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8A03D915-9C92-44DE-90EF-52F13135B1BE}"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B70B2A70-FAB2-454C-86EE-8EB853238128}"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2D9E3632-DDF5-4DE8-9998-4E5663822615}"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726F27C2-FCC6-406E-BF4D-115A1D25DA4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3AACCE1-D2F2-4D6F-9747-616A88CF3DDB}"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120641E4-2509-4FBC-82DC-2BEC92B0F319}"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4314925-F6B8-46EE-9755-E02C3BD44685}"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615F0A1-94BD-4A21-B666-C5C6D69E34DE}"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F1B221B-B422-4C16-A0D8-3595232B224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92082997-CCB6-4B03-A047-F64E9A7E6809}"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1B98BB0A-431A-4DDE-A082-F7AEBFF4C8C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063CC071-DE5D-4D3E-B7CA-6D0C8A50C99A}"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153C503D-B1B2-4B2E-8222-A1CF6F74385C}"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D1A79B5C-DF50-41B3-83E9-64D19F05AE04}"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6ACC044-8D21-4212-A404-E6593D8E8B1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C7E4CA8-43AE-442D-84C9-492DA8DE056D}"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0588FC4D-FB5C-4481-A07E-03825BC20ED6}"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F331B19A-6785-4D22-B912-AA314A87AAA5}"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1922A018-3600-4908-984A-B8C5544EA699}"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7015437-680E-4C8A-8A3D-0A5E3A480F8B}"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99AF83F-5186-4E22-A1D0-A3F78B6DB8C0}"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C9425E96-FF07-41A5-B725-3B0CD8BAB8DA}"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FC03CF4-1504-40B1-B91B-FEB3495E3F7A}"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C726DB46-46E3-442F-A676-4C8D2D803668}"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84A237F2-D6A8-4965-A578-EFF8F4D76DAF}"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85263F2C-A9CB-4FF9-A0CF-4D5615D7F3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5A42D6E-1897-45B8-BA8E-A825D6F9A449}"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873FD36F-C712-42C6-AE28-C9DEABD55AB3}"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E35D8AA2-CCF9-4A97-8434-A63DC121EC02}"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0D07DF71-6B79-471E-B0C2-7768027A472A}"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30FB0A1B-862F-4B0C-83DD-A834F1F8E11D}"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5E4F4EC7-C507-4F7B-8893-AB3A8E6DD79D}"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F3941944-D6F2-4A08-A308-93CF3B0C3613}"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E618FBD-1364-436C-9E13-E1F262D1E266}"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5F65D1A6-B7A6-4824-AA4E-992720E5CAFA}"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7853CB3-6F0C-443D-873D-A32D30B9A9AF}"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75389008-08BB-4FC5-9BF4-2716DE95C7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694AB44-03A7-4BCA-A405-4C69167E39A2}"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98AA3293-5FB8-4EE4-A029-8B58CC2304BB}"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1136CF3-2E5D-4D4A-9024-3B589C44338E}"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9DD90097-494D-41AA-9536-57B0462FA3F3}"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75350B3-8397-4929-B61B-6B91BC25D08C}"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146572A-E3BB-4C48-A9F0-DF759A668484}"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7D6E6844-3BCA-4707-8EED-C707B2923B6A}"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89176382-5503-4955-91F5-4B98D8DE30C7}"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D40C203-234D-4651-BBD7-F3086AE4B875}"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14AF8B63-7D75-4D3F-BE46-712BB3944ABF}"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D6750616-BC3B-4CCC-9929-366E0089F9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25E1AD8-6DF1-4BFD-A945-0E15647D33E0}"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C86C8DD5-0DFD-4EB2-8198-27BF0F00C25F}"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FCDF4051-2420-49DD-906B-96F17F8BA435}"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1194761D-1EDA-4805-BE19-C284CEDAED91}"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413B96B-A1DA-49C6-9B91-F0F1E51788B7}"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C75E92C-BA0F-4B82-B43F-6AD5D47136C5}"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00B31181-B2BF-4CCE-B89E-A70D8FFB91A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300D317B-6896-457B-9733-1E474E56B005}"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13B4CF13-BC10-4D07-A1F2-EB61D8E40613}"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96479204-FC7D-4F11-A622-46CE4646FD99}"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5489B042-13AE-4404-AF50-F7607C3A3F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C758E03-2872-42E5-B8D2-8CC555CCFD32}"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3AF5971-5B3B-4105-AD45-B82D5D05EA4A}"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997A7965-B38A-48C5-A323-6DFA2CBD20AC}"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2FD3FC4-0510-4625-93A4-C693A7B3710A}"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D7DF8E4-56EC-4663-B19E-4F0FEEFE5534}"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DBA8E4F4-1257-41D7-8559-14051710F73A}"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575EB0F8-2AE8-473F-95D3-04693C4E5BFC}"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98BEE00A-E340-4049-A9DE-6CF1345584F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499E88B3-2BE0-4C1B-9DFB-F13C143D1E08}"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3BE1F18C-F12A-48EA-8270-364E467094F8}"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56347855-2411-408D-92FD-52EC2516D4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AEED8C8-4B9A-4D32-BD09-C17EFF89CDF5}"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87BD3C85-12B8-40DC-8A4F-2C1F1B23BA35}"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5109E27C-4821-434B-B0ED-AF9D0A50DD89}"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63412C42-94AE-4CD6-B3DE-777567B67E24}"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BE86318-FEF9-46F2-ACDF-01F41C8E801F}"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96160486-8D41-476E-A617-9831503FBF02}"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B928EB49-666D-4251-9061-358DB08A196B}"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F5076EC1-BB09-43DF-8093-E75FBD65CF63}"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9DF0BC56-6B96-4E4B-819D-64E8970BF12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4C9668B8-CD28-487B-9221-5099C1B955D4}"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1B6940A-C74B-4CB2-AE39-9710233C314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B959C3B-4FA7-4739-8FB2-442FA2DA8DE3}"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0DD12FD5-8D67-4710-B9CD-DE8510B21040}"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0EF47C20-1BA7-4F0F-BD68-E11B7E03FF28}"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648238AB-2730-4E65-9788-A7907E2E5AA1}"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633F7AB-3AAF-46AE-B861-23C99BCF5A14}"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E3D7827-6FDE-4220-A2FD-2427F1861B99}"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F8EF354-944D-4F1A-ADF2-AF912EFAAE26}"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E55EB904-E580-468C-B7BF-33470B27659A}"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1DC94294-2C42-469A-AF05-9531D61515C5}"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26985065-D4B2-4DE1-8C3E-23F1D3E5A66F}"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CFD9C31B-1FB2-490F-8AF3-24247F7247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9798193-E3AD-4B13-B3F6-2604C3C5223B}"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C5B5F262-5A44-4E73-B67D-7DC62B84B62E}"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DD011B8C-66A0-4138-9FE8-CCB937A1941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33B9DDCF-CA6E-4878-B9FF-8F38940371F3}"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F311EF3C-C025-4DF1-82CC-4A8AB2C95561}"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F08E1C2B-D1C9-40CF-903C-405F4262017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4078AD8-67CC-4665-85A0-BED772C314D8}"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FF876B2-BBD3-4807-B9F1-D9E67F9112E9}"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EDD4558-2957-4239-94FE-8A464DA4455A}"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0878E9B9-FF27-4C3E-9CB8-2B9AD067C44F}"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944946CC-B478-4B36-A86A-C01FE717E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B6C44F6-1752-4DC4-873A-358D5DA9C1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344515E-CFE1-4E62-A302-D0C3E4A36DA8}"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9DEC07D2-EAFC-4F06-98BF-6BDA0BEDE522}"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BC43BAA1-4421-4F55-AE3E-AD05C3D5EF81}"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DE87E6EB-1208-4290-965E-A1E234334147}"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05B0376-3045-4476-AF15-D4A9A925A08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74D0DFC3-5C58-451B-9DE5-6CFC70FB00DD}"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2C0C809B-CF95-4B22-BFB9-871EDB86E179}"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7803E3AC-EA23-4E22-BFF6-415C86C300BB}"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2A41FAF7-8462-483F-8CA3-1C1FBF825429}"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718FBE46-84A6-457B-8DF8-F5ACF9C04DFB}"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89E58F4-B45D-4ADA-9DEF-232E6A0B9F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A27633A-E969-4FB5-AED5-DBE609B3453E}"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A948F09-D036-4418-A63C-B59EF9254A23}"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D1118FC4-EED4-4633-9694-AD22E1E13AB9}"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D129428A-B3CC-49FC-AC07-8DA5DE1C8E24}"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D02F5D98-651A-400B-A66D-102123273EFA}"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67E05A44-F197-4B61-93BF-E874CE44670F}"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DA664BB5-C482-4CAF-AA50-52B2D3A0204F}"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B98EC6A0-99C4-4A54-B47C-81231AD9E7E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237BFC43-BEDC-4C42-B27A-841739A301FD}"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8178D47D-9D9C-46EA-8D62-66EFEEBF0A89}"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13A7881-BB8C-429B-850A-AEA97C6E4A0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9E1824E-BB93-4761-A561-3FC5D2E6645C}"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81FABA3-3730-4BAA-9A7D-D9B56E4F3244}"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DB85157C-7B31-4784-B313-C8A1CEDD74A7}"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2543F1B3-8569-4681-8B5B-CA9D7EF0F4E8}"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0F89402D-C543-451D-AECC-BB4E406652AC}"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9206207-8644-48D7-9E4C-3149B3AAF3AC}"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241AE2A2-1EB8-4641-BDC5-6F6D7DAD0AC6}"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82EF39BC-3887-4F14-8753-0C01567F61AF}"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23F9ADA-B86F-4909-86F1-13A60B7D2607}"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20DCA205-85F9-4DC5-8C1A-B0633A3DBCC3}"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4C5B9D52-5F46-4189-A275-9B752EA00A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444F496-9B76-47C7-9CAA-03C6AB323189}"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98E2F486-5309-434A-AEC2-2923BB6942C4}"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46114B7-EA4B-4F8A-AFF3-4AE0B016E0BD}"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E59D9AD0-B8D7-4E75-9616-567311540338}"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2DF64819-4B4A-484A-A5B7-0C0B387FB9F9}"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2DF1BD85-F54D-4213-96F4-653CFE2CBBD8}"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ABBE14B3-CF15-4604-8816-16E5A8565363}"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911D0F50-D837-4D2A-9523-8D9F1B36461E}"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2C408782-97E6-44F5-B428-24AE3DCD0794}"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B69C08C8-16D8-407E-A475-A3D4586077B5}"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CAA1883-EB3D-4A9F-BAEC-49052B6F5B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02E5162-0281-4685-A2FB-BF7914F14E1F}"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506A234E-41EB-46CE-9546-825EBF889127}"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61AC5A99-14C9-4EBF-B5A7-BAB0C880D709}"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63691E3E-4ED7-4E1D-9CC8-E6499DFDDDAD}"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9F00EE4B-A622-4D08-A52E-04C74DE43BF0}"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EF60B5EE-8643-46BC-8923-CBBC4C43464F}"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AF52AFC9-4406-4865-B51C-BCA92A2EFCEA}"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EAF74617-4429-41F3-9839-261568C74CB9}"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FAF3ACA8-6A1A-44AA-BE77-4E9FFCBD97FB}"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F90426AC-7C8C-4936-BADD-41F5CF9E2153}"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64F7E357-4EB2-4EE7-BB29-9BA9A52870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0847CE6-FAEF-44C1-BA9C-D8B974D4DC44}"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E38540E7-6477-413B-8FF1-607AD9BE441E}"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B967D885-EF56-43E2-9CFD-0A240028718B}"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00406A65-1C6D-42D3-BE08-E8EA3285545D}"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C5A8DFF9-6132-4C93-BF92-CB36FAE02594}"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A5A968B6-39AB-43F5-9D1E-292C7792BEEC}"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363AD70C-254A-4D6E-9C6B-4E29F0C02891}"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5E972B0-4030-4A24-BC16-F79075F41751}"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5E36BCF-F7EF-47E4-A19E-5B07B1BAFACC}"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325946F2-3058-4E9F-8299-534E78E34D66}"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05E06287-74BB-4B48-94E4-713DE57516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C8BD60A-F195-4DAF-9975-4A61CB02D991}"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0194E4A3-ED43-487B-9A32-60F37BFA1CB5}"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40996D3E-4915-4681-9AF7-C2A26B6B0378}"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9D9776C-A8C9-466F-AA3B-6C7936858A4C}"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773286FE-2426-41AC-BA74-D8549798B370}"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1C82B582-0B96-48F8-A6C7-01E98F97D574}"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DC783DFF-3D7F-4438-89EF-D2EDF8BF29E9}"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A61A7A11-634E-4690-979A-C8485D3CDEF2}"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40D9D2A6-812E-4416-B75F-66BAF62BB99F}"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7AFFD54-13E4-4169-BCB7-6F1DEFBAA685}"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08DCF785-C632-494B-8A8E-239C0A61A2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37DA678-6638-4143-9B24-4B0D7D0254B0}"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D826E108-F5FA-4A4A-9BB3-0862E635C042}"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5449600C-B03E-412B-82F2-00DEF0EE787B}"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C863962D-73AB-4B9B-B652-71A531F5EB0C}"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27EAC2D6-ED49-4247-B2FC-FCBB23817F1A}"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7676F2E9-FB69-4B9D-87DF-579A46A8E94D}"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72FB6512-DD20-4C9F-8CCD-7FC296BC7F7E}"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9D75F14-DA6B-49C8-8DC4-BE2233785FB7}"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A5C74C38-4938-44CA-B6CE-EEA95F8E5094}"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CD9AE152-5E89-4849-BEE0-4D50B46C390A}"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D8D8DAF-2A5F-4494-9C91-AE04B8E49F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8A44F7C-E13E-49ED-A521-3432A7E78BD9}"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8AF34BB7-B21E-4789-83FD-79B188DE8F59}"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A40738A0-D869-4A8B-8602-0999BCF34870}"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87A2765B-F5AD-4385-BE0F-2D14823CFDB8}"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FA77BC30-07ED-449C-95BC-82ADE709D28A}"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40ABA23D-69B2-4AC3-8AEE-34A0F685212F}"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A37F1D8A-3545-4E46-8D5B-A5DBEABA6C9C}"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47D7288F-846C-4551-84EA-2C084DAD1C66}"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75EF9259-BD1A-4E19-8487-8660516E6346}"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1B85C06D-8AF5-46F8-BFFD-94BFC95EF7DE}"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BC0155B5-00C9-4D49-B61B-EB65081ECD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E286BEC-94B3-4E19-9A71-37C5D411743C}"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8C05D6A4-3B3E-4DCC-B856-C21C6DA7A758}"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7C4146CE-2F8C-4441-8403-F38B59603D44}"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CE4F1FB-DB11-4B94-8EE6-88BE3F7EB7C5}"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136DD14-63A4-4BE2-8871-E0B1C35279EE}"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D975EA02-E262-4398-85FF-7849D1670514}"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599ECC00-8062-4FC6-A9FF-FDD1C1F24470}"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F5BE4A6A-C5D1-4ECA-B66F-615259B193D7}"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4B69B764-77C9-4226-9AC7-555745E4B0B7}"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66F598AE-A48A-44AA-889F-4679EDDE8B13}"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55C13E7E-73D7-4729-ABC4-21AA431AF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7DAA8-E377-4D90-B5A2-58A72F9673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2535FA3-50C4-4C44-9C63-281F58DC5E02}"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066C367C-A3E3-4D9F-AF31-F84E09669D61}"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371250DB-1CEC-4CFA-9232-F1202E744F95}"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2CD74927-B429-45F9-B0AF-2066E0A349EA}"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F97F46DC-C514-4E40-9C27-7FC326BEF074}"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2854E2D-B174-45FB-A44D-6D3F15BF0F6C}"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7CEEF57-87E2-40DA-A096-BAA0BF6F8722}"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A0FD9F5-E5CE-49F2-A248-AD2FFF2ED21A}"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512179F7-5183-4879-A111-EB100C6227E4}"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CBB460B8-8B0D-428D-A1DF-115D37099282}"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E8A7EDE7-B5D1-4D65-9FFB-A80783598C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6CEDC7C-81F7-4A95-B0EF-C6FC8B20030A}"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56D2A1CC-AEA4-441A-9936-ED5556D85A0D}"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9AE91E47-3A12-40FA-8073-76B1B6C927CB}"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502875F8-B941-48CB-8BD5-83B5580CDDF9}"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325A9424-81E9-4916-BE33-D29CD4B09DBD}"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DB8E42A6-380C-4A79-AA46-7B2690F61E04}"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CEC9620-DCB9-4A17-91E7-90D3A995071D}"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29C41F1-F315-432A-8716-DB5280F5265A}"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B86B62D-C6FA-491C-AC40-2D36A3F983E4}"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5F45ADD-7D0E-4576-A3B3-2DC85450859E}"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A7FAAD6F-1724-4C5B-8FCC-C10E6FD57F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A25CBDD-ACD8-44AA-9786-B9B3C36BA3FA}"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A596CECB-1EDF-48AB-B97A-ED7C79B4B19C}"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678E25CE-AA37-4CC9-8706-8244B0D0E6CC}"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86EC6CC9-15C7-430D-BB8A-E0B4D34F9C3A}"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ACC9D1A9-0C2B-4FD3-A9DC-93C5ADE456D4}"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F87F0E1A-AA78-4AF6-83B3-D744AA5C957F}"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5FD7A305-E76B-4725-9A97-0F89969FD8BE}"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C4B794C8-5332-439C-858B-05E765277612}"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1F611428-44D9-4615-84CD-E00E30EC45CC}"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87A18CC0-8EFC-4C37-ADEC-3F67956E4BD4}"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35E5AD5A-6524-4E5C-8E5B-837311EF73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3C7E9B9-568F-48A6-ADD2-ABAA84016A8C}"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22E0D4B8-A521-48C8-8742-449CC1E04182}"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7E1F432E-DBF1-406A-BB41-3A880060E314}"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19C9E2DF-A047-473F-9395-8C00608303B4}"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99F7D337-E2A5-40C5-99D5-012E5B6C1548}"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293ADDF6-8A5B-4421-AB2C-9FB7B8E73E60}"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CC7DC39-EFCF-42D7-99C5-2B5DCBA2AE57}"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032F38AB-7188-4AB5-928C-D478698F9FA5}"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790E371F-03C1-478C-9DF8-56E4FD568D02}"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B39CEE27-79B6-47D8-9D4A-5D1CED996500}"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C27B4856-3911-484E-AAC5-63F121ACE80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FDE2575-4293-443C-A887-9406E75249B3}"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B89C41C-FEB3-43EB-9D11-39D42C62025F}"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78C75B26-229C-4FDD-8486-F9815017ACD3}"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2F03EDCC-E85A-4E71-BD51-10FD6E5EAB53}"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955527F9-B14A-47D1-BC94-C4C0C40FD5E6}"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4F4FCB27-C368-4FB0-98C1-60E769FE26A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33C5E411-34BF-40F2-86FA-F59EB6FEB479}"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AB5E33F3-0E4C-4E8D-896D-81D9721B8A34}"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5286E56E-160A-4E51-AD95-BB100553F5BB}"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67A6AC91-1256-4328-9680-28B833A24C1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21C087C8-49D3-4A34-9CA5-AEB6A60FA58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BC8DB09-CDDB-4BC7-947F-2479751FE812}"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21888ADC-5B25-4BE0-873D-4571963CF6A5}"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C0EA7B9-4A18-4975-B962-CDAD1C72A33F}"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BD97487-BFE9-4D36-8953-1D3B3E52F6FA}"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831CD31-51E6-4B1E-BC16-2B536DB2220B}"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4A038232-9C39-4985-97E8-221D2E7A13B9}"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C98EA4C9-3AF6-4995-BE3C-1311E65C0C86}"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4CBEAB11-6007-42C4-9CA1-3EE0FA980467}"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4DA97C9B-FB47-4552-81DD-D01B411BE0AA}"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BDA85564-0FBE-4662-BA72-F75960EFFF11}"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FC8DF8F1-B08F-4DE9-8EC9-67C23EE612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8F30600-5D8A-491B-8C58-9712718F20DD}"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17622480-96CD-46C1-A452-1870045CC9FD}"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B9F8F13D-49F1-49EC-A622-9371221D5260}"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416A4ABF-2CCA-4ACA-9F9F-F1DF2FB703CB}"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D17BED1C-B193-4911-B73B-FAD4321B425F}"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A3994A0B-1588-424E-A63B-BB67F453F7C0}"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E0A4060F-D724-44E3-853F-E434C4550FD6}"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8C49338-47FA-4499-ABFF-6140F82526FD}"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301FE932-7C3B-45F1-B5F4-C5E0E0946811}"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79948C18-C2A9-44DB-B998-EAE060D6CB27}"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D6DA2FC-FBFD-4D06-94AC-D6F7A6EEED8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3D20BCF-8A3E-4056-8739-225601952E4E}"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DFC620C-F0AD-47D8-B204-9B3B204CDAAD}"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A691B07-74A4-4499-A9A9-BD436663372E}"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B2A13AC6-30E9-4CBB-9B5E-7D202B6A767F}"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30ADD3B2-4C5F-4AFA-8467-1F7A35FD61FD}"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6D48598A-3BA2-4E4E-AF68-FBE6CBE78CCF}"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DB68D7AF-0093-4CBA-8502-37AAF8D2F133}"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3E05CCB-834E-4C23-955C-388C959E927C}"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C4DAA6C-6773-4EA4-9047-20B7B6976B04}"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85E1371D-90BE-433F-950F-71A8D1AB1A46}"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6DC18433-FBB1-49DC-9818-A6C155670D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7AD9662-BEA0-4BAC-A3A5-3358B29DF37D}"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BF34C72C-9C02-4D25-A682-DAA4F32E0450}"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26D62B4F-B9C0-45D5-8301-84933BCC811D}"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71429680-4AE5-4642-A5EF-5A989DA32308}"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7B05514-3685-4499-815B-39071A3FB293}"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F30C7FC8-D22D-44FF-8060-0CA32C3FC533}"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B36A7876-5D71-4381-8F43-DFC8072B3009}"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97BA1F59-6372-4A2A-A430-EF82BF4D0B09}"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AC634ED-8ED8-4F78-8458-BFE5BA1A36B4}"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7C80E84-817A-4EDC-91A1-DBC4F3B496D1}"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07B4B2C1-C769-4AC6-8731-0F7E156BA2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E20057C-A4A7-4AFC-A1FD-B2E5A05E02BE}"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9C60A80-8A94-4BAE-92A0-9020C13ED066}"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6BA239CB-A597-47A8-AF13-DEA104C34F8F}"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D19B651D-5446-44F9-9050-A2B9BE363F1A}"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C7A385BD-F1C5-472A-A2CA-C32A540A4480}"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021D4DA7-A051-4F7C-A7B2-F6DDD400AB8E}"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F2107EB9-F16D-4AC7-B00F-2E6FBB359349}"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D736C85E-DFB5-49BD-877A-9281B00AA65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432A22F8-A84B-4FAA-A9C3-0C63EB6C217D}"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973A8C21-2986-4A6A-9416-53ADE12D59BD}"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FF022EE-3C6B-4B05-84ED-20EE61911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248C158-8E42-4C00-9564-47A30D37390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0E1A39B-248E-4F46-9B02-7455EB3E186D}"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60CC4DC8-0EB3-4E0D-9DA3-512A6D4D55C2}"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81121FAE-0FC5-42D0-BBA7-A8A99DA23A29}"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9195992-9D63-45B5-A2C5-06E8184A78B2}"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975D46DB-9862-4706-9309-FB77669B0649}"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642C3801-09BA-4A54-B92A-2EFA52B5341A}"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BE1E3C88-1992-459C-8EC6-A4DF98CB79AC}"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73E07E5-BD2B-4EB3-B8C7-55988FDD451B}"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C687D4E2-DF1C-407E-8D97-6B223AAFB8E0}"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A9BE834-7A48-4DF5-A549-455C0EA91DD2}"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6C024028-C960-4E47-9BCF-61E635708A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19E0202-3987-45A2-B198-BA6414CBEF2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B09F1BD7-3065-49B0-954D-79DFDE82BCB1}"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A838662-130A-4F72-BDB1-96BC9920F07C}"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6FD69B3-2089-40B8-873A-2FC34B4B2404}"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5931C62-3436-467A-91DC-C40BC74D4300}"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DD31CF6-505C-414F-93EF-B35521437D97}"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BA51D88D-9ED5-44EE-980B-EF1C4BA2455B}"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EFD8A4C5-65E4-4C5C-8258-19D5D86CBBC8}"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C65E1A06-2792-4BA6-8ED8-9B999F51818D}"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3F67D698-BE98-4D79-9BCF-EF27D2E3F4C9}"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92F30FC4-2008-4484-8788-0AAB66C613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888E550-A930-4AF3-8869-C9FA960A78AE}"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138E8A1E-10B1-496F-952F-F27B83D2D3A6}"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65A47EA3-B053-4983-B9C5-96D53BAE5AEC}"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3B9CE3D4-DFB0-4538-9987-33AAA0E2BDC2}"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803A4ED9-78CD-4906-A902-DAD9DDE82E5E}"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7329866-BCE8-4FBE-95FA-1A9CC7CCEEDD}"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10D159C3-CB30-4D54-86FB-CDB21E2BE4A3}"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F2C01FD5-FDDF-4A65-AD2B-0F09B94F184F}"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AF0D1669-A1EB-41C6-B871-A99015CB3352}"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342AE397-3A8D-48FC-AFDF-3895106341E1}"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00D8471D-2A5C-4512-85CB-FA882D0EA1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5E33072-AD1B-4282-870A-7C6EEE802483}"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18697AFA-C3CF-4AEF-8ED3-214C428198B2}"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FF595227-4E26-47EF-B5F9-F1C9655EF5D0}"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8D2C06A-FAF7-4C3F-B79D-CC706BF1F9F4}"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2DB3CB0D-EB86-49BE-9765-32B6CD190DB7}"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B96C1A28-DC8D-4CD7-86ED-2F207A33CE57}"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922004C-53B9-4772-8234-600A4B6A39AB}"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037890B1-32F2-442D-B77C-50861D8066D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740AFF4-F86C-4034-A69F-CBBA5B05499F}"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58E8DF37-8527-4414-BD7C-E665EEE3A90E}"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1A44A3CA-CECA-448F-A5CF-957DEF6188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B9BD797-5FE0-4193-BEA0-923632622915}"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0C77652F-6FDD-44C9-911C-6CB26E853655}"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4211A05A-926E-4949-84BF-6AA237659F2B}"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2F678446-86AD-43C8-9D12-32FF169E7AF0}"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0911BE7E-7D67-488E-9D15-82FEF019CFE0}"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F4F5D092-E28C-4694-9F5B-6050043EE29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D22E8B3A-8209-411A-A462-CAC2C814E7AC}"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A093D800-10D4-4FEC-8CF3-9896130340A4}"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71064193-703A-42B5-9293-5314EDE6A689}"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4454EA1-1840-42E2-AD22-A4E3A4EBC907}"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7FCD0B24-35DA-4241-9AE5-31D8579A8BD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2B469E4-1666-424A-AB03-A0D70584D69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6DAF06F-D97E-4595-B4C3-849403016554}"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584EE03F-B72F-485D-B44E-50B71CAB1C3C}"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17C68ABA-4493-43B7-9BF0-FFE49E9D3459}"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01444784-946A-4CD6-B5B1-AE75AF2CFEAD}"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88E68BD5-9934-4606-A82C-9E1F5AF1BD9C}"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A807F580-8143-4806-A051-06889A27C39F}"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4C6CD491-A085-45B0-B003-689406EEB60E}"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36B5E1C5-E8FE-4D25-98A6-797E00D01882}"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6DBE5E20-7FF5-433E-AFFD-91CB5733584B}"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B19479B-DE11-47C8-A6ED-6F4590B3148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A82F372-491D-4298-8235-9AAD5A860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EBA34F5-6152-4315-93F6-9973EF1E5A8D}"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BD9FBA05-7824-47B8-BD4F-2E2A12E2BDCF}"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8A9B4015-AB49-4108-A383-B68504242D73}"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B5F87E47-5C32-403A-8033-38E3222BF9C4}"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F2B3E80F-4C0D-409F-A079-D6EA1762D077}"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C8350495-5CD4-4904-9DBB-04E0820E24F4}"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88F16E79-76AA-4C56-8394-4CCAB475BF89}"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74913FFD-99CB-411D-AB3F-055E6C8B9A10}"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5D4E6EA4-EB8B-44DA-A78B-E3D4EA98AED8}"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A7F8D42C-CEB4-4238-A8AC-FE6940563F7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2FF5DAA-D841-4794-AC81-43A87CF6D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7493FEAB-57CB-41C5-9D4C-CECFBA93CF9C}"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D7B3B3BB-C8D8-4CE4-B76B-A9A1CED79DD2}"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1587DCB-68C3-4486-9349-91DB6192B461}"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39DC0B1-2306-4773-9EEB-F411B86C27C5}"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0155106F-06A3-4E04-B4E8-7FC66FCE1580}"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B40E00BE-87FF-4719-BBDC-E509089F6943}"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CAD0DC44-D8FC-42E1-A0CD-A1469C13E542}"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32248A60-9B8C-429B-824D-34B023BAF937}"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9A723BF3-3D48-491E-B1F9-231E25CEA8D3}"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7005CA36-1B41-4BCD-AA32-C1DF213FE47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6885A28-059C-4183-8F72-F1D9AE0A0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3140A0E9-8AD7-4635-BE27-9B396807D67A}"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99505C8B-A251-43E4-820A-CD0CD63D74B6}"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AEE74F49-7121-4B2B-8C68-D8522A79FC8A}"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9CFD546-FFD4-4B28-8339-1A773F633A5A}"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651B2D4-8727-4CDB-A8D0-E6C3BD76A888}"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4266971-CE50-4672-B8C0-25FCDD687893}"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4785CDFE-1A69-422E-B796-6E7AB54C94BE}"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36C34E66-859B-45BC-B235-363FAF6D8DEA}"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BBFF7EBC-CC38-491D-AC4A-4E3CF1B65E89}"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A2F14C7F-D30D-44C4-92D0-D66CA10EE1F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ABAD679-ECAF-4DD9-890B-020BF39F0B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37E6432D-E314-4B97-ABA3-573C9E57107F}"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B9FFD1B-3B07-4D05-9EB8-EAB79930C3E3}"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151CF134-2833-4FD4-99B2-648E71D5701E}"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439D2BAD-4398-48E8-A02D-698A964DC108}"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DB1DF697-0021-4C81-94BA-D00BC049F530}"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F78CCC64-1B90-4CB4-B999-8687D01EA31E}"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67C2F34-4256-4123-AD78-04F4A06C9DD0}"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9755C4C-0969-4342-8CD1-7B3A8A220C3D}"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AF2DB194-5FF6-4EAF-BEED-CC891FD25A73}"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A678F68F-B1B1-4DBE-BCBF-B0A80B64C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3D3BFB5-A5CA-41A6-814B-D0167508AC6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3FF0478-6EFA-4282-B9B1-D59663E76C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21569C52-641B-4021-8C1C-9BA2B6AFB510}"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0F74C769-D5FD-4CEC-8CF4-448996C0CEE1}"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4195FB6-EA09-4028-8BEA-78167CB2BDB2}"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A0F368F2-2783-4BAE-9E0C-38133774A546}"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A5BFEB6F-9A96-491E-896E-96F045110CA6}"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C83DF042-19C3-40D7-A229-7F525FBDEA5B}"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26DEDB6E-EF30-49C3-9944-F8837312BE1C}"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00B79718-F757-4446-9FE6-022B900CB4C0}"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033894BC-934E-4001-81A9-3FEB919C9AFF}"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E656CA3-35A5-4FAC-BCE7-27FD3E676D0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5EA9009-2899-4548-A752-C63383CE5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3C17FEB-B1BA-45B6-8DAB-3C0DAB98318B}"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A424A4DD-C36F-40B5-A7B7-B85E71C9F165}"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CDF275FB-0199-4893-A07D-95735CC01EE5}"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01C955F0-DF28-432C-9680-297641849ECC}"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A976007-CB86-4928-8DA8-D9AE748FB875}"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D4AB6C89-5DE7-4A37-BD0F-7FF50EFEF283}"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B63AC418-9D9D-41C0-9184-4B56C4117BCA}"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E9FC5590-0ADF-48F3-AB89-F989B96B8DC2}"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4FBCB84A-060F-439B-A54C-DEC4B2860851}"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504A3B4-56BB-4FAF-BE1D-6265D2E7C83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AD74100-3910-4AA2-A968-FCCBFD01E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D5B0BCD-6D82-4BEB-8EAF-364B56520FC6}"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5C71B96-4DC1-4B99-8121-3FE3B34AA178}"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625CE3DB-5147-4A0E-BFB9-EC2F1824260D}"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82499E72-7BAA-434D-B6BC-9DBC6DA1155A}"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1A4BA2B3-B145-4D9D-894C-D0EB32240D01}"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1F43C131-E729-4745-9BFC-425972FC29CE}"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DEB7DD22-6429-4FBA-B576-E4503D86D3D8}"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EC77554C-A66C-4521-B9FC-85AEE3EED465}"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9052F64A-4EC7-47C4-8A93-0D99A4EF56F8}"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34F0D05D-E518-4DF5-A2E2-A328042E9F0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D812314-69AC-4381-86E7-EF9BA7F42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3AECE5E9-E4AD-4CC1-AC3A-C0D8DC7BB655}"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091AA1D8-6E7C-4210-8878-5C26A9DDDC4B}"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AD94FAE-AC0F-4414-B440-EE7BD4946FB8}"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44F0F905-5642-438A-9E43-BE7AC890D96A}"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7D3C995C-B667-45DC-BA0C-0FFE5BCEBE3E}"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54582B67-38F6-4275-8D5E-5375AFAEE30B}"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96D41D97-6159-4263-9E2A-DC32DDB91CD2}"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EFA0F55A-9197-4C31-A6AA-CE1B49D51B12}"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AD328450-1AFD-444D-940E-C186511F438A}"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776D7372-A3E7-4239-86C0-C7E11EC0415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25C9663-18BA-4A0E-8848-49ABCA08F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2058E1D6-957F-4E5C-894B-8D68B65811CC}"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E8C6B013-2B24-4071-8025-BC02C84EB3C9}"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EB9C8597-71BB-4228-8423-8597ACA23A1E}"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37F008D-FAFA-4732-93F4-41D1226C5AD8}"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65C1A46F-9939-4589-BC89-640A1E278307}"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60A9EA3B-E279-467A-8E19-9174E7D986FD}"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E8093585-9345-4153-864D-A70A55291A9E}"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4DB64418-6FBE-4FD5-B90A-FAE923D980F0}"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61912F55-2F5C-4821-858D-806469745AC0}"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D64056A3-CFC6-477F-BDE9-55596F61E47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65B5059-D372-43C5-9509-BFAD91B2A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9CC5FD81-B2E7-42DA-A962-E066233B2722}"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52939463-8843-42E9-9130-1906EED35A2C}"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7EE574DB-309B-4302-982F-62EEC36D6E2B}"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B8E5964F-3FD0-463C-A8EA-ECA9E68837F0}"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F5049D4C-C52E-4279-8A86-E5898A4E9278}"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329E57A-50BC-4B2B-AD03-0BF81A46994D}"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2C1F4E3-83B5-4397-9AD1-93BCC34F3EF5}"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05A6B674-FD23-43FC-B22C-4C2793F9CE43}"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5275DDF4-1282-40BB-A798-9C5557ECC1CB}"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6DAE857A-81B9-4B97-A1D5-9C052D0A327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1D044D0-0BA5-4B57-8506-742CFD1A860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DCEC917E-C53F-45D6-81E9-67A22D7C4909}"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F90D7827-84E3-497C-B418-34ACAF7E0CF5}"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06088E73-FACE-4296-81D7-BCCFBB7BA14D}"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CD7BD647-2D41-49BD-9F5A-7A35601E8816}"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D20A817D-9E4D-4926-9BE3-18AE6E19EAFB}"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74822282-94E3-4906-B487-B5AC3DF81FBF}"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60FB229A-CF88-4ADA-A9EC-394279779CB6}"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B07E0E2E-0DFF-46A7-8CD9-D348F1FB7B22}"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0639510A-BE55-45AB-85C4-8739A43BF2EB}"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83C2E4B-6CD8-4270-8002-F1E6022052F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8FB4D35-CF2B-48CA-AA28-0E91C4364E10}"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CE4084D7-E208-4508-AD44-03EAF3B975C0}"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1CE94A57-BCC3-4442-9BF6-C433673E8DEA}"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39EFFE16-967B-4F5A-B47C-D6EE711DB35B}"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A827FD39-BC6C-4FA7-ABC8-6FFD08B22BF9}"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872C3BD0-8F9A-49B8-9E91-DADE65C069B6}"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157C45F1-8EF7-4A53-A780-79A613CB7D86}"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2199DA84-2DB8-4BBE-9448-2AB18F6932B6}"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662450F4-D9D6-4FDC-A238-83479B037892}"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F46064B4-D5C0-49C9-9A30-AF57DA053C09}"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00D78B26-C007-4199-97CA-FEC4D5F3153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DEB86A3-442F-41F5-845C-EE1B9938EE2D}"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EB7ED7D-9A54-409D-A9AD-A1B5521B81DD}"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14C0871E-1A2F-418F-B48F-461E3E399747}"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0E32B088-72F5-4BD6-AC63-5B95DE00C364}"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4E395A40-B876-4067-8499-64989F1764A4}"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2F7F2338-7574-4890-AA81-F53DEC31C229}"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17E1533B-4E16-4993-BA71-456D4676451F}"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DC3C32E-E51F-4D07-98FA-C4CC2A19788F}"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80E3075-AA32-4117-B96D-1EC07D6D3813}"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A32C201-ECD6-44E3-A3EC-0B94BB126009}"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2F7A5B81-8F3E-42F7-9625-F1C08CC734F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65CD1DB-0252-4C1A-AECA-CC1DAC57AC01}"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7E1677AB-148F-4D7B-9B3D-55335B5B7A59}"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AD1DFD9A-4494-4769-8A25-4DC88D88E332}"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99EF4068-D288-4EFF-9869-57B37547546E}"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09CC6293-B4E9-4B53-AFD0-27F90A48C66D}"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312CA0D-1A2E-4584-BA35-CBA4434A2E1C}"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10D50F27-A9D0-4774-BA00-B6F2D0CB3D81}"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35B94094-9F32-4B84-9081-6454716E3262}"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B1E0A8AF-F976-4C04-9037-38829942FAC5}"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B65566AF-05B6-4833-9894-CC59814108AC}"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8E35E058-7FC3-401B-8FEF-A2C4A2B90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3F4F71A-9D19-4639-B36C-1B250A3A35E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389A4CFF-E814-48E9-91C7-0C05A2ADF6D9}"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9BFC736E-D400-469E-AE18-B07A4844194C}"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19CA6BFF-8167-4BD4-AA9D-618A656EA077}"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0D7FDCC2-3A14-49E9-BBD5-2AB29D4BD994}"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11CCC66-57FC-4794-9635-721056EEDEAE}"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109176E9-40C9-41B4-B22F-CF311FBA4998}"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452AF907-0E4E-436D-8EDA-C789C9C24020}"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ABCF7730-09D7-44DB-8359-CA2C053657CF}"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92FCC0D5-EF10-4BBE-821A-5D736EC4997B}"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2795CDCB-4CDA-4474-8731-777F1382FBA3}"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603868C3-89E1-4E3D-B735-9D52B2E8D7F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E447B441-0695-4CFE-9F9B-B062C210F972}"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41DD4CE4-8A4C-4D50-A8FA-85AE858C4219}"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724C243-3845-4D28-96F1-E6D962739BFE}"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4DA11505-E939-4399-8DFD-C9A4FBAF0629}"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6C574EAE-2FAF-4E9B-B747-ED483100A5EA}"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72FF8896-7FB9-45E7-A0FA-5631DE459B6F}"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0A66C009-9137-4B3D-8AE4-983F6D8BBAB4}"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281D196-B00E-46E1-852B-950E80D2E093}"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6A43510A-BE05-4E88-931B-0E28FFBB18A5}"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A05FDBFB-F58F-4F50-9262-9C481377B39F}"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BF5AE320-3E46-40CD-842D-CAD73191B57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E381DEBF-DD47-466F-89E2-2E0A4E6D72B5}"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BA85C2AE-EEAA-4964-965C-7889BD0AD375}"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D5C67F5F-27CA-417F-837A-AE5A902A6319}"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B29655AF-C440-4B53-9EE0-9848FB66B8E3}"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762BF3E6-689C-41C1-948E-3EE598ACA96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65C1F78B-5131-4FCA-B443-F1DE41E3376C}"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799688CF-2900-4C40-BA8F-9004922C1560}"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F094A83-190B-4553-BF02-B6028C888926}"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A63175C8-32A8-41D7-8A82-F94F30B62AD7}"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7C359C7F-201C-4023-8F93-9173786E97AA}"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0DAB3A29-2055-4B44-B840-507D780E2F0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407D376-CDD6-4B43-A747-FB7FBC141321}"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AD8BC09-4BB0-4E81-AB47-1EF53D324259}"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205B323A-9171-4B89-B400-1B1F0742662A}"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478102F3-AA8F-4523-8522-234FB8E3D822}"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7E02F880-AA3B-437E-A625-5A3B27DDA36A}"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289D1F3-21C0-45C9-B424-CE06EB6A34ED}"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49996C82-F899-4760-91FD-EF8351E079E1}"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EC1BC6A4-13CC-4ADD-AA3C-55EBD024B6C7}"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4A057C65-D5B1-47A5-BB57-04DA38F833C8}"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8E7DAC74-EF14-4D81-B15A-EE599741ABF8}"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3ACA279-04B9-4B69-A128-9B2DE8BFC81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0B1FCFC7-EC10-4FF6-9586-7D51FBF9F9A5}"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6F7A5AC-766E-4A49-BCFC-81CBC7160C2B}"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1374645D-9FDD-45E6-A220-8D8524212860}"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FF7BF28-399C-4A6A-AFBD-7812BA10F706}"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4134F859-32E0-4239-B732-556900DF5548}"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3DA1F4DA-3EC9-4066-B970-04900AA6882E}"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2CBFB33A-2297-4A87-8C75-446EE6B38C95}"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53341AF9-46CB-43C0-8E26-E66357BC61DC}"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1BEB9C87-B31F-426A-82DB-76C03622E68F}"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316695A-0B37-471D-A8DA-BE00863A1E71}"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1F71F49A-92DC-40F5-A1CC-8A5B672B8D2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0692B7A-E8B3-4CA5-812B-D87B9BA06236}"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C97BD492-215E-4EEE-9B73-C706A44E2561}"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59A3E99-0CFB-4E9E-AC76-27BA1093E154}"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8692004-16BC-44F2-865C-77778E275617}"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9523DF9D-890D-40E1-8448-2AF6D939DEC0}"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3AA2EF42-8D4B-4514-A159-32F883292631}"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0026A453-C390-49E6-A150-E5116B089BAA}"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6B126A2C-CEF5-4572-866C-156588D5F2F8}"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7D5D2DF4-4220-4952-BE0A-F04820B02833}"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C7217EE-8AFB-4457-B00F-F8D99B396295}"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2AA0CA94-9707-4902-8B9A-BE06CC116B1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E71A157-E6E9-48BB-BDC8-DE96AC5D6A8D}"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D8D48EE-87DD-4282-BB61-20FE14711FBE}"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F61E205D-8613-4A38-8B45-15A533482172}"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1CFC3BB8-0DCE-4F0E-B4B5-B687D1793752}"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30D4FAD-4A12-4CD1-B214-466FB226D2AC}"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8F19F7B-1F68-4C94-8AA4-915AFA45F840}"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B2BFAAA-DB9F-446B-8C70-3E0B2200F824}"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AF845DF9-DD65-4DA7-B42A-AF3A51A6711D}"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366C2901-B3A8-4DB6-948E-B532AF26C416}"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9580E2B6-AC6F-4624-8978-323DB3DD1142}"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D7BE302E-F0D1-4EA1-BE35-8200172294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C3C37A0A-4910-4062-8080-1ADEF50BBCAB}"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89C20E20-FF04-49A0-BDA0-495912E6CF21}"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B7E57F0D-F302-48FA-8680-CBCA8F208954}"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D75EADD7-6702-46A5-BC16-CFC9C22B4195}"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14D8DCA0-D1BA-40A0-B145-C01DF75B4D76}"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593EB7B0-FB2C-48F4-964F-970E93507070}"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44F6CD42-8529-4EE5-8355-1E127C591FB3}"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3B60E597-C2DD-42BF-8987-7DE60FAA4037}"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6F0D0E6-B9BB-42F1-95D4-69559C7BFB94}"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B5643A64-DA13-4E28-B1BE-34E86A54EA4E}"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4288762D-903C-4FCB-A4B9-CAFBAACEB0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1D070636-6BBC-4A02-A738-412B093ED384}"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64E5E15A-731B-42BC-9ABF-A1083B61E939}"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E50E457A-36E6-4622-BAE4-7A9A8B4FA452}"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D86EAC72-CA8F-4C94-A711-6B0DE68E9D13}"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FCD1D1E2-CF40-4372-BCB4-234DAA094CFE}"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3EEEAD0E-B189-4AFA-B014-CC11A705C953}"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18F7FC25-BFB6-4BB4-87DC-286298E1CEAD}"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7E4C316F-FDA5-4F6F-9F85-5C47B60F5147}"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D8E18AB-E6EA-40DB-9776-6E09010A48E2}"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19872E9-FF5A-4D87-984B-A357482C149A}"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BC3410A2-5C68-492F-8235-E98CCEBCA7A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24F9611-5CA6-4408-8ACC-F4E3BECD26DF}"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F6CE082D-40BA-401D-90A3-523E55A81EF1}"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51BB21E4-C369-43D3-B933-9BEBBC0F6CE9}"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DCDAD079-710A-479D-BE0D-1B6B15849D5C}"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6FBB496A-2660-4479-942C-DE08FF439C29}"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25B7011A-E8B6-46DD-9E9F-828A4E8F146B}"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7DF49104-C68D-43A6-972E-344BC6517622}"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80BABAA2-45EC-49A8-9FF5-9174E5363472}"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F70E3BC8-E392-4B59-AF77-1CE2EC9B0BBA}"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9E0A000E-DC96-4119-A798-E42A985F9012}"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447B8039-0757-436D-988A-F722FEBC4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F6FAA3F-578E-41BD-89AB-D084807A7B2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EF66351-2B5F-4E1C-AD78-5B3CACF06B81}"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0EE3F35E-3794-479A-9494-C7119C7B1B51}"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C734F39D-9D19-4E5E-A7D1-699F911E9385}"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FD232F4D-7282-4B74-B92C-D78535ABDAF4}"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39E2C714-68E0-440D-8D07-E4F055A2BD89}"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4E6F9217-A4F7-4154-B820-4E5755F68068}"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8083E469-2129-42AB-8E60-077AEB18713A}"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E978D30F-A109-49FE-9478-7B895AC59269}"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158C1D23-2529-4EC5-BC91-6165BD1FD78B}"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A0CA18A1-3AAC-4AB0-A2BB-1613AD7BF486}"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EEA57114-81CE-47D0-A6E4-A896ADA463D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1ACBB63A-243D-420B-8EA3-CD506D370F68}"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5AF86DF9-682C-43C8-B99E-97A7D5EF8C79}"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F20B652E-1CA8-4267-8624-22A77252483C}"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290C729-0307-4A74-A571-A42C5327055B}"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7186DACD-467F-43E7-B133-D4AB291A691E}"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45DDCE25-9219-4C5E-BD64-B4C1D8BCDE8C}"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0F515DE2-8C88-4581-9E82-C470A89C66B5}"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8D4ED194-D1F5-46C0-8B30-51A336346CBE}"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83B20B7B-E74C-4DD4-A72F-9A14EA20A9BF}"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46E58ADE-2956-4447-99E1-D8ACEB203D90}"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B29EB7CB-8960-4B69-9609-A832AB988EB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1794D496-DFB9-4E9D-8817-9DDC584426AC}"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4748A7B7-06CC-4D80-AD80-9E5148CABCFD}"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AE0E0781-C91C-461E-B80B-85017836C0A6}"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DBC8A97F-42EE-4A00-BF5F-30E5F83A108F}"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4897DE40-8FAF-4D16-8812-5456C4719A1A}"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4FEA38F-5F73-451C-85C1-1F009B667F32}"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D8DD1EA-73EB-468A-AC7B-AF62FD58B7A8}"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CECE917D-2AE0-4D66-91A7-2C49632B3620}"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7B198E93-FF72-4AFC-B0D6-E567B34FEC04}"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F8B2E6F0-73B3-4E3E-91C1-5C9C41DB7AF8}"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FD689FCC-B10F-4487-9D87-C43BBEAD413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5CA5425B-7853-4EC1-B5BD-380EA9CB8133}"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39A12D95-EA2B-47AD-8454-B76752C5EE10}"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5AA2DD2F-0D8F-4764-ACBC-603402662FB7}"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DD11F557-86C5-48E1-A0C4-DF78B0B6C5BB}"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587A2377-0D30-452E-AD85-19A9CB00312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456BF958-DB91-4094-9BE1-95BCB29B84D1}"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C2D64E31-9E8D-45BC-9E43-6D3115F344FA}"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331D4082-BDD3-4314-A830-D921A08A45AE}"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B3D6FCCD-72B0-4E78-8A8B-DD4A4BE76964}"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61124DE7-E285-4393-BCD9-AA7BEAD2121F}"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AC5E20EA-74F1-49FC-8027-4F0FAC61560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6669CC4C-688F-4311-A2C4-C0A127B4F956}"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46EF0734-A376-47E2-800B-025428754038}"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5A1DFF06-6791-498F-9C0C-2ECB17655AD5}"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1439303A-A45A-4C98-B90D-4074FAB1AE99}"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96486D62-FE8E-4484-B14C-4255447D94A1}"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20958BB1-FD78-40F4-AE3A-63D8D8E20D59}"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70CEF0CE-7C32-4272-AC3C-5DA620ADDBAB}"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6276E0DD-8AD5-4552-B010-A8D37C73A57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CCAC27EB-A2AC-40D6-ADD7-22141D07E8C2}"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84C003B-80C8-4D00-9615-E0390B174211}"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9C200C3E-CFD6-4121-90E4-589C382F1B6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11964F7-AD45-4713-B710-2272A5B91638}"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5BC649EA-868E-4FB7-9D26-16105C91B19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F4BD486E-7D1B-4DDA-8D86-D30B31DA9011}"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E87AB669-23DB-474F-9038-45C1831FC779}"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4E4EB7E1-7398-442D-8A1D-769046975334}"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BDF7F250-A8C0-427A-9C3B-593E7A35A297}"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C9405F64-A1FF-4474-BD28-1418E526E0C3}"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BB26823-858A-4B7D-A10F-01AE23A01B58}"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AEA5A86A-648E-47FD-9150-8AFDDE4B3B23}"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1B41B311-5357-4990-9859-5432B000E139}"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0B14B606-AC85-454E-8AB7-AE7E8900DCE8}"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21DEF4D-CA30-4471-94DC-21F70384D6D5}"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B13B2B1-C791-4B3A-A5F0-F6B0A6003985}"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118BF89-C677-4478-BE1B-CCD1E0E4675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B1923B6-A8F0-414B-9204-4EE702AC5F53}"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DE96C6F5-3029-43F2-8066-F6B10F92E998}"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980071A6-981E-451D-8D87-F09E29C52E31}"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1ABB1BD1-C645-42D1-B3A5-0A2073BDF57F}"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0A45D0A9-BCA4-43FF-999C-8C0E50C8655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1918C9FC-7182-40AF-9B07-4525CE09211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429F141F-DFC6-4485-9C3E-EAB06E0CEA1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2C02FA7F-EB58-48BE-B22A-0092C8C7BD40}"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4CA16312-4139-4F1E-B911-0038B3C7DEE8}"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9CF87CD9-279F-4E2A-BD1D-8881B00B0DD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317F813-5A91-4194-8544-B35064767F1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E80E1628-BA42-4B9B-AC22-7881F346944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B131C53-FBAA-4725-B2E3-3644BD01734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847CD9F6-24D8-4103-900F-954EB036FC5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AA5A4495-86E2-4683-9BA6-B4C294B1475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9D6F0E3-1DDA-4A5C-880D-0B52F85E54C5}"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6F41FC68-F073-415C-AF54-475EF13C3426}"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F7AD45B-8CD0-49A2-9B4A-BD08FA1D88E6}"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2A977268-FB48-4E43-9B10-92C13E95654F}"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8F4DBD22-21B4-48D4-8F01-21CA2C1CCCEB}"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BBE41484-B1EC-424D-B24D-CC78CC28E60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0756D6C7-EA98-4BC0-82E5-FCDBB748F34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2B59615C-75BC-4E8C-B2BE-3C8B7ED8807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7379829-2E06-4309-8834-EDD2D540BF64}"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F2D9CF1-CE0F-42B1-8528-FC43824C5101}"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30EA42A0-ECFC-4146-BC21-93CADFA7D8C6}"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2086BCEC-97B4-4E6D-AFB2-DCCB10396B7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B3E1F4D6-CF27-4D54-874E-075FA1C17EA2}"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E94575B4-498C-45CE-B2A3-60F00374A885}"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F9E2AD86-0D61-4E9C-9035-42D02A4D6358}"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88712F98-DA87-4141-B89C-0FC7249C1A23}"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A4962C4B-6A98-4163-B1B9-8A270BC8F17A}"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ED656CFC-13F8-4DD0-9D24-04AB0AF7F2C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5B13DC6-2E82-4CEE-BFE3-9C38D5998882}"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62320932-6BAC-440C-8524-841AF75B7DC9}"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3D0A5525-A92B-440E-9F9E-D682C30227CE}"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D57BBA3F-1FD5-42A6-9077-FAB0985CBB6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B0C7B4BD-E8D5-4004-83DE-DE4CC644B02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6A331ADF-86B0-49F1-90A2-A319B69BEF7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FB7BA5F5-9246-42F7-AFA5-CC9B08D8D09B}"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004C9E0C-7BA6-46E5-AEC6-B06ACB12F7E0}"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AECF133-F7E1-4D36-8A73-B9969CB01C0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98CAD545-6E85-4D13-8645-CFE7E6359DD3}"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BD941F4E-93EE-4EA2-A855-5CC6A1956ECB}"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F5E2165-4E20-4E19-8B66-D56D9908BBE0}"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0B8FB3EF-5279-449B-899A-AC0E3EC99328}"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17A3C28B-54AA-4E3D-9756-78624F10CA4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04C6E7DC-8230-4DB6-A37F-723C1386894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F7E894A0-AFCE-49E9-8D9E-E46998F0E2D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7F766AC9-37A4-4150-93B7-8F7FCDDA8AD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B5E25BD0-A9AD-4E19-BFA8-AEFD5EC6B39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2A14A7B-CDEE-42B3-93FE-E21BFA381D88}"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4898CF7A-43D9-4DF3-BFEC-7223DA79A70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2C72C9C-22EA-4616-AC9B-E03A5D1CF3AE}"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E838EAC6-E5E8-4837-827C-057E952FC2A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0528800B-C9CB-419D-BE17-F7C1AF7D434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65F3A038-1A0A-4311-BB9E-081586102AA5}"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8665E1BD-A460-4DDE-B581-42B0E982A084}"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9AC8A06-A255-4403-8E98-176A575E963F}"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1AD8E42-C977-49AA-9A5B-9A3028AE7DE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AAFEED2-B8BD-4765-8FAC-527BFEFBC514}"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8DBB1626-971A-4402-8F98-DBA12EE31D40}"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AF24F40C-9846-457C-AEEE-554BEB0CB2F5}"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A731AD2-F29F-4886-8722-F8DBF773513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F9601E16-1990-42D5-A8D6-2AE85DCC99A7}"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B660C917-05CD-4FBE-86A0-59E00DD0E55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D9684C1-E9D4-441A-BD3B-F8F47EB0B632}"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EEBF2612-133A-4A7F-B43F-64228580AF4A}"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1FEE26D6-6DCC-43D2-8BD0-03E1097EBF77}"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4109ED18-EA5D-4116-86CD-8C946AD48A92}"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A134CE0B-E674-4D97-83E8-0933F8E3587B}"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A9EAED44-C313-42B2-9D7A-7F62E0B06A84}"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64A8ECFE-9ECD-4852-85B1-148546592B03}"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5ADCDF4-D3A4-44AE-B537-A677480B48C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28D86D8D-2549-4A97-9E51-3E6AEB7D2E8F}"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C159362-759A-4C10-A60F-F9DEFB91B272}"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293970AD-A48E-4333-9F3D-F51B4EAD49FF}"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E43206C-19C0-4C5B-9565-3AB69AC21FE3}"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5D2DD82-4EC6-493F-BCF4-2FA4EC687E6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2A974C0D-2C32-49CF-A5FD-79EE334565BF}"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805F4371-E5A4-43F3-B228-BB942C7A6645}"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4101F5F8-A745-47E8-8105-04CF6DBB3F91}"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E0F7659B-20D7-4CD6-AF24-15829F8AD46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AFBFA9A0-1B38-4132-9B58-3B53F6EC190B}"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C600DA1A-1BE3-48B1-A40D-78E4D952676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D3F08A6-5F95-463C-B19A-631A143ED77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3155502-C40D-40F3-B52D-4E3B7A3AB46A}"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F11C9146-2F4E-4312-91D2-F55E87F4902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B69694DE-FDA9-4755-B3A4-0C3EA9C591A5}"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2B742269-04AA-4FA9-853B-5797861718E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2B7BABC-A941-4BBC-95E2-3973A4DB3E8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665EDF0-787E-43BF-B5C0-F5622CDA9CE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8C86B82-97F3-41D2-B5E7-EA650AEF0E3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F6E47D1-E28E-476B-8264-D276F408EC3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06C5A22-1375-44CE-8B7B-479EED44234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408EF777-ED94-4FC3-8BDF-BCD238C97DF8}"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D675D868-6C19-46A4-8A74-FCD77ABA1213}"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848A39C3-0A6E-4DCD-810D-4D895175FA80}"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E6EB5EFB-BF6A-44C5-9DAC-C1A580D7BD3E}"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5186C3B-C8E3-4BDC-BB53-6393AA377E81}"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89681121-7EA8-420E-A053-48A90ED5787A}"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73D102D-5EF9-47A2-936C-7708919F1B9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0E6BBE3A-60F7-4A64-B1FE-1C3BAAE5E9CC}"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331BA03E-7E1B-4AC0-8F27-74848C6FB1B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C096B6F-498F-4B70-A802-7AF942FAB6DC}"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E0F665B3-A819-438A-BEA4-BD2AF4F60B45}"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C1218FFA-45AC-4CEE-B200-B2E7EF083E1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916C06F4-CB5A-47F7-893C-843F16776994}"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D91AB9A9-143E-4142-B2CE-EB4892699369}"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B2C2936B-5E30-4FC2-8945-9202E27531B6}"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25F8149A-AA0E-4DEE-83DF-023E249AF6E6}"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D24C64D-7487-438C-8B5D-12B33DD12EA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750E2826-CF38-4CC6-855E-456E3E0758C5}"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904EFD6A-5E54-4577-BCDD-002625DD5D5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2222A3FF-4224-4B7F-A5A1-4B9115FC8373}"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9BD43AC1-EC82-436A-9174-5E63BDACD21E}"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3F9C3D4D-E862-47E2-B2D7-B05712B869C0}"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4A36C4FC-F706-4CF8-B98B-C8C81A2E1F9F}"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CAC434A5-F5D7-4CBB-A9E4-67EF5E1E60A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EABDA4C-BE18-4915-9A86-C7C7420659BD}"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60E81C61-2647-403D-89EF-86FFBE527809}"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6C1CC90F-9F0D-432F-A0B5-115DB51CC884}"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7ADF1F07-331C-4325-8CFE-DF84AC6F301D}"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7E2264D8-8F37-4E50-B29E-78420A68999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3F78248-3F7F-45C0-8409-811671C4B0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EBA31A8-37DD-4645-9770-FAD29F97C90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21D8288-16BB-4F9E-B31C-D645BC81B6F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9732469D-6194-4846-8803-460420FDE88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60B3914A-8854-4753-A35E-EA3D0F7C325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9B499DB-65BB-496D-B78A-05F447C8DD9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C1C96E1-F950-4D7B-B8A5-0873E16A3C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5C91A194-3BDE-48F5-97DE-E33C2E0E212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174BDCFA-D17F-4C59-A570-CF670058112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E9AF6CA9-DF51-4A85-B3FD-AFAC542118B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F62A00A2-E81F-4611-AA16-64A98D4935C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0296A27-9274-4F8D-A306-DEEBB2E11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53F92A-1BA7-4F8E-BF8A-E27D7EEC77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C852F8E-A4FB-41F1-8125-2609BE41A96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908BA82-C0D8-40E3-A99F-5A9B344BD97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56CF032-EA32-4F4D-8851-373BB2145BD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FFEEB094-1574-434E-91E6-145D1F83D4D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2938509E-4EEF-4C82-950C-BDB274BA7C3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DCFE023D-0E3F-40E6-B802-E51E2B22F5D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5FEF82D-8DEE-4AAC-B485-AC56E143F02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2224D915-C9A8-405D-A894-63BE9EEB2B7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85EF844-00CA-4788-A4EC-B2A92EA4416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8571762-3E6C-4EC3-8C54-232071E1A5D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218A1153-1306-4F8E-95B4-C7CD5E2846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1C29AB9-E869-46C2-B8E2-3E5671D5D1F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4FD2C36C-7EFE-4F3D-8CB1-83D40C4F2C5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AB5B56E-9B5E-49FC-9800-20AE83FCE4E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31700D9-2518-4D59-BCE3-68D142E05AB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9833621-DEA9-4FFD-BD14-D409D0988F0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585D307-43B0-4D6E-B20D-66B4A8F5136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9D0DB69B-B427-43FA-9AEB-0632394AA0A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A4CBB74-CFA3-4444-9F39-A8824957819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0A6C2BA-4501-4A0A-846F-4835C81BCFA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57730E4-9663-40F7-BEB3-3FF2B5ECC4C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A137FD6D-66FC-419F-803C-2F6DD8035A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64714BA-11EA-48F1-9EB5-E956DC2FE46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C691117-D725-469B-B6B6-BEEAE0F7C9F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C8FB1E3F-AE77-4DD5-B96B-0B8BC9413DF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71C6957A-F5D2-4C65-924A-3F52BB5CB74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97AAA834-ADE9-4DA6-BDF0-F0571176E95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7E00120-EF48-4A47-AE6C-B7589E05BD7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860677A-9FAD-4509-A6FA-818F0E28F7D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9BF187F-F3F0-41BF-842D-CA1919E610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076A29BA-1041-4FDD-8027-31F80A5F51D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62980E8E-D796-4133-8002-CC5F254A0E0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D2880A0-BDD1-4A89-B61F-2296E7A52F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422CEC7-E581-43C0-9BDE-083CE14D2F2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C7E97BE-BB7F-4848-A324-40B3E0715D0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E5D57A7-98AA-4ECE-8BDE-F2AA6C23C7C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ECE45A7B-5B49-4680-9236-CFFFE3E43FB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1E26784D-8B4E-44C0-9456-F75D97FD327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82A814C3-3D5B-4798-862B-C914568EBFD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8E482DD-E513-44A0-9E84-5D19191D513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6DC5A22-C662-44E6-9B7D-AA1063F204A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DCDACBA-1B21-418B-8538-217BF959415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9D4BC3BC-0BDB-4B0A-8AC2-B5442B44F5E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EEE4C840-D601-4981-89A8-EC138EF982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85F7E99-6651-4F82-93E3-F52094C4BA2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825B34A1-A26B-469E-A2EC-97A2559126B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F2BF78D-E0B4-40F7-8259-3911E3C83D4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873A015F-EAD0-4BD0-867D-88959482C29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0FD6CDA-2085-4DB3-9CE4-BB0BF1A9560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CC5FCCD3-F540-4732-8ECF-87E35BE1198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D2B60417-158F-47A1-98B6-BB5B9BC633B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50FBEF3C-96EF-4EE4-9A1C-2E4D2556301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CC84D299-73B6-433C-AAC1-D6FE4549EDE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8B8591C-D0A0-43C0-915E-BCDCE5C6FB7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34CFEC02-36DC-4105-8FA4-1EE0D75BDC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9D2FA1-D682-4482-8B4B-408DB46719A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E1B8353F-6247-4E85-8553-3D74DF7EA00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7E4C2143-D52A-43EF-AE8B-690EF39A9BD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F25604D4-1311-49B0-B0D3-E6B7C60993F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5D917B9-2E37-4529-9A46-AE56156AF25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7B221A57-06B3-443F-944E-592E87FE570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7EFF876-0EB3-4ED6-BB2C-9D16ED60341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2A7110A-A6F2-49AE-8934-F78CC100AC7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D82F0093-77EF-4456-A026-788880F9A9D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4EC61114-D650-4101-88A1-414EAA26886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2FB41A8-C371-439E-B378-4DF612972F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4E5339-077F-4DB9-AF6C-35935A67207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EC95299-D573-47E9-9280-31D6225F979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960535B-A1C1-4F41-B608-93C0562536D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5878A1D2-7CDD-4E14-BFCC-5CA0050658B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E582F2B3-5DE3-4390-A704-3C7EE51FA5F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F711FB88-33AE-4A19-B184-4E39949E7AB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CA4C8DB-C60F-4A65-B947-B84EB34196A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8D5EF73-EAB8-4373-A374-050A5071BF4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6C6EB471-7507-4ECD-A9A1-AEFD4786DA0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579DB45A-5D17-41C7-927A-F926F1AC55F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7786796E-4383-4028-8CD1-5224B3CA0E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D6BE7-8D9F-4BE9-843D-CC95A183237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5AF4C3AB-BC47-4454-89DC-8C2C677FD94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DD203D9-1DA3-4507-86B4-7969A75662D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D08BCF1-5514-4FE9-85B2-EC148B74EC5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FFBBAA52-0158-4BA2-BF6A-2F5439F36E4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1D3E38D2-3DDB-4E55-996F-3211CFFDC58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326BB1F5-F342-47B4-A352-37F7BD37A54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EEDF46B-9901-4605-AC11-9E3B700AAD8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F89F45E-BF4F-49CF-A01E-F634C51607A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38F3B77A-4E94-496E-94C2-BAE63A2612D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622A0F0F-E602-4FAB-AB92-E1D148A496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75684A9-6AD4-4831-9B8A-5334EB4B6AD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8E326ED-B39D-496B-8CEE-7121B991124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31428B03-39A9-4ED6-9CCA-0ED74064560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0224CA01-A67D-4BD0-A1C1-AC3AB794A6B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AB5F095-F1F5-4E5F-B32C-5C7E90BBACE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7C8615A-2387-4511-A134-60AEC04BCBB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39C7ABE-EB37-473A-B6B2-1DA607E3D18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A9E01D6-EA83-4FD4-98B1-69A0B81B988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40A80EA5-DA1A-4DDD-8B67-41F665F8A30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FBF6FA78-C778-408F-B244-9D5593DFA69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96F5BBD-3251-4838-920F-782CF2D6CB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00F8A6-9C3D-472E-B3B7-B97C9AEE35F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AEF03CAA-6EF8-4B0B-AD8F-6E40EB9FAA9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BB6DF61E-817A-40F2-9D40-7FCE6BBD413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094E691-B08B-43FD-A133-66DC5DFB94F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48ED25DB-446A-4CD9-AA9E-4F719E5B2D0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46D7A363-BE9E-4D3D-8307-FF86E174D91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1440C243-B9B7-49B3-9D56-B7384562A2C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F1DAE3C-5B11-4CAA-9FB8-91FCD279A6C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D36B648-DCD3-49F7-B978-266E27DBBEC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0AE5C169-D04E-4809-8EA8-7FEE8A40592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24748553-1355-456A-AD39-92FC066D7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8F85CF7-589D-4BF7-88DB-3E67E4DC58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277D1A2-4FD3-4DC7-AC3C-CB06EDAE528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1474EE8-51A6-47AB-98DA-9DFD9442606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247FE35-DAB3-438A-9C6E-C51849FE271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54B6D2A6-F6F1-476E-9FB8-96F6930A9FF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EC9667C-4FAC-474A-B8AA-74905E5642C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C89F77C3-4D02-43BC-9C0A-1D1FC3CD208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F560112A-0795-4644-B69F-FB08AF63431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8FC34880-247F-4FA4-8D27-A4774B796AD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AEBD6C94-75B7-4F15-A76B-56011201AF2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78B95BF-6A76-4C2D-9678-D10DD75748E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EF126D33-8CE9-40DB-81BC-CBCCDE45E4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7584CCE-2772-4610-933E-4B8B5F726D5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BF5F958-A713-4031-99D1-0A3959E747F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C2D4118F-166A-4C74-AA66-F69153A882B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0329E2D4-3869-448C-A1C7-2A7856C81F0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A136BF7-3C80-48A5-A8DD-521C8C8A5E0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D35132B2-1D1D-461D-AC71-9883D1F3314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3C3C02AB-243B-49B1-8DAC-842175BFB1A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E6B0C3AB-8AC9-4756-A868-F25D6C18A78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59778248-4170-46F1-A982-129ED3D73E1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0F32A64A-B937-4ACF-8FE1-9EFC655EED4E}"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3911AB2C-788F-45CB-B594-633E7F605A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76EC85A-F748-4059-933A-246D33A8C2A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738C899-CFC5-4DC5-ACD7-54F4CCCE754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1A14B52-31B7-44DB-9252-145320351479}"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F0E67422-18FF-440D-91AA-27ED21C1F8B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A1E94BE2-4C3B-4DBC-A881-D364EB1B939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5E123892-32DD-4F28-BED5-61E06804717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FCC6CFC-2853-40F9-9674-747E6F0929F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DB931A69-4677-4BC7-8D4D-017B2361D25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312C3FA-8AAC-47C5-A3D7-90258F589D8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91B7784A-7EE9-47F9-8B38-F60F83FF092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A68DEAD6-DBCF-4E1E-8D8C-8A6A8CA538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D30C40B-677B-4984-B3EC-5122A1A5EB0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CD655C86-5B1F-43EA-A5A0-DFF6C60BE93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E534770-F53F-4406-A8AB-6EAA64C4C0D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D9EDF4E-B483-4905-ABA2-BFB2A44A6E0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AD6C366-B0BA-4C8B-A582-5ABC1EB816C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F9D171C5-8066-4392-B106-A98D8690975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8C911257-725A-43E0-87B0-A35073E0B6F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ADA9BA78-C359-49BD-BB22-0F5D9251025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3B1FE19-2219-4A5B-88CA-232A22F65F8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FE81B157-0352-4294-A688-1776DA4C5DB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3C6F8A5-0D62-4D1E-9D2A-77244DE626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83D7712-254A-425C-BA81-15125E042B9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E85193E-23E7-4783-A5F2-D6F7DF001A9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245EE8B5-1873-4438-8E69-ADB48161D92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54294D85-E411-4F79-B2E0-3CED9F6E4B1E}"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35D8D4F7-4717-44C6-B2EC-80C37DD7E88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79D5226C-9B7A-4FD3-95E2-065FFC937CF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7D06534B-44D0-428B-98D6-B8C530EF3E47}"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4B86C6F5-CB0B-4BF8-A2C6-95E3418521E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54A1DED5-A695-4D1F-8A34-208761243A8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E3116639-8BD3-43D3-A1DE-7C43E248D4A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34B3788-FC69-4D9E-A11C-40A7BA8CDA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F8AE1F0-1C1C-453A-907B-E4F4C3B9246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8D503D81-CAD1-4020-9D84-B5A23FFDC0C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3B530613-1F5A-47E0-A329-695F0A5E1C9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AB8F8F7C-E9DE-439A-916D-8058F79D949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C406B1BE-CB23-4DEF-90E7-D9200C11352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C3E2E12A-87AA-49B6-8ED0-03A49D8FAD1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2A9338E-B467-46EA-A8D5-3E5FD94D891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64239712-FEF7-46AB-A100-C55ACB88F3EC}"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5622FC8-4401-44BE-BAC8-3986C9410B0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BC16B4B-2922-4248-84D5-A9B6444AE30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FDB9AF9B-CFA4-4D0C-B210-7EBCB7D15B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0642A63-8F29-4F2F-9F9B-434975BC909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4EE29EEA-C051-4A61-89DE-66785086549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D14788D-16E3-45DE-A84E-2AC84229FBC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3AF7919-DD50-499C-8A20-6A44A1BC071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21A5FD0-3011-4583-973C-A4376AD4358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BDDAAC84-06DD-4DAB-8913-1B5A276A504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933CB24A-B7CB-486F-9880-3AD42C42F48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91CC0748-C2D0-4717-BEB1-7F89A008A02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3CDE757-7D1A-44E7-AA41-5DDD87D7E88C}"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08B2658-E01D-4171-8341-4B0DA7CBD85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1CC4C09-EB4C-46CA-A2CD-1F58293014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71526C-E519-4953-90FC-556F203F352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573F8C40-C42B-4071-93D3-FB6A5E89660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68A56E34-140A-4067-8B16-E05345C10DE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469154B2-F069-4EFD-BC5C-B59A8941F4D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4A89CCF9-380C-45AC-B362-DF5BC88C290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629A4F5-AA46-4704-9681-2AA4F39C2B4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2838CE8-B9F8-41A0-A591-D4C221F93B5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EE45957-4802-4C27-8832-EFC6C1841E6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7652415B-3A41-4987-A2A5-3EB408B047A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75892C3F-68B2-403B-8A12-E138A43B710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ACF9E1F-84DA-4B0A-B5BA-D8D9B12E5E1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7CCB820-1C46-4B75-8304-4854997BF45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91B7C171-9054-4C4A-A7B9-F7B8CAB2349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3640C28-323D-460A-8570-DA1E5FAF76C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09430E6-9E5B-4C40-A661-99169C965FE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4E10A310-9561-4F9C-94BF-8C6FEDFB411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F39D9FC3-6BDC-40DF-B6AB-23D522E388D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1BD1280-D5BE-4C2F-9308-82768970670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F497869C-337B-4A14-9A92-F51A7752E62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C45D8997-B243-4A6E-A9D5-70435BC63C4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C1D57FCD-9790-468B-AB3A-487B3D695BC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B29AA940-EC52-4B1B-91C0-129ABC8B3F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506359B-F98B-482F-88F9-BD18962FB96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5BB848EB-C5C5-401B-B5A8-E8AE29688CE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21DCA2E7-C513-4535-BC23-5B0D773495A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BB6DA32-A661-436C-9246-3C2F59888BF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C274E51-7002-4F36-9CDE-A23433457335}"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1BF1EEDF-DD4F-4CEE-9645-70B8461EEFB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4CC45128-7EA1-4176-8008-BAAA4881CD1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67D7AAF4-4659-4CAA-913D-529E0549AB5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D02A0CC-EBCF-401E-A52E-B88DF328CC6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7691B55-9E8B-4488-BB4D-4043A8E208C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9DF29736-09F6-4EE9-B150-B5C0C40E9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51B0D35-2553-465F-A825-9C82AC5B11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35DC323-225E-4586-AF7D-173EC71D59A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676A1F9E-2A84-480E-B7C3-AA727E6DA90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6A33F1B2-6190-470F-9C72-80908C6424B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3B5EAC5A-B9E1-486B-A835-C606AE6CBF6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EE2DCFB-E421-4DF7-9E73-B338EE64A40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38A1263-9833-46AA-9ED4-ADA76222326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3BD488E1-C3DE-4533-9741-D16323621BC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6D505A4-1755-47AC-BB64-2F0CB290587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004A069B-4C52-49F8-9364-E2D6C5A0BC4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A454360-2C6C-45A4-B2AB-60E761DE455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64AD4782-77E3-420B-BCDA-D9F39C632E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97BF098-F617-4DC7-BF8A-D355F0884EA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52EDB851-E184-47F5-A2ED-5453FD702EC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727B9D22-18B0-425E-9BD8-4AD9864DA7B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F776ABF2-8B8E-45EC-BB60-914D8606A51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14702DE7-4A1B-4E73-A701-2B450E5C8CA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F41D2469-AC53-41D8-BCB9-7856739F6E1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737E300-B450-4B92-BF27-D8165FE1273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8C2B0BE6-88E6-4EE8-9E95-F29AA0F8972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959D3FB3-FE1C-4E59-A423-95DE2343DEA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2582D3F3-63F9-4D77-8B07-AC147E3E4B3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5B05735C-E657-4BA1-A4DB-44EA9491EA4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36FAE5A-00E1-4EDD-B5A3-9394E89A337C}"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9E3FC874-848C-4297-A0A7-7FC45D43E43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004487D6-C54A-4A81-93C0-E19DA71958E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91E6CC9E-E70A-462C-8252-998FE018502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230BA2FC-66CB-4088-8EB3-D515D9C9C50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C6E1D8B-98BD-4101-AD66-6AFDB93AEFC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324EB30F-F652-4EEE-B6B2-3695AE41F59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F94DFC1D-DADF-478D-A1B0-15951C9B477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84B7FFC-AB7F-46F4-992C-B41D0F3AB5D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E296C52-69BD-4F38-B778-218D0FB6721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88E3EEE-F121-4770-9312-68319AC36D3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FF46BB9-BE3B-4C23-B117-85E7E459AB9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564EFC3B-1CE9-4A49-9D07-6A8BB10C1C8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21BD557D-E0B0-46D4-B9C5-186FACBCC24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C1C46339-5AF4-432B-97EE-BD43B8A518A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01E95C5-1283-49CD-8B71-61CDCD28ACB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F8A2053-7B79-4A01-8EBC-5B717AFA66F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F927042-AB95-4BF8-AA2E-25DA037288D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0E447C7-8CB2-4DA5-A82D-DA7B15B37CD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A20A5F1-4855-483A-832F-8D3A9D39B60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7E4CEF5-3848-4728-8F9E-2CB7B1209BC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620E5C6-4424-4C19-9246-50FE2ACF37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EB3742A-61D1-426D-9DCF-ED56E0A9D69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A30FC09-8B66-499F-A35C-F0FB935DAE0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D1820A1-105F-4745-A575-7B1E814DCD8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B34E1F9-E884-4AE5-BFEB-E493BB48AAB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7A69244-0041-43C1-85C8-D680A172E06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E527BF1-2B44-499A-A8E9-10EEA2B1281F}"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6198D04C-D1CE-4060-A458-6A3D1A6BF028}"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463FF07D-957B-47FE-AD88-F1CF3F4BD430}"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AFAC8D10-8AE2-4321-81C2-08F3C824DF9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8C62273C-36E2-4835-94F1-104818378E6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2E586136-4019-4F76-98C8-837AAAC6E11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652067F-8059-4522-9A89-9859218CE32A}"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A90A42F0-9B2F-46F7-9529-62439B47CD5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FE6A63B-E54A-41B2-B570-608D922B473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62BC547-7E38-4167-9CFE-C8BEB87DACE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F9C0038-9F66-43D2-8375-E33CDE53204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9ABA48A-D1E2-4BBD-A3F9-EDAC841C9BCA}"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429724D7-F94B-405E-BF62-1096907A87F2}"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10780ADD-C941-4C2F-992A-A66845BFA765}"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AAE8978-6C94-4243-8756-421D1DCF9A4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6526BE4-D749-4979-B358-E71758A570BB}"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59D4A92-99D4-4BCE-BF27-CA07017D6DF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E474B38-E978-4BDD-B6C1-415F68DE91D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A279D593-C306-46E6-A13D-21496ABA6764}"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3250CB9A-147D-4BBC-8046-AD17E9D1215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890952C1-43D3-4F59-A912-116455C62D59}"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CFDF69F-FAA9-41EB-B0D8-37FE2580595E}"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125A3A9-782F-440D-9CEC-06AF178E85F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6CFE7E3-AF0E-4AEF-AB3B-AD0DCE4C95F4}"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A53C2FD6-AE14-46F1-84B5-6F46275139FA}"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2C8C8039-53A5-4407-B6BA-7149EC7831EC}"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6EAE8B3B-A8DB-41C1-B8E8-10CC3432427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9EE724A-2FB6-4BAB-8D46-D8D0F4F864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CEEBB0E-9A8C-4047-AFAC-006952817982}"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FAFB4AE2-AFA4-4552-982B-C63F8980A19E}"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F9054245-B915-4874-940A-FBCE6000CB87}"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B38CD3B-D021-4AC4-A5ED-A4330B84E637}"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3EA4D67F-1B9E-4EC2-91DA-673498517DE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0EE35324-6780-4BD3-A1A3-79E934B6140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802F08B-1E95-4F20-A8BE-10E8E59C0D9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F98E2AA-78A4-4F2F-91C8-2ADBB952187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50B22CE-1938-45C6-8620-6603EB12553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E106F66-2C20-4320-BD6D-4470A70B419C}"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DB8888AA-F93C-4FC0-85B8-E33DC74A20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4B8CB28-3E7E-45FF-856B-6D9F19D0120E}"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5CA96C9C-BBDD-432E-9576-044880F5E0C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A23688C8-9EEE-4FAF-AC14-C1A1413543C5}"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18C6E935-4A52-4000-97C6-CEDA8D00F479}"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DD538E4-5472-4FE0-9B64-B047756E74AB}"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4E1AE54-9F45-444E-918F-8588F2CC9EF4}"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01E97BF8-0F77-4D1E-9E20-1C0860E014EB}"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FE330D5F-46B1-4388-88E7-6DAD2F9AB4C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41BC7AF-FC00-4D92-B8BC-1525F01D3850}"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2093B2C-D6A2-485D-886A-0E5C0E7D6159}"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18DA5D54-D410-4DE0-BE4B-534AAE5430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B38A44-A787-459B-BB6C-6B836A9BECF3}"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97302B4-6C27-44C6-942E-B07E3F44CD56}"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00A6350E-7907-4814-BF91-3C2372A2CDAE}"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3B9E12A3-8051-4AC5-BB79-74E6867F424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44DF765-C7C5-4782-A94B-BA28ECE2571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8FE9563-56FB-4BEA-A0D6-6141E3483D9C}"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9E090F0E-FD3F-41A2-B254-C16ACDF88E22}"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9C373648-A46E-42EB-A123-D421A1A9C272}"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28268F15-356E-49C1-8CDF-568A6BF5B41B}"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F85A59D5-8F3F-4613-ADF5-7AAD4987C32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401E4816-FFFA-4A50-938A-541C3D650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447E248-2756-4382-8E3B-55D9FB9FD7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3B93CE6-E0E8-4582-BD07-61EE9B1D818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E7C1900-F7AE-4B64-ACE4-6D09963D0230}"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E6C241D-2008-4BB3-A6D4-EF630C6994A9}"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E5F992E5-4114-493B-AD0D-CBD08EE15357}"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F55CC77F-3A5F-4C38-9D44-6B8F74A2843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1F718C88-CE98-4A3B-8D7C-92F28B13CC0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48B2665-A0DD-40DD-8A93-56E5C714A5B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82C3F6F-AC5B-422D-A951-33BED8EF8250}"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5EB1AEA3-ED1D-40D3-91E3-14E4D01C47D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2602750-5A3C-40F9-B594-37619D3AFBBC}"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2F2AB926-D2D1-440A-A90F-D1B42E728B0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682D032-054D-4277-A078-BB5A14434375}"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A44C548A-FA35-4BFE-9A3D-61017CA6D6B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250B81E-3745-4AED-829C-9E29D69813C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CB59EF46-AAD0-4B02-8E7B-FD9F012FF25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2EA78B5-60E4-40EB-A6BF-A46CE7A7A390}"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38A13315-FD58-4FEA-ADF7-4EB6290AD9F4}"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E9472E42-D2FB-411D-BECF-583B13976DB1}"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9C8A190F-6345-4457-9110-111E1E2AF41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F023DB7-E586-40F4-901E-5DF64C2BDB5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EEBBFA51-8DCF-459F-9DB4-90C4E7C3E06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7D9F49A9-5ABD-4F4F-B3B7-9289C767E2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38FE4A6-837D-4DC0-84FB-CD32895F4DC6}"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7B03F2B3-2DDF-474D-8AE0-B7D9C1BD8826}"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0375485E-CDAB-4C24-B2F1-B5DB8D7C9104}"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103A6393-B052-4E32-B60E-CC5DE3CBEDF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B1A8135B-C02D-4CE5-87F9-0E9DF723D5A8}"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865E9151-828B-4C97-B0F3-322DAD5461C8}"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2FD13B65-18C9-444B-8D1B-041CD9735248}"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1519E85A-E050-497B-9709-EB3EB1DD2B0C}"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E6876B65-97BD-41FA-ACA4-A469FFA8263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8D8E5296-58C2-4490-A26F-A6969E13442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01FC7836-6D7B-4A92-8332-61148EE534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25614A0-A4E6-42EC-A2BC-638594BF1E9C}"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9AF486A6-A516-412F-B530-EBB3D38FCE48}"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675C58E9-358E-4ADD-91CB-0BE0936CD1EF}"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EB4F89CE-5F79-44A4-B7CA-6D9CF2FD9654}"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D5F1314C-9274-49F6-90BB-94586BE2AF8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0B801F63-1EAB-4F2E-B3DE-486E8FA6C55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879FDD4C-C647-4913-B81E-4AAF5D0EBFB1}"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2C6FB9E-C736-4B76-B40C-5538E29F0BE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8F5126A-58ED-47F4-8869-D800E718FB2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165E2E8E-C4F8-41AB-915D-C6E2F73480B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9F596289-8DB3-486A-A8FC-D9CE4D18AD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525010D-327C-494C-9240-F7DE8F35D1BF}"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FBD5BACA-9897-40D6-A907-49F986854C4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4829281D-5920-4B73-AD3F-90C6B43510C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8948003-F737-4FAE-874C-7932C79ACAA8}"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D7B089AF-7655-4F13-B88D-64215062B66F}"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3DB0542-7ECC-4EB7-B924-629FD46DAAB8}"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52313BF5-B680-491A-A720-1A927C09875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E246D62A-6507-4501-87B5-8BD154F8105E}"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8D0D620-B58A-4324-A1F7-C7CBD997A77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61541F6C-9307-4EEA-BE5E-D80DC2C9184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A510E53-7D93-40E2-AE47-35F59A4414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B3ADE0D-BBF4-4C5F-8776-CE9D5AD664A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0AA2BAB-2D27-4E9E-B85D-5131629A9299}"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1DC1EBF0-0F43-460C-8BBE-DA68EE556A5C}"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3964499F-368A-4DEB-BB51-7FE90E3C6296}"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0452A96-BB2C-424A-8ABC-A78B04F0D120}"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1FC4413A-CF40-42AA-BA8F-AD0C86A9EF0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C912F871-A6E8-4D28-B5ED-EDF778613B2A}"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FED8926-E21E-4809-B4F3-541D11FEC6A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815C2474-ADA3-446F-B138-DF26C4C4517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4A6A8C9A-01B6-4F64-8323-ABDEE90EB00B}"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4768337-C5F4-49E9-8192-E50606164A7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4F49E0A-2701-480D-B94F-9F8B54C90AD5}"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01C2295D-1301-45FB-9C1F-7F478767A31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02FE427-24AF-40DA-B912-1FAF6A57567E}"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5C84E6C-3805-4CB8-B8DF-8A5070FA49E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59068EF2-6442-4925-B1BA-1F2FF4697827}"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76A7555C-088B-461A-AF98-DE093F2926CB}"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0D9BB53-2CE5-4E4E-B398-6C375296EFD4}"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8B3C2476-DB6C-4FF3-9836-1FA334A8A54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5C727808-C849-4D17-AD8C-BDDF17174BA8}"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503CCA0C-A7D3-458E-8B1A-BDD431E487FE}"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0037941C-4F2A-4C4E-817C-A28159011A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6A4A825-8F1D-4F59-8AE8-5D14BFA61E04}"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B58A9E6E-F878-4E62-B17C-8265AEE19A8E}"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9D83DA1-0570-4EA9-9C2D-A3526046D4E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8B4219B1-96B0-426C-8617-6C8EAB215B97}"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5D90569-72CF-44E5-AB90-FBFE77E115DD}"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413C2574-7BC9-4AC0-943C-5B1801C2B465}"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2B110A28-D437-44DD-97D7-5896E2EC8FB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25CD9611-50AF-4CA6-A335-AA5D3D3FC27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FE93660C-2D97-412F-8A58-1DF522345562}"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23A827D8-EEA2-4EAF-8106-BD1B90CF1978}"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817EC581-8137-46D2-A9B9-FF8F7F6217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99C6A1F-4E9A-454E-9F3C-667CCEDCB661}"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068EE1E-9AF2-4A52-93E4-B25E4CCF166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DA1A5BD9-CFB4-47ED-9B9F-90704CFEF05E}"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D1642415-9841-4AA8-B80D-AFAD805C5D89}"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9066177-326C-4A78-A9A4-8AA7AB6124A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6E57FDF-1919-4329-A9B5-400570B753C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7B84DF1C-10DC-4C79-B23F-6EF101B80026}"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D5639E84-8D33-42FF-98FD-A2213464E50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C46AF0F0-8049-4368-82A8-CF0CAA2E092A}"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E8345C48-D33B-48C6-8ABE-E9780927C65A}"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91EE9E3-BC31-4B08-8F29-C962A081A54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82D6881-DD25-43DE-8051-A5AD2FA99A69}"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5C694A30-7CFF-4340-AC75-651670D8EAB7}"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13712CB0-F40C-4F78-A0F7-3BABBD8F60FF}"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8BB3FBB0-8A5D-4703-BB19-51903C1C877D}"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A44039B9-16FF-4B5D-83B9-DD168EE825CF}"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093DF96A-B644-4696-8791-6DBFEC8E0E46}"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B2E29F3-0F95-4264-AA6A-CC6E4F345278}"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B9A702BD-74A8-4981-9008-8D130BB32AE3}"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868FE2F-5FED-4955-98E6-1986D5482AF4}"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6CB021FB-E485-43E4-88C0-0C3BDFC7AE8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1B3EFE0-DCA2-4A94-9CC0-C79484B999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1216718-E744-42A2-98EA-A5FACE57B2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09424D1-09EB-471B-B64A-584432F0203F}"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AA8F6481-6345-4BE8-80EB-3FFB86A958E8}"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34AFCF5-3403-4326-A914-B2B932B7D870}"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C378FD39-6C38-4DD8-986E-547DA7DF09C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9AF8512-5B84-4E7B-836B-EFA60FCA8A12}"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18AB792-320A-4010-A4EC-2593F03F8DBA}"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4777A684-4A48-4700-B0F8-B884C9FF291F}"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D68C30F2-9479-42D5-8C50-40F79E6C6F41}"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F5C957E-4B9D-4FC3-8E23-2F0DAF54E15F}"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A019183E-2205-4301-9D76-EFE5B6317D34}"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080DF74-3296-4D07-B71C-2460C9C4E45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0F2D97-A7EB-4880-84A3-0473869E99D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A7E4F5A-8A56-4A75-8215-77E616073F42}"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8A664CD0-71CE-41B7-81AC-6A58812C37C7}"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D5C1663A-D7D2-407C-A405-8FE0F21485AC}"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D8A6B789-0DEA-4E5F-94BD-DC2D8A04BC07}"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9058226B-A7AD-47D7-8A4B-80B852CE0CF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7EED7707-BEA7-4A2C-8551-DB6CEE6CC72A}"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69E4C99B-658F-41E0-9D1A-06E7E5A4247F}"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B01D35A8-655D-485D-B165-ADEA0545EB5E}"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52D3148A-626D-4A8B-8498-32E51AAF5975}"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41B53F53-2456-4259-8EB0-26EDF75477E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54EAC3C-E00A-4F04-BA23-020D28C8FC6C}"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FD8B9A70-FAD2-41B5-8D29-2F89A61CF688}"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F11587F-6DAD-44B4-B8A0-E288CC27FAE4}"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257D9055-1B9B-411E-A07C-F3CB302A1F40}"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32087920-6DEB-4233-9228-0212CCC7618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1CD15E0D-A81E-4A19-8DC6-F21A3C00445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3FCF83B9-49B1-48C0-BA62-2B657F0339B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CBDD741-2CF5-409A-97F0-A5ACF25E41B1}"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F7C3638-A5FB-4633-A82A-A503E6A726A7}"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568FAB23-4AD8-418C-8379-CC4F7B3EDD0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F0DE0F6A-10C4-4C0F-8A0F-CB8676C666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C8BA816-D9BE-48D9-85A4-2CD7BA8D392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6D78208C-776D-4A4B-ACC9-CD93B948F3FE}"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7C31BB95-E953-431A-B313-1C7B0E927249}"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95A01F9-50D8-495F-A7A6-9B4AC496EEC0}"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46755F14-48C2-4225-BC30-816D0B1DA76F}"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ADE41BBE-EB2D-4D79-889B-0D4372C36C3D}"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129F463C-D332-4F95-B6E2-95682F0A2A34}"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BB38B43C-5CBB-495A-8FEA-ABF4D2E8CA1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22C518A-E907-498F-93BE-1304CDB823F0}"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2A6E6C5D-11EC-4653-84C0-889CF1EC3485}"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0D4C396-F569-45B0-A23C-00B21E9E2B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8211524-E8DE-4050-B661-CF7FD885120E}"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8960FE3-0884-41ED-8E00-C87EDFD26CDE}"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8CCE7880-EF33-4128-B628-402A3014269E}"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44B7F6BE-F9DF-43BF-89A6-C5CA0797ABF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757FFC0-0C41-40BC-A389-19337CD5C039}"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6BBE1ADB-168B-4F18-AEC5-968DB670ED1E}"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4BE6F09-9E35-451E-9403-E21315B043EB}"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C1BEC98-895A-4098-B28E-0203D0678C6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3E7D3768-C4C9-4EE1-AAF1-32AC55BF70DB}"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FF47B294-7E6A-499E-BAD5-9CFCDB5856CC}"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5D42EB39-8054-47EE-85F1-10220C806AB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C30F8D6-99FE-46A2-A65D-02F01C2C8127}"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BDC3B533-1E28-486F-9BDB-D594F7A1E66D}"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C0E0B7B7-0318-412F-9E69-FE46DC6EB1E5}"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E422C318-4725-4DEF-9405-000E2E0FC746}"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918F33F8-7FD0-4B13-8A55-9CCA45A6EBE7}"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113DE87-E66A-4BF2-8938-F5CC867C5E43}"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D85BD76F-D7D6-4C33-8876-4E22BCE5C677}"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317C8B03-25D2-47BB-A519-2797D55FDA9A}"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AF4DB9C-9EFC-4BF8-8057-1361D846FAA9}"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64790A56-4C23-4009-8532-15C809DADD81}"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44EF299B-E812-42A7-8E9C-05DDA2A529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F01A4E9-C2ED-4AC1-AE2D-F387940339F6}"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AFD8920D-82ED-4E4B-ABFC-893AD1E62387}"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1F4A63BE-4BB2-434E-8887-ABBC90084FBF}"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98647D51-FE71-4C70-94EA-C27816944BAB}"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C66C9676-ECFC-4FF7-A4DD-EADED3D7E0BF}"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4CD563A5-9A0A-4D09-942E-18A4D4C06F0C}"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980A9E54-8F3F-4F4B-80BE-123E10E4643D}"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78C4452A-0EDD-4336-B69D-5ABC5A1BC4B1}"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7C94A55-3105-41D7-B7DD-D2C118ED6338}"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5A65640-1A65-440E-AA9C-EB81D7939549}"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9230907-3B4B-4046-9EF7-D68068E347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BBCBE49-A481-405B-B260-651138710DC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2FF4228-0B54-410E-AC3B-FDDB89BCFB4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FADDC5BE-3678-4DF8-909E-D83BCBAAF7ED}"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D799E36F-2965-474F-A57B-B594C16418C8}"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D6A18317-8300-47FE-84B1-433D4DDC7F7B}"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51570552-899E-40AB-98EB-508F3DE92D9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EE1340E-B483-4111-9EFD-488435D015D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AAEACA07-F402-4774-8492-1F9F77EC018A}"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EC9AA363-92B4-4CA9-A2EA-ACF37624E841}"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8C7EFB77-E115-4411-87A9-D74E09B90C73}"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0E1E8609-8674-4DD3-9360-0A5871ECB72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846B106-DE53-4FA4-ABDA-9BF03AA544AE}"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E3E6F6A-5B14-4CD4-9B8A-08E12BC5C49F}"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36B24F6F-B9F2-424F-A384-7B54638D749D}"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5D454EA-C822-48A0-9212-BF7E403BC72B}"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89758064-1B58-44A4-B0AA-F9F56A3C0D06}"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09641A39-995F-4883-84F1-0C1F82B099F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55F95551-232D-4A5B-93E8-77410188C511}"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9B81F5DE-E7DE-44C8-9B42-3D615ED1CB39}"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08D710BA-C6DE-446E-8858-FCD255345A9F}"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A01AFCE8-B609-4009-9279-FD01E541062D}"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CB0DFF88-95F9-44C4-A9B4-297ECFF5634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220D5D4-1AB6-41E5-90AE-E119204DADBA}"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403CB1E4-23BE-4294-9D5B-EAA3EF72FC6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26703DC-E350-4F76-B804-A67E62B4AC5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A503807-6A86-41B8-BAE7-F2DED998FF9B}"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11A7C15B-E38D-4500-A63D-73F8D6763346}"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408CE9EB-6859-4C34-85BB-F5702EB479E4}"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27304879-1756-4C55-9D75-39AE79CE1635}"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BF1F0FE4-7F4F-4042-B8AC-92D54E8F2592}"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02AB3884-699A-43F5-81D5-92041FA4CB1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CA51E95C-7DC5-46D7-9A69-FDB6D35CD778}"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695A5029-0C9E-4679-BCA7-6C60C97862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35B2778-129D-41DB-984D-E01AE569AA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1B30D41-8EEC-425E-8AAE-613122DC50B8}"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1A126119-1134-48FB-A782-9AA12AEBBC4D}"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B2D4A6F8-7AAD-4C00-96E5-D24911999615}"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3C47E8D9-C7D3-4D2C-9D5A-D8FBA80B3F9B}"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D31BECF-A4CE-4F67-A8D9-F2CBB37FE0BC}"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77F6B9ED-EE0C-4DEA-9488-75851DC5FDBE}"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B545EE12-232F-40AB-9E73-F5D60A88E651}"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5306169F-AD17-425B-8018-3F9C6F0D680F}"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A5C29986-4D85-433B-B558-5A9436D18A9E}"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40DA9659-5A17-4AA9-A6FE-F5D840B4102E}"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ECFBA89A-64FE-4FDE-898F-5C6F66D7BF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EC73A23-7AAB-4DF6-A714-C77C710D6F9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BB150EDD-8AC8-4BF1-802A-CBBBD85B02A5}"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7E728096-93B4-4321-AAAB-53EB1DA5E5A8}"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3AE81DD-AEBC-4E2A-9701-DD868D8D0EC6}"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E4E0FC15-5C32-48AC-89EB-0ABC43E5D88A}"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FF75072E-91BC-4E47-8ADA-C7F5819F451C}"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D356CC1-6E6E-4E1A-B588-F93A8551BF13}"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6A8ED31-C5E0-4FDF-9833-BFEE3DDAEF66}"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4659364-6632-467F-865C-A1EA2D9BBC9B}"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CC847195-9F58-489C-B6BE-E72EB53E5DEB}"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6CEF2D44-F9CB-4D7A-8667-A31247E8A0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5DB8C48-2631-4D25-910C-1E343B2EF007}"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FB8F23F5-17D6-4FD3-BB4E-A10FAE673AC0}"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72FCA585-135E-41A3-9A33-5B0327BFAB41}"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DE58C582-DC7F-44A8-9BED-9E1C6EEEFD24}"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214D9328-674C-45BB-9D3A-262E559F4EB3}"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E60EE601-F4A9-4C14-92DA-13F87054D97F}"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EB31E5F4-8FF3-4750-8C5C-19B0FD5D27C6}"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DF61D1F0-A7DE-49D7-963E-26368B4DFA3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16E855F8-B805-46D7-AAC5-F5473AACDF8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C2144B4-F078-46DD-B537-9E15757CC6A8}"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F9E8F47-8205-41F9-B22F-D631FCEF9C5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785893D-3E6A-4D19-823F-105033984C41}"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CBC014E4-14D8-4C47-B75B-91EDD5D23D30}"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53F5622-0AA6-4109-ADD4-06B462F31C3B}"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D9DB7604-78B4-4B1E-9277-0E6C99E6BF3B}"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B0F523B5-B079-4EB0-BC5E-72B6FD833D66}"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212110F-9AE5-4F4C-B461-02072C6D100D}"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B165766A-BAE0-4943-9CC2-83C65B3D6A97}"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96371EA4-C63A-476A-8086-16567CC36BAA}"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E291051E-782E-4E87-9B10-CC293E47E1BB}"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5EF9E6B6-D222-4CF5-8095-764CCA8CD056}"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2E5E1C35-19FC-48EA-AB27-DE043879CD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224F081-C095-40FE-A0CF-B83F9947D143}"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1517AB5-E2F0-49B2-99A3-FCEBC87B9010}"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74B6CCC-3A33-4347-B8E2-A84966589C44}"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1A9DBF00-234D-4725-BF7C-C75F0C3B332A}"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AFD5F449-8F91-4E98-85D3-11F64370738D}"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6D74A80-A9C8-4B72-B513-3EA318206FC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3F50DE05-E106-4639-9CC7-34524B4AC369}"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D1E28447-22EA-49A9-94B0-F2206D247BA5}"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C1A5BDA7-B660-4F90-9208-6632941D402B}"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B44B434C-1906-4739-83F7-2490643C5D8A}"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86DE8E06-B9FD-4908-8790-2AFC1FDBBE5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4D371BF-3EF0-4115-B5BF-1414C191525A}"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0A151C45-F918-4A27-AB46-3C3243B373E3}"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4C2FEAE-D5AA-4DBC-B8C6-B29E9DBDC85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C99887E2-A858-4083-968B-8139E2F475DB}"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7E275933-1EF5-45FB-B0E0-B80A2409701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0ED221E8-FC54-4891-9E2F-8A1B6D99C0A0}"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1F391834-2017-4D2C-BBD5-8999FC568AC5}"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0C5777E8-18B3-494D-9FB7-7666BB76EC31}"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A4FE7FD3-56BE-4DE1-8FBB-E71F51F5A46A}"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CC1F7A2D-F057-48B6-8001-D3AA147A4011}"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BBBB6B4-CF0F-4B34-83EC-4C638FBA550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946BADD-544B-408D-8FFF-19A0CEFF1661}"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55D6ECA-F465-4820-A586-F77A26BB5D3F}"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5DEF1031-87F2-4DD6-B353-560CC927F6B6}"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31835D1F-BBA3-45F6-B6AA-D1AA9A504193}"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9B37157B-82CC-450E-B22C-604CF79C3CE4}"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8844B44A-BF28-4981-852B-942D23B46112}"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0509113-C23F-4EE2-A833-DE74F41F82AC}"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10ED198F-F2FA-467A-9EC9-187FA3732E0E}"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A5DAE8C-3F5E-4285-93F0-31092D42FA5B}"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DEBE4E84-81B7-433A-98EB-EC2299923489}"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CB553756-06F4-463E-AAEB-101FBE09153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93DF1B4-B663-42A5-9B49-45B3965505BC}"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510DFBEA-4D9F-431C-8B42-8665BA313CF9}"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42977251-025E-44AE-B11B-A2475797DE09}"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B272A35A-7633-4FB8-AC9C-31DFA9B00A6E}"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670DBC1C-648A-4991-BAD6-699CBC4A13B9}"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5A570591-0D47-444B-82C0-52519575B25C}"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BECF36F5-1D19-4381-B208-281ABFB4101D}"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FAF4A20E-0440-4607-96F0-3483AABD1A0D}"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07888134-7ECA-4620-B160-0507AE85733E}"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5D918FD1-72CD-4BBA-ADDA-A8FC27097FF3}"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60532278-AF5B-4E5B-9A65-465BABE0C49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1F36864-6713-4899-A4AF-6F0350754FED}"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B3BE8A4C-EFF6-4556-A696-D77A21486241}"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699458A-86CF-4F2E-A538-1F3F2054351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79E5401F-E36C-400F-A28C-DE755208F2E6}"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45696A5-9C1E-4908-A5E0-78DEA0206F50}"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FD152A25-33A3-40E6-B857-8AC0D4282FCE}"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A243EA86-C213-4D44-B4CD-270EC90FF0B4}"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CF14743D-02CE-4CD0-9336-C5AD3134D1BB}"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BF260BF-EF93-4606-B648-6DBA65CE8DF2}"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27E7704-0C8B-4DA2-B0D8-0E737A60844C}"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859956F-D51C-469E-BE37-A5CEDD1FBA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C00272A-CA05-4716-9A55-650CF656599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EE3D8A1-A3CC-41CA-A4D8-A815FC18BD58}"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53781D38-E610-446B-AD35-3B4298CD8351}"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24719AC-A01F-4FDE-9EC1-8655BB004E00}"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0732FE29-59A1-4C2E-87CF-3049A0B24EFE}"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D88D4214-94E9-4D88-9FB0-A778DC976A27}"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C2757029-1216-4657-ABBA-8B54FA5D4741}"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B33D53FF-F23B-4BA3-81E2-5B8456165713}"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4B1CBD39-300C-4A95-BF05-D395DE09E8D7}"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596EB08D-FAF8-459A-8058-C07D6428068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419A28B-48AB-43DF-AEBE-BD8F9B4F6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1E2666A-CEFD-47FF-9347-8D6F06DA6D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26D8753-D937-4ACA-934F-778AE471C194}"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C548FF7A-BF2B-40B6-82B3-022A2EB3AA1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21CBEF47-E413-46D6-BFD3-84A59DC18FC8}"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57BDF62E-2329-4FFA-A5E8-2B3FC12EED19}"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E096CF3C-2154-4514-B6CB-FED06082B965}"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8D53FE06-2B91-4BDE-81F1-F4FEF45D76E1}"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2C203A70-23FD-4BE7-B1F2-E4B5CAFFAA66}"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9B28721-3430-4BE2-96A4-5FDC21A03E7D}"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13B7820-4DEA-43D2-8FF9-CF2CC22AE526}"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58190EDA-EA45-4343-A9D6-39D77D020A35}"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088F1972-C94B-464A-8268-1D0CE84DCD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366862F-A45B-4679-8C1D-93DDF5A081E0}"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D6341FE2-B18C-4E12-A957-6E8BDBA1A99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D153D5C8-C7D4-4A6D-A3F3-0F5120B1FDEE}"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AABB77C-5C31-4945-AD7E-153D60BB532D}"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BB21E58-1009-464E-91C5-B7A3556A60A8}"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F09891C0-3593-4424-9D01-5C372250A8B1}"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97E6E9D5-1418-4595-AE36-A597DB8BB9A2}"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E1C69668-AC8A-4360-AC75-3B7BDE0B4C02}"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998FEFC5-F752-4801-9880-85E927123AF2}"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9B21E88D-3BBB-4566-973D-DBC12531A991}"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B516DDD6-8449-4CA2-94C5-08DD8C6339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B79BDE5-8F85-4D4B-895B-8715D99F5869}"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D9B1FB34-CD36-4EB5-9398-4BC7BA7CD51F}"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9FC87E80-7B9E-4D96-8EE3-CC66613CB105}"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D54CA8B4-F2AB-40F0-A1EA-B2552E178681}"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676D6DD1-BB21-4144-B0D6-65B220A69EA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727C56C3-DDEF-4298-8D24-2604EE983109}"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53B8F37E-560E-4E82-ADEA-9CE1D934FBE5}"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25BB62A8-C4B2-433C-944E-2B2509C4AFCE}"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E702D0B5-E187-4428-8691-155E55A492DE}"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FEEFFF1C-B1FA-4F83-865B-9B47F2B2E027}"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3279F665-3F7D-4645-9554-9383C99F9FB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3D78669-EA9C-4E85-BF79-C89652B1FD8A}"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D135CD27-A4B0-4AD3-A655-5D5D1522AE7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D9805622-600D-4D5F-A4F3-A4C645F52A89}"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2F6ED81-1E5F-4AF8-9565-01CE0475E92D}"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8DAC5368-94C2-408E-B4C8-1C2FE3FFD40F}"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8F558E9E-D556-4E1A-8259-73C8A2113044}"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6C65E71-EEE7-4A41-99BA-834FE3910E5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E1A13766-3E0B-4B60-AD29-94C2AFCF5E73}"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563AB27-3A5D-43A0-A697-F0917489F7FE}"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01652AB-7BF0-44C9-92C1-04B2F6AC8026}"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750E6C05-26EA-4C01-841C-CC06F1836A5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1943835-F4EE-4C49-B11A-62BC5E3C60D8}"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64A7DFC3-9B83-4855-AEA3-3255E2A85D70}"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E6BA674-9AF7-45F4-B1EE-9E1D1D0A3F54}"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6B81677F-F3F3-41FD-860B-43AFEC019458}"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2F3EFDAD-ACD9-41A3-87D9-B1BB1452D8B9}"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4FE43A42-64EA-4218-BCB5-8567AC28531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2FCD49CA-7073-4587-9EE0-D18E4DFB1862}"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4C66C736-C3A3-4EC2-9FB3-81064BB721C6}"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BF36437F-3FDC-468E-8793-0A444F3C7E46}"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20B0007-7ABB-4D0C-9945-0D4AC9F7E54C}"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D8B018A-2E6E-49D4-9A8E-6AEA3B36E3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C83509E-1029-43C6-9739-9D3BCFCDB320}"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7141DF06-075E-4514-92DC-3E869324737E}"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C05B58A7-41CF-4AC6-8C80-DB440ACF4D32}"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8DB122A8-E01A-4A6F-BE3E-87B3269A706D}"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B374E020-07B2-40D5-8BE1-740CA72E747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7623E0F7-7A96-4CCF-9BC3-C47DA6C18AF4}"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E23B434-21BA-426B-A2E4-9CFDD24FAB7C}"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A72D4C5F-9B85-461E-AD01-918DF7ED4332}"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C727F390-E88A-4EA0-B279-5AF4E96B2D3E}"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5E4EC173-BA4F-45EE-91E6-061254196334}"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9FB5DBB0-0A74-408F-8AA2-5753135F0B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918639B-585A-4122-B468-1E64426B05FF}"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EC5E5C0C-5939-4B3A-A592-C9705AADB2E1}"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C71FE258-CA87-4988-9670-0CD9ED19503D}"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62D8E421-BE69-4F51-AF51-AA28314D3B9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2BB7BCA2-8076-4FFD-8C9A-4F139DF466B0}"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0BF9A28F-F730-4B8C-A647-7969CE4EAFC5}"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90BDBB1A-9F81-48F2-91D1-E21508699A47}"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975BAD66-27B9-4E24-9FD8-5D7399B949F3}"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75836A40-849F-4871-9001-3743C754A66D}"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AD553C0F-F103-4704-950C-2821873641C9}"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F19BF854-8EB1-4D48-9C73-7DEB7A8883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73E824B-2924-4E45-85B9-170CA4F97D9E}"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49B773A5-E39D-4314-8A83-D3A06F98CC21}"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6A0A1B4-D3C1-4155-8DED-53EB4C98112F}"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5813246B-A2AC-46D2-84CE-DEF927805185}"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CA50E72-8922-481B-B520-EF17301BDBFB}"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3A6825BD-9DBA-4109-8F28-2D0D59C18E12}"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82C1C5C0-78AE-4EA1-8EFF-59D792F3D124}"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0690EC49-2187-4C93-99DA-B0E9F16E94BF}"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F5F4A0C8-8A9B-426D-9FFA-53CEE41F6C4D}"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4DE1DEB9-A775-4FA8-AD48-1C638AA92512}"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E0CCC3C3-1984-40FA-A598-FB19FD82EE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FAC48AE-E0D4-424D-86B3-E4C7AD384233}"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3A6A5A21-0A80-4740-9397-7E129FF43F56}"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A75D022D-560C-4929-A439-4FD6F069CFFD}"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5E88D590-5B93-45A1-BF3B-8EBB0AA44F66}"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56AA03D9-ED78-44CB-ADE0-D0EA7E239283}"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99F1D40-FA32-4E16-B585-05625DE0166F}"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C074F0D-9D49-49BD-BAEA-8A28488CDFA2}"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E2D1C5D6-D140-46FC-8683-F4FEDBEDD4AD}"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16045B44-E026-442A-81FA-0126DFC9C742}"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137A6221-2ACE-43F6-A574-3F3C473EFD69}"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865AB12D-B8CE-4AC0-AE40-FC23003A14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8E730C9-CF91-4693-B260-22CCBDD0605C}"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725CFA07-38EA-4A36-9E1D-42325D5141F2}"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83F322BE-87C6-4C72-9844-CA1BCFCAFB70}"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326E57F7-ECEE-4E83-9E6F-73E7CA0D03BA}"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AB035C7D-F9B3-453A-9772-6F1CC45D0162}"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DC283D7E-5D78-4F13-9D0F-D0EB2B25D3C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46A7D0C-9BFC-46FB-943E-040B649C98B2}"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351FC14-09FA-4266-87D9-53F7101D4285}"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33E8C080-37B4-437A-A894-081AC647FCF8}"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8A42C1F8-0A4F-45E9-A0EE-7087E056BF86}"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1812F4B7-CBE4-4515-A984-E3C9BA07E9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3AF2B82-67CA-41C2-885C-560D26F846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0C598CC-40E6-423E-A5FC-5A55F76685E2}"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021430C4-3E78-4497-AB1E-E399B7984A02}"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3F67D82F-F992-4899-BCE0-9F02BA8EABD3}"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67C5C9EC-E0B2-4E96-809E-B9C50C67B2AD}"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505B3C4C-2872-42B5-A0C6-44A0EAA64D7B}"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065F8D9-375B-4084-9517-69EE4CDE8907}"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71F4BD88-DB7A-4629-BBEB-EF039B2BF2A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C60DA269-1BF9-4747-9630-7B4C47AF3A82}"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DA553858-6EA9-4BFB-8CBD-3A10ECD7BA76}"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99AD938-7772-4FB9-B7A0-99EA54437A2B}"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3336DEEB-8FFC-43A2-BF28-F85FEA82F8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DE1BE6D-B067-4A6D-8209-56CDDA938D1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20BF883-4600-4ABE-9ACF-627194FD90AC}"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DBE55A48-2C03-47E8-B321-8A0B415E8015}"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6CD3F90C-915A-42AC-BBE0-1082ED39677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B98B95EE-0E15-4AD5-AB6D-566F527963E7}"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FAE9D0D8-46F2-4DEF-B3BA-6ABA33B58852}"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D4161462-35AE-4E63-BE03-A77EA4421329}"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FF969FB-0740-4E4E-9A71-8EE601DA7248}"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69A60899-BB41-406F-A736-66A4F4A8C440}"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1E155191-1F1E-49CF-B4E5-9EC4858D4BB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5FB6336D-88DB-49EB-B950-2CB99656CA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36735E2-7A45-4DA4-9DFC-B4BB4554BFB9}"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16732AF-ACD3-4F9D-A227-A25811D479B4}"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8FB9EA68-6BEF-4426-AD58-EC49A3034A69}"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15F24EA4-21A5-4EF4-8C52-AAE59A87D0B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138DEE4D-6453-4D88-8C45-50A62AC2381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59C7AAC3-04F0-425B-A420-F33C5E00F69E}"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217BD398-239D-408A-B7E5-530F92226C9D}"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18128B4A-321C-4036-9EA9-7604FCA7D8BD}"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197129C-0507-42FA-AE8D-F998619AAD3E}"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B24E1FE4-200C-4F4E-A959-0AF4A86C1D6E}"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C88C8B52-CB31-4D16-A144-3260FC49F2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B484CF4-2EB4-4606-9DFD-AD4D7EFC75A8}"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AAB2A9D5-12E7-4B94-A4E0-3D772EC76DCF}"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D3FD93EF-4DF3-47AB-B803-DE58E4D01792}"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F1F078C-6261-4829-91B0-BFA794616A3E}"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A3422A1-D998-4014-AA35-51C4595BC4CA}"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7A7E512A-B99D-4072-977F-AFBCF6D0E365}"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1A726D9A-9432-42E5-AAD5-E0A3559A6C9D}"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39A5560B-D28A-4E84-84EE-4E0A5D9AEEAE}"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DAD44FF1-0C1B-4DD1-B8B8-539246347CED}"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E51CE04-9666-4C65-8101-F08DBE851B3B}"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79F38E0F-F752-4B58-9BE8-70832F8561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D1E8B72-FB1C-4CA7-B676-1F3D76DD8375}"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3D7AA8D-BED0-4D25-AAB7-3CD5E7CCDCE3}"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15FB65F0-6F9D-4DF4-82AF-1CE0A89FD370}"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E1AB247B-BE9B-4594-B8E9-A0DDBFDA3DD0}"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6308C42D-785F-4CD4-8C99-9792B5EA512F}"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92B8D46-65EF-4D0F-9149-71373B1A4B85}"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F4723C2E-5D3A-4321-B56D-1791DDB55F38}"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B7C1D834-11F3-4C51-AE19-19B974F2D46A}"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00C2D716-DB43-4A14-A962-216D159F72DD}"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44D4A130-8575-4BDA-A054-876978D9624F}"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CD9547C6-1537-40CD-BF4F-656F8E12B7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AC7E0CC-3609-48DF-8ED7-A4B9900A5952}"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11DDE53A-A1E8-4C9C-A8D9-44F7C0D438EA}"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B45AC1B5-D8D9-43FC-823E-3A10B7D273A8}"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618A29C2-4300-4570-99D3-19210EEC378A}"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421F715F-EC4D-4FFF-AC6F-F48EBCD9EF36}"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4AF0C10B-D57E-421D-ADBA-5FD45A6DE814}"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4E5DD884-19C7-470D-8694-BCDD22149C08}"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BC6702B-395E-408C-8ADF-6E12813A7B6C}"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09E49AE9-C3CD-4968-ADBC-78B823E99868}"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A2D8E1C3-176D-46E3-A068-29616866F082}"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2DB9B4D9-E4E3-43F5-AAFB-CE6CF232FF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4761927-0D6A-467A-A5D4-64931F8C32BD}"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ED9D364C-8952-4DAF-9D82-643F508B25C0}"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B95116F-1499-4B2E-9042-3681A2DF374E}"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80A19FFB-BC32-4CE1-BD3F-EA7BB9B7C858}"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186D804-6AB8-446E-AED4-460087F364C9}"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9E1D79FF-58BD-4E8B-9D0F-34982DB4673D}"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7F8AD225-A262-4C12-99A1-B52F7C37EB75}"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A99BF192-F046-4F98-BCEA-C3AA0BAF3656}"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30297A7-DFC7-429A-A4EA-56980D089259}"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4B9DBCC-1BCC-4280-B32F-EE4F891AFF45}"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6552BE6E-CCC0-4A4B-9C13-6974EE66A0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A2A51F5-881B-4FCA-8E54-47B66674D053}"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40E1F81C-4F34-4D01-B53F-7BBBCA3DC35F}"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F337AE7A-E41B-4489-9231-417A86A7FECD}"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D57EB224-6CF2-4D53-AAE6-FDAB9045752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2AA4EA12-680E-41D2-9BFA-8B5911BB2B1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D941B077-3B90-4517-A6D7-427387599F59}"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E05832F1-C602-4B8C-A28D-B8333697ED5C}"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0201797E-D0AE-4B08-8CF4-A01C711086A0}"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9276C080-F841-4A26-8130-76D1FEE51867}"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124EF200-0DCC-44E5-B374-5D171E151499}"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2F827C2-D5A3-4045-8C76-B4DFB273FA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853D108-9A1E-4D19-98EC-D340DE73C272}"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21A5B38-E318-4AFB-A668-D5558A4CC99E}"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854BE87B-C670-4B18-B33F-13181F688055}"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44F1AAEB-D78A-48B7-8418-78BD3B1BABEC}"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99F9E1AC-C670-4F36-8892-D24C1432668E}"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F91D99E9-A62D-48C4-A54B-D04DEBE12BE2}"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DAE940D3-B446-4CFF-B319-F36420E34932}"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9B4AFDB-E320-44FF-9108-5B845BD9A915}"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8AF50ABE-171B-412B-8698-0C1DF9A6ED57}"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E4C883A4-4199-4627-8F2C-D276CD77F1D1}"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FE98605F-8673-4A3B-8042-3970ADBA155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4A5CBC2-6F84-485B-BF01-93E3E94CD853}"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7E5DA961-5862-45B6-B566-E74EB25B1D87}"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61BA70D-075E-43BA-AB94-B1A9FFF93565}"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FFCD122-F9C9-4AE7-B588-9449067A4E2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FBCA29A-AA71-4935-9660-4D108BB97FA6}"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764B539A-8F7D-4AC3-9C8B-9342C1F3222E}"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E7AFF0C3-67DA-4D38-BCE4-3A36474325D4}"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E06A8CB5-A2B7-4AFA-B6F2-8F3C54612099}"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D371F309-074F-4F3E-AF43-BF25B3EA45B0}"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C1FBEE3F-1E46-43DD-B610-5D5BDF755438}"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09703FD3-FA0F-47EA-A4B6-B4E3D336C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9AA99-2B34-48EF-9D07-4003FCA51A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36809-2B74-4836-BE3C-AABC8E6F44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D6333-9DE0-4B6B-B210-22DA244EF6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3994B-7AFA-4584-8ACC-F6C0A1245D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6542B-CE92-4C4D-9090-109F328C68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D4864-839A-4723-ACF4-F858A053A5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0BE08-83A8-4268-A6AB-E52CD4ACFB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96D0B-CCF9-48FD-901B-B409EBA65C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CAC29-43B1-409D-AEAD-DEEF75E448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8B27E-A495-4D69-AF1F-55A8568C25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6B3D4-0408-4452-92F3-E9FC26C905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F4835-5426-4402-A586-BC88C462F5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19FE0-A23D-4D61-AC40-2D5AD5FBDA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10D1B-2E71-44D8-A1E6-DA7284F73C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20F53-0D7D-4398-98E4-D2342B5664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DA6E5-1258-4E0D-ABF1-C1B63987E5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12DC5-923A-41E4-B6BB-EF4A2918BD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F5563-652E-482F-BE98-42A51456A3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00DE5-2011-4B93-8358-A9F469CF55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ACC14-B4FC-4422-BB9B-A619E51376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8F5C0-C378-4117-B461-AB5652D5E1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3366C-56C0-4AEF-B52B-187D1C740A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85AEB-A3D7-42FC-8433-9D2B5473CF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394BB-23D1-439B-A87F-935BF0B03A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E4027-FEA0-4B63-A752-D5607C9732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131CA-6DBA-4261-AEDF-15B4E98D9E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F7F0F-9286-4B9D-9FE4-34A5D336E7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836E3-957B-48FD-93E2-C5654ABBFC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9EEB5-604C-427E-B723-0114F3EF39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A377E-2342-4E77-AE41-40E18E4E36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11ADD-363E-4893-9FC4-0FCFA145CB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3A8AC-AF8F-4462-A60C-0F93C4A494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2F025-8482-4F0C-8CFD-142548C963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B89AB-290E-4DE2-AB83-D059DEE6B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E469D-7C73-4D32-B154-6817080F503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F5CA5-E313-41E8-8D70-4E3093C54E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FC1C1-FBEE-4F71-A142-CA5E69208E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DC929-0688-4D19-9C8D-14C5C350BE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CBBC2-04E8-4460-8E14-80E6CE8B8C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3C1AB-5D7E-484D-9DE7-8397266931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B9194-1C1A-4C7F-9C53-5E7653B79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E8610-F947-4715-986D-44C17ED213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11FB4-05F8-4C61-B95D-D0DA1298CD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FA102-9B0C-4D38-BDEA-9876CA042F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35903-FA81-40EF-BB25-6C145D493F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86813-13AC-470B-B8BD-4ACB7B3CAD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C0587-D6E0-4714-A70E-4925D0438F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199EB-780C-44F2-AFA2-B4F69EACDC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4E0CA-680E-4182-ACBC-D5EDBDFD84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FE6B8-2985-49B2-9780-9AFA2411D6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6886B-74B2-44B0-BCC7-D1F7B9A1C3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77B0A-7BAE-47D1-A1B6-2E153D3849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70464-2D65-4E33-A2FB-3E5AB7B4051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F96FF-815C-45B1-9ABD-ABA116867D7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34DD9-AB34-43D7-BED9-D83CD77348E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57CE1-4D8B-43AC-A756-386A0A042CE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185E8-4DA8-4748-A3AE-EFF92A388E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FF43B-88CF-4FB5-9296-C20B78B106A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4A26B-6F85-4914-B205-BDE9657181B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09946-D764-44DF-BA68-F25E926EB5C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B2BE4-F3AE-4345-A44E-4D23D24629A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FF677-CF99-480C-BF45-7BE77909384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B1367-F73A-435D-B529-558B22800BA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F30C1-48ED-4194-94D9-55B5C115651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25D02-1686-41C0-A360-1E2FC78ABF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B03FB-E5D5-4FAA-9D7C-C78F5866E1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29A89-A5C2-42DC-A4C8-09FF3836E2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D63E0-6B7E-4546-AD96-74FB69D1BA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247AB-CE4D-48E6-9639-2ECD6E6BDC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ABFC0-2460-4C0E-AA69-9821C265BA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D2A48-7F1D-4077-8932-971426DB0B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FC896-8503-46FE-9728-92882B313E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CE8B5-22B7-4024-9BEC-A8FD6F286B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43828-9618-4238-A786-E73A2B2F99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5B5D6-62D8-40A0-AD30-D1E6EFFC9D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1F9BD-BA96-448A-90DC-DA08DC8ED6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3DC5A-D71C-4227-8477-5EEB567388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A239B-582D-4C39-8179-28E31A977A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1913B-3C48-4C5F-A861-5DC6BAB328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B171E-4A44-4044-A573-A57327C6B1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0A44D-DBF0-49D9-8C55-17A6F030C5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9FF81-9366-42FE-A18A-9B4B725D12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7993C-0F8E-48F8-9B05-CB0FD2A974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D9996-CDBE-412C-906B-3E2A399693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F8CE1-CCF0-46EC-9219-E66015F42B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E3CB3-F8C6-408D-8A69-DA0AE19FB2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D66BE-A558-4E71-A02A-0471023763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B4C81-2944-4784-B4D5-AC99D25BF8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347CA-EEFB-4F51-B28B-7F82E11ADB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EC1DF-07EA-4DD3-B8AE-DC24331812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74B27-E697-49D0-8E44-CBB5854774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201A0-5E42-4F25-B133-D1A449F42D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9C9A3-CA70-4D62-8E1C-D7B1C4A4B2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2938A-7554-4860-9DC9-9CAA056DA6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03065-EC7E-43AE-BE61-CA7E964F91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4E685-08DC-4E81-927B-C89DA40DEB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3A873-9315-4B65-89F1-AF832FF5CE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5E8C9-658F-4E96-9B5A-820BA1D3BE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FACA9-D027-4A3F-AE2D-6D40E4FD68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A6094-AB0D-44ED-B5D0-26AB064B92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66984-3F21-4AEA-8ADC-241AE7B51B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3941B-3585-44B6-9CF1-8A29E9F153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D1E4E-19AE-4BA0-A353-6ACFFC7F0F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30933-5D36-4784-BDFF-6261CB7A92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E16C8-3838-40CD-983D-5A69E4645F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4D2FA-7776-42BF-9393-A7EE1CF6C8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11D29-8CF4-41A7-BF53-2411497FEA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20DEF-751D-4E0C-A364-3F088779E4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6B8D0-B2B8-41B9-B397-0C56964465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88B3C-75F8-4B15-9ED3-7CA38B7845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4DCC5-F4AA-41CD-8360-3B341D9728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FEED3-78CB-4F0D-A15A-9A34200FAE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ED65D-9DFB-4738-AED3-549D9423DC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3F82A-A4F3-4AEA-BE59-5D7BAA5B05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74389-C5FF-455C-B8F4-6FB60B17D8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2D6AA-5429-48D0-9ABD-20E3090152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EDEA1-AEDC-4642-8B06-99A654CAA3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248CC-5A96-4655-A953-E302C7868F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99FAA-8191-4A1F-9CF3-9D841400D9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7B862-BEBC-4586-9DF1-DD49111B1B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17768-BC88-43E8-900D-9A45578858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E228C-80B7-4087-B1CD-7EEDE39522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5D9B4-8FB8-436D-AF58-D7213241A7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90672-1C81-4FCE-BA9F-9B78B95C3A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F1B41-EA4D-4C79-AEC8-42A1EE1BF2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E11AD-6F59-4033-A7FD-2C37690EF4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2AABD-0863-4ABC-B7B4-F1C3E851CB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BAF7F-72AA-4AA3-9331-926EE3F755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3D15A-F9A9-4963-B840-403419D603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28A87-0973-4548-B8E0-B6A00E7D7B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6EC1D-F098-4FEF-813E-91E8A61B27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84BF0-DACF-485B-936E-FAB8C59B5A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513FE-4993-44E2-B8A4-979E39CF7D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11CBE-1D3C-4E6C-B657-630C0187E4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55DA4-FD5B-4A36-AEE7-1057D8B94A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8C195-5360-4E1E-ADE4-85E2F5CA53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CF55B-657C-47C7-B410-F783A12859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6181E-37F9-4965-A858-240F29344A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6AE6B-DC16-4D2B-B096-6D12905903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316AE-D1A6-471A-9AA5-6874611268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B0A4E-C4D8-4767-8D57-6862C001A4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F3E9F-8BD3-4F49-A61E-D8B28320A0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58108-07D4-4348-AA66-BF0928D7FF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1E89E-3801-485C-BC0E-9A3923C2F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7BDC4-0FAA-499A-B505-1CD5D6B141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AD949-817C-4D2E-A9E6-7BFDCB71B4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B8619-2E5A-49C5-B8C3-15C44FE88B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F93BE-746D-4A4B-8209-C531267D62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CE888-8032-4809-9FB8-874C7C2CC8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02AD7-E17E-4FDC-8767-3A286DB78F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D33DA-FA23-4A2B-8436-A0E5F6A132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DB0DB-B76C-4CBB-A089-678C53CCA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9B49D-8B2D-4542-AC7C-DA7FE023A6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E5875-2DA5-42B7-B58F-E6EC968F35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91CB6-012F-4A6B-AA2C-05B53A6F54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5098F-F70B-4BEF-89FF-D0DE1CDA1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250920" y="1197000"/>
            <a:ext cx="856908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ffffff"/>
              </a:solidFill>
              <a:latin typeface="Times New Roman"/>
            </a:endParaRPr>
          </a:p>
        </p:txBody>
      </p:sp>
      <p:grpSp>
        <p:nvGrpSpPr>
          <p:cNvPr id="7284" name="Group 2"/>
          <p:cNvGrpSpPr/>
          <p:nvPr/>
        </p:nvGrpSpPr>
        <p:grpSpPr>
          <a:xfrm>
            <a:off x="0" y="115920"/>
            <a:ext cx="9140760" cy="6548400"/>
            <a:chOff x="0" y="115920"/>
            <a:chExt cx="9140760" cy="6548400"/>
          </a:xfrm>
        </p:grpSpPr>
        <p:grpSp>
          <p:nvGrpSpPr>
            <p:cNvPr id="7285" name="Group 3"/>
            <p:cNvGrpSpPr/>
            <p:nvPr/>
          </p:nvGrpSpPr>
          <p:grpSpPr>
            <a:xfrm>
              <a:off x="0" y="115920"/>
              <a:ext cx="9140760" cy="6548400"/>
              <a:chOff x="0" y="115920"/>
              <a:chExt cx="9140760" cy="6548400"/>
            </a:xfrm>
          </p:grpSpPr>
          <p:sp>
            <p:nvSpPr>
              <p:cNvPr id="72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1"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2" name="Group 1"/>
          <p:cNvGrpSpPr/>
          <p:nvPr/>
        </p:nvGrpSpPr>
        <p:grpSpPr>
          <a:xfrm>
            <a:off x="0" y="115920"/>
            <a:ext cx="9140760" cy="6548400"/>
            <a:chOff x="0" y="115920"/>
            <a:chExt cx="9140760" cy="6548400"/>
          </a:xfrm>
        </p:grpSpPr>
        <p:grpSp>
          <p:nvGrpSpPr>
            <p:cNvPr id="7293" name="Group 2"/>
            <p:cNvGrpSpPr/>
            <p:nvPr/>
          </p:nvGrpSpPr>
          <p:grpSpPr>
            <a:xfrm>
              <a:off x="0" y="115920"/>
              <a:ext cx="9140760" cy="6548400"/>
              <a:chOff x="0" y="115920"/>
              <a:chExt cx="9140760" cy="6548400"/>
            </a:xfrm>
          </p:grpSpPr>
          <p:sp>
            <p:nvSpPr>
              <p:cNvPr id="72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9" name="Picture 8" descr=""/>
          <p:cNvPicPr/>
          <p:nvPr/>
        </p:nvPicPr>
        <p:blipFill>
          <a:blip r:embed="rId3"/>
          <a:stretch/>
        </p:blipFill>
        <p:spPr>
          <a:xfrm>
            <a:off x="250920" y="333360"/>
            <a:ext cx="1417680" cy="879480"/>
          </a:xfrm>
          <a:prstGeom prst="rect">
            <a:avLst/>
          </a:prstGeom>
          <a:ln w="0">
            <a:noFill/>
          </a:ln>
        </p:spPr>
      </p:pic>
      <p:sp>
        <p:nvSpPr>
          <p:cNvPr id="7300" name="Text Box 9"/>
          <p:cNvSpPr/>
          <p:nvPr/>
        </p:nvSpPr>
        <p:spPr>
          <a:xfrm>
            <a:off x="539640" y="1603440"/>
            <a:ext cx="813600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1" name="Group 1"/>
          <p:cNvGrpSpPr/>
          <p:nvPr/>
        </p:nvGrpSpPr>
        <p:grpSpPr>
          <a:xfrm>
            <a:off x="0" y="115920"/>
            <a:ext cx="9140760" cy="6548400"/>
            <a:chOff x="0" y="115920"/>
            <a:chExt cx="9140760" cy="6548400"/>
          </a:xfrm>
        </p:grpSpPr>
        <p:grpSp>
          <p:nvGrpSpPr>
            <p:cNvPr id="7302" name="Group 2"/>
            <p:cNvGrpSpPr/>
            <p:nvPr/>
          </p:nvGrpSpPr>
          <p:grpSpPr>
            <a:xfrm>
              <a:off x="0" y="115920"/>
              <a:ext cx="9140760" cy="6548400"/>
              <a:chOff x="0" y="115920"/>
              <a:chExt cx="9140760" cy="6548400"/>
            </a:xfrm>
          </p:grpSpPr>
          <p:sp>
            <p:nvSpPr>
              <p:cNvPr id="730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0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8" name="Picture 8" descr=""/>
          <p:cNvPicPr/>
          <p:nvPr/>
        </p:nvPicPr>
        <p:blipFill>
          <a:blip r:embed="rId3"/>
          <a:stretch/>
        </p:blipFill>
        <p:spPr>
          <a:xfrm>
            <a:off x="250920" y="333360"/>
            <a:ext cx="1417680" cy="879480"/>
          </a:xfrm>
          <a:prstGeom prst="rect">
            <a:avLst/>
          </a:prstGeom>
          <a:ln w="0">
            <a:noFill/>
          </a:ln>
        </p:spPr>
      </p:pic>
      <p:sp>
        <p:nvSpPr>
          <p:cNvPr id="7309" name="Text Box 9"/>
          <p:cNvSpPr/>
          <p:nvPr/>
        </p:nvSpPr>
        <p:spPr>
          <a:xfrm>
            <a:off x="539640" y="2249640"/>
            <a:ext cx="813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0" name="Group 1"/>
          <p:cNvGrpSpPr/>
          <p:nvPr/>
        </p:nvGrpSpPr>
        <p:grpSpPr>
          <a:xfrm>
            <a:off x="0" y="115920"/>
            <a:ext cx="9140760" cy="6548400"/>
            <a:chOff x="0" y="115920"/>
            <a:chExt cx="9140760" cy="6548400"/>
          </a:xfrm>
        </p:grpSpPr>
        <p:grpSp>
          <p:nvGrpSpPr>
            <p:cNvPr id="7311" name="Group 2"/>
            <p:cNvGrpSpPr/>
            <p:nvPr/>
          </p:nvGrpSpPr>
          <p:grpSpPr>
            <a:xfrm>
              <a:off x="0" y="115920"/>
              <a:ext cx="9140760" cy="6548400"/>
              <a:chOff x="0" y="115920"/>
              <a:chExt cx="9140760" cy="6548400"/>
            </a:xfrm>
          </p:grpSpPr>
          <p:sp>
            <p:nvSpPr>
              <p:cNvPr id="731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1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7" name="Picture 8" descr=""/>
          <p:cNvPicPr/>
          <p:nvPr/>
        </p:nvPicPr>
        <p:blipFill>
          <a:blip r:embed="rId3"/>
          <a:stretch/>
        </p:blipFill>
        <p:spPr>
          <a:xfrm>
            <a:off x="250920" y="333360"/>
            <a:ext cx="1417680" cy="879480"/>
          </a:xfrm>
          <a:prstGeom prst="rect">
            <a:avLst/>
          </a:prstGeom>
          <a:ln w="0">
            <a:noFill/>
          </a:ln>
        </p:spPr>
      </p:pic>
      <p:sp>
        <p:nvSpPr>
          <p:cNvPr id="7318" name="Text Box 9"/>
          <p:cNvSpPr/>
          <p:nvPr/>
        </p:nvSpPr>
        <p:spPr>
          <a:xfrm>
            <a:off x="468360" y="1603440"/>
            <a:ext cx="842004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9" name="Group 1"/>
          <p:cNvGrpSpPr/>
          <p:nvPr/>
        </p:nvGrpSpPr>
        <p:grpSpPr>
          <a:xfrm>
            <a:off x="0" y="115920"/>
            <a:ext cx="9140760" cy="6548400"/>
            <a:chOff x="0" y="115920"/>
            <a:chExt cx="9140760" cy="6548400"/>
          </a:xfrm>
        </p:grpSpPr>
        <p:grpSp>
          <p:nvGrpSpPr>
            <p:cNvPr id="7320" name="Group 2"/>
            <p:cNvGrpSpPr/>
            <p:nvPr/>
          </p:nvGrpSpPr>
          <p:grpSpPr>
            <a:xfrm>
              <a:off x="0" y="115920"/>
              <a:ext cx="9140760" cy="6548400"/>
              <a:chOff x="0" y="115920"/>
              <a:chExt cx="9140760" cy="6548400"/>
            </a:xfrm>
          </p:grpSpPr>
          <p:sp>
            <p:nvSpPr>
              <p:cNvPr id="732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2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2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2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26" name="Picture 8" descr=""/>
          <p:cNvPicPr/>
          <p:nvPr/>
        </p:nvPicPr>
        <p:blipFill>
          <a:blip r:embed="rId3"/>
          <a:stretch/>
        </p:blipFill>
        <p:spPr>
          <a:xfrm>
            <a:off x="250920" y="333360"/>
            <a:ext cx="1417680" cy="879480"/>
          </a:xfrm>
          <a:prstGeom prst="rect">
            <a:avLst/>
          </a:prstGeom>
          <a:ln w="0">
            <a:noFill/>
          </a:ln>
        </p:spPr>
      </p:pic>
      <p:sp>
        <p:nvSpPr>
          <p:cNvPr id="7327" name="Text Box 9"/>
          <p:cNvSpPr/>
          <p:nvPr/>
        </p:nvSpPr>
        <p:spPr>
          <a:xfrm>
            <a:off x="539640" y="2033640"/>
            <a:ext cx="792000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8" name="Group 1"/>
          <p:cNvGrpSpPr/>
          <p:nvPr/>
        </p:nvGrpSpPr>
        <p:grpSpPr>
          <a:xfrm>
            <a:off x="0" y="115920"/>
            <a:ext cx="9140760" cy="6548400"/>
            <a:chOff x="0" y="115920"/>
            <a:chExt cx="9140760" cy="6548400"/>
          </a:xfrm>
        </p:grpSpPr>
        <p:grpSp>
          <p:nvGrpSpPr>
            <p:cNvPr id="7329" name="Group 2"/>
            <p:cNvGrpSpPr/>
            <p:nvPr/>
          </p:nvGrpSpPr>
          <p:grpSpPr>
            <a:xfrm>
              <a:off x="0" y="115920"/>
              <a:ext cx="9140760" cy="6548400"/>
              <a:chOff x="0" y="115920"/>
              <a:chExt cx="9140760" cy="6548400"/>
            </a:xfrm>
          </p:grpSpPr>
          <p:sp>
            <p:nvSpPr>
              <p:cNvPr id="733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3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3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3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35" name="Picture 8" descr=""/>
          <p:cNvPicPr/>
          <p:nvPr/>
        </p:nvPicPr>
        <p:blipFill>
          <a:blip r:embed="rId3"/>
          <a:stretch/>
        </p:blipFill>
        <p:spPr>
          <a:xfrm>
            <a:off x="250920" y="333360"/>
            <a:ext cx="1417680" cy="879480"/>
          </a:xfrm>
          <a:prstGeom prst="rect">
            <a:avLst/>
          </a:prstGeom>
          <a:ln w="0">
            <a:noFill/>
          </a:ln>
        </p:spPr>
      </p:pic>
      <p:sp>
        <p:nvSpPr>
          <p:cNvPr id="7336" name="Text Box 9"/>
          <p:cNvSpPr/>
          <p:nvPr/>
        </p:nvSpPr>
        <p:spPr>
          <a:xfrm>
            <a:off x="539640" y="1819440"/>
            <a:ext cx="7920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37" name="Group 1"/>
          <p:cNvGrpSpPr/>
          <p:nvPr/>
        </p:nvGrpSpPr>
        <p:grpSpPr>
          <a:xfrm>
            <a:off x="0" y="115920"/>
            <a:ext cx="9140760" cy="6548400"/>
            <a:chOff x="0" y="115920"/>
            <a:chExt cx="9140760" cy="6548400"/>
          </a:xfrm>
        </p:grpSpPr>
        <p:grpSp>
          <p:nvGrpSpPr>
            <p:cNvPr id="7338" name="Group 2"/>
            <p:cNvGrpSpPr/>
            <p:nvPr/>
          </p:nvGrpSpPr>
          <p:grpSpPr>
            <a:xfrm>
              <a:off x="0" y="115920"/>
              <a:ext cx="9140760" cy="6548400"/>
              <a:chOff x="0" y="115920"/>
              <a:chExt cx="9140760" cy="6548400"/>
            </a:xfrm>
          </p:grpSpPr>
          <p:sp>
            <p:nvSpPr>
              <p:cNvPr id="73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43" name="Rectangle 7"/>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44" name="Picture 8" descr=""/>
          <p:cNvPicPr/>
          <p:nvPr/>
        </p:nvPicPr>
        <p:blipFill>
          <a:blip r:embed="rId3"/>
          <a:stretch/>
        </p:blipFill>
        <p:spPr>
          <a:xfrm>
            <a:off x="250920" y="333360"/>
            <a:ext cx="1417680" cy="879480"/>
          </a:xfrm>
          <a:prstGeom prst="rect">
            <a:avLst/>
          </a:prstGeom>
          <a:ln w="0">
            <a:noFill/>
          </a:ln>
        </p:spPr>
      </p:pic>
      <p:sp>
        <p:nvSpPr>
          <p:cNvPr id="7345" name="Text Box 9"/>
          <p:cNvSpPr/>
          <p:nvPr/>
        </p:nvSpPr>
        <p:spPr>
          <a:xfrm>
            <a:off x="539640" y="2095560"/>
            <a:ext cx="7920000" cy="2986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6" name="Group 1"/>
          <p:cNvGrpSpPr/>
          <p:nvPr/>
        </p:nvGrpSpPr>
        <p:grpSpPr>
          <a:xfrm>
            <a:off x="0" y="115920"/>
            <a:ext cx="9140760" cy="6548400"/>
            <a:chOff x="0" y="115920"/>
            <a:chExt cx="9140760" cy="6548400"/>
          </a:xfrm>
        </p:grpSpPr>
        <p:grpSp>
          <p:nvGrpSpPr>
            <p:cNvPr id="7347" name="Group 2"/>
            <p:cNvGrpSpPr/>
            <p:nvPr/>
          </p:nvGrpSpPr>
          <p:grpSpPr>
            <a:xfrm>
              <a:off x="0" y="115920"/>
              <a:ext cx="9140760" cy="6548400"/>
              <a:chOff x="0" y="115920"/>
              <a:chExt cx="9140760" cy="6548400"/>
            </a:xfrm>
          </p:grpSpPr>
          <p:sp>
            <p:nvSpPr>
              <p:cNvPr id="73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5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53" name="Picture 8" descr=""/>
          <p:cNvPicPr/>
          <p:nvPr/>
        </p:nvPicPr>
        <p:blipFill>
          <a:blip r:embed="rId3"/>
          <a:stretch/>
        </p:blipFill>
        <p:spPr>
          <a:xfrm>
            <a:off x="250920" y="333360"/>
            <a:ext cx="1417680" cy="879480"/>
          </a:xfrm>
          <a:prstGeom prst="rect">
            <a:avLst/>
          </a:prstGeom>
          <a:ln w="0">
            <a:noFill/>
          </a:ln>
        </p:spPr>
      </p:pic>
      <p:sp>
        <p:nvSpPr>
          <p:cNvPr id="7354" name="Text Box 9"/>
          <p:cNvSpPr/>
          <p:nvPr/>
        </p:nvSpPr>
        <p:spPr>
          <a:xfrm>
            <a:off x="250920" y="1176480"/>
            <a:ext cx="8208720" cy="47098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55" name="Group 1"/>
          <p:cNvGrpSpPr/>
          <p:nvPr/>
        </p:nvGrpSpPr>
        <p:grpSpPr>
          <a:xfrm>
            <a:off x="0" y="115920"/>
            <a:ext cx="9140760" cy="6548400"/>
            <a:chOff x="0" y="115920"/>
            <a:chExt cx="9140760" cy="6548400"/>
          </a:xfrm>
        </p:grpSpPr>
        <p:grpSp>
          <p:nvGrpSpPr>
            <p:cNvPr id="7356" name="Group 2"/>
            <p:cNvGrpSpPr/>
            <p:nvPr/>
          </p:nvGrpSpPr>
          <p:grpSpPr>
            <a:xfrm>
              <a:off x="0" y="115920"/>
              <a:ext cx="9140760" cy="6548400"/>
              <a:chOff x="0" y="115920"/>
              <a:chExt cx="9140760" cy="6548400"/>
            </a:xfrm>
          </p:grpSpPr>
          <p:sp>
            <p:nvSpPr>
              <p:cNvPr id="735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62" name="Picture 8" descr=""/>
          <p:cNvPicPr/>
          <p:nvPr/>
        </p:nvPicPr>
        <p:blipFill>
          <a:blip r:embed="rId3"/>
          <a:stretch/>
        </p:blipFill>
        <p:spPr>
          <a:xfrm>
            <a:off x="250920" y="333360"/>
            <a:ext cx="1417680" cy="879480"/>
          </a:xfrm>
          <a:prstGeom prst="rect">
            <a:avLst/>
          </a:prstGeom>
          <a:ln w="0">
            <a:noFill/>
          </a:ln>
        </p:spPr>
      </p:pic>
      <p:sp>
        <p:nvSpPr>
          <p:cNvPr id="7363" name="Text Box 9"/>
          <p:cNvSpPr/>
          <p:nvPr/>
        </p:nvSpPr>
        <p:spPr>
          <a:xfrm>
            <a:off x="539640" y="1819440"/>
            <a:ext cx="7920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4" name="Group 1"/>
          <p:cNvGrpSpPr/>
          <p:nvPr/>
        </p:nvGrpSpPr>
        <p:grpSpPr>
          <a:xfrm>
            <a:off x="0" y="115920"/>
            <a:ext cx="9140760" cy="6548400"/>
            <a:chOff x="0" y="115920"/>
            <a:chExt cx="9140760" cy="6548400"/>
          </a:xfrm>
        </p:grpSpPr>
        <p:grpSp>
          <p:nvGrpSpPr>
            <p:cNvPr id="7365" name="Group 2"/>
            <p:cNvGrpSpPr/>
            <p:nvPr/>
          </p:nvGrpSpPr>
          <p:grpSpPr>
            <a:xfrm>
              <a:off x="0" y="115920"/>
              <a:ext cx="9140760" cy="6548400"/>
              <a:chOff x="0" y="115920"/>
              <a:chExt cx="9140760" cy="6548400"/>
            </a:xfrm>
          </p:grpSpPr>
          <p:sp>
            <p:nvSpPr>
              <p:cNvPr id="736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1" name="Picture 8" descr=""/>
          <p:cNvPicPr/>
          <p:nvPr/>
        </p:nvPicPr>
        <p:blipFill>
          <a:blip r:embed="rId3"/>
          <a:stretch/>
        </p:blipFill>
        <p:spPr>
          <a:xfrm>
            <a:off x="250920" y="333360"/>
            <a:ext cx="1417680" cy="879480"/>
          </a:xfrm>
          <a:prstGeom prst="rect">
            <a:avLst/>
          </a:prstGeom>
          <a:ln w="0">
            <a:noFill/>
          </a:ln>
        </p:spPr>
      </p:pic>
      <p:sp>
        <p:nvSpPr>
          <p:cNvPr id="7372" name="Text Box 9"/>
          <p:cNvSpPr/>
          <p:nvPr/>
        </p:nvSpPr>
        <p:spPr>
          <a:xfrm>
            <a:off x="611280" y="2065320"/>
            <a:ext cx="7848360" cy="3046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800"/>
            </a:b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3" name="Group 1"/>
          <p:cNvGrpSpPr/>
          <p:nvPr/>
        </p:nvGrpSpPr>
        <p:grpSpPr>
          <a:xfrm>
            <a:off x="0" y="115920"/>
            <a:ext cx="9140760" cy="6548400"/>
            <a:chOff x="0" y="115920"/>
            <a:chExt cx="9140760" cy="6548400"/>
          </a:xfrm>
        </p:grpSpPr>
        <p:grpSp>
          <p:nvGrpSpPr>
            <p:cNvPr id="7374" name="Group 2"/>
            <p:cNvGrpSpPr/>
            <p:nvPr/>
          </p:nvGrpSpPr>
          <p:grpSpPr>
            <a:xfrm>
              <a:off x="0" y="115920"/>
              <a:ext cx="9140760" cy="6548400"/>
              <a:chOff x="0" y="115920"/>
              <a:chExt cx="9140760" cy="6548400"/>
            </a:xfrm>
          </p:grpSpPr>
          <p:sp>
            <p:nvSpPr>
              <p:cNvPr id="73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0" name="Picture 8" descr=""/>
          <p:cNvPicPr/>
          <p:nvPr/>
        </p:nvPicPr>
        <p:blipFill>
          <a:blip r:embed="rId3"/>
          <a:stretch/>
        </p:blipFill>
        <p:spPr>
          <a:xfrm>
            <a:off x="250920" y="333360"/>
            <a:ext cx="1417680" cy="879480"/>
          </a:xfrm>
          <a:prstGeom prst="rect">
            <a:avLst/>
          </a:prstGeom>
          <a:ln w="0">
            <a:noFill/>
          </a:ln>
        </p:spPr>
      </p:pic>
      <p:sp>
        <p:nvSpPr>
          <p:cNvPr id="7381" name="Text Box 9"/>
          <p:cNvSpPr/>
          <p:nvPr/>
        </p:nvSpPr>
        <p:spPr>
          <a:xfrm>
            <a:off x="539640" y="981000"/>
            <a:ext cx="8064720" cy="39085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2" name="Group 1"/>
          <p:cNvGrpSpPr/>
          <p:nvPr/>
        </p:nvGrpSpPr>
        <p:grpSpPr>
          <a:xfrm>
            <a:off x="0" y="115920"/>
            <a:ext cx="9140760" cy="6548400"/>
            <a:chOff x="0" y="115920"/>
            <a:chExt cx="9140760" cy="6548400"/>
          </a:xfrm>
        </p:grpSpPr>
        <p:grpSp>
          <p:nvGrpSpPr>
            <p:cNvPr id="7383" name="Group 2"/>
            <p:cNvGrpSpPr/>
            <p:nvPr/>
          </p:nvGrpSpPr>
          <p:grpSpPr>
            <a:xfrm>
              <a:off x="0" y="115920"/>
              <a:ext cx="9140760" cy="6548400"/>
              <a:chOff x="0" y="115920"/>
              <a:chExt cx="9140760" cy="6548400"/>
            </a:xfrm>
          </p:grpSpPr>
          <p:sp>
            <p:nvSpPr>
              <p:cNvPr id="73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9" name="Picture 8" descr=""/>
          <p:cNvPicPr/>
          <p:nvPr/>
        </p:nvPicPr>
        <p:blipFill>
          <a:blip r:embed="rId3"/>
          <a:stretch/>
        </p:blipFill>
        <p:spPr>
          <a:xfrm>
            <a:off x="250920" y="333360"/>
            <a:ext cx="1417680" cy="879480"/>
          </a:xfrm>
          <a:prstGeom prst="rect">
            <a:avLst/>
          </a:prstGeom>
          <a:ln w="0">
            <a:noFill/>
          </a:ln>
        </p:spPr>
      </p:pic>
      <p:sp>
        <p:nvSpPr>
          <p:cNvPr id="7390" name="Text Box 9"/>
          <p:cNvSpPr/>
          <p:nvPr/>
        </p:nvSpPr>
        <p:spPr>
          <a:xfrm>
            <a:off x="684360" y="2033640"/>
            <a:ext cx="777528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1" name="Group 1"/>
          <p:cNvGrpSpPr/>
          <p:nvPr/>
        </p:nvGrpSpPr>
        <p:grpSpPr>
          <a:xfrm>
            <a:off x="0" y="115920"/>
            <a:ext cx="9140760" cy="6548400"/>
            <a:chOff x="0" y="115920"/>
            <a:chExt cx="9140760" cy="6548400"/>
          </a:xfrm>
        </p:grpSpPr>
        <p:grpSp>
          <p:nvGrpSpPr>
            <p:cNvPr id="7392" name="Group 2"/>
            <p:cNvGrpSpPr/>
            <p:nvPr/>
          </p:nvGrpSpPr>
          <p:grpSpPr>
            <a:xfrm>
              <a:off x="0" y="115920"/>
              <a:ext cx="9140760" cy="6548400"/>
              <a:chOff x="0" y="115920"/>
              <a:chExt cx="9140760" cy="6548400"/>
            </a:xfrm>
          </p:grpSpPr>
          <p:sp>
            <p:nvSpPr>
              <p:cNvPr id="73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8" name="Picture 8" descr=""/>
          <p:cNvPicPr/>
          <p:nvPr/>
        </p:nvPicPr>
        <p:blipFill>
          <a:blip r:embed="rId3"/>
          <a:stretch/>
        </p:blipFill>
        <p:spPr>
          <a:xfrm>
            <a:off x="250920" y="333360"/>
            <a:ext cx="1417680" cy="879480"/>
          </a:xfrm>
          <a:prstGeom prst="rect">
            <a:avLst/>
          </a:prstGeom>
          <a:ln w="0">
            <a:noFill/>
          </a:ln>
        </p:spPr>
      </p:pic>
      <p:sp>
        <p:nvSpPr>
          <p:cNvPr id="7399" name="Text Box 9"/>
          <p:cNvSpPr/>
          <p:nvPr/>
        </p:nvSpPr>
        <p:spPr>
          <a:xfrm>
            <a:off x="684360" y="1603440"/>
            <a:ext cx="77752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0" name="Group 1"/>
          <p:cNvGrpSpPr/>
          <p:nvPr/>
        </p:nvGrpSpPr>
        <p:grpSpPr>
          <a:xfrm>
            <a:off x="0" y="115920"/>
            <a:ext cx="9140760" cy="6548400"/>
            <a:chOff x="0" y="115920"/>
            <a:chExt cx="9140760" cy="6548400"/>
          </a:xfrm>
        </p:grpSpPr>
        <p:grpSp>
          <p:nvGrpSpPr>
            <p:cNvPr id="7401" name="Group 2"/>
            <p:cNvGrpSpPr/>
            <p:nvPr/>
          </p:nvGrpSpPr>
          <p:grpSpPr>
            <a:xfrm>
              <a:off x="0" y="115920"/>
              <a:ext cx="9140760" cy="6548400"/>
              <a:chOff x="0" y="115920"/>
              <a:chExt cx="9140760" cy="6548400"/>
            </a:xfrm>
          </p:grpSpPr>
          <p:sp>
            <p:nvSpPr>
              <p:cNvPr id="74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07" name="Picture 8" descr=""/>
          <p:cNvPicPr/>
          <p:nvPr/>
        </p:nvPicPr>
        <p:blipFill>
          <a:blip r:embed="rId3"/>
          <a:stretch/>
        </p:blipFill>
        <p:spPr>
          <a:xfrm>
            <a:off x="250920" y="333360"/>
            <a:ext cx="1417680" cy="879480"/>
          </a:xfrm>
          <a:prstGeom prst="rect">
            <a:avLst/>
          </a:prstGeom>
          <a:ln w="0">
            <a:noFill/>
          </a:ln>
        </p:spPr>
      </p:pic>
      <p:sp>
        <p:nvSpPr>
          <p:cNvPr id="7408" name="Text Box 9"/>
          <p:cNvSpPr/>
          <p:nvPr/>
        </p:nvSpPr>
        <p:spPr>
          <a:xfrm>
            <a:off x="468360" y="1419120"/>
            <a:ext cx="7991280" cy="4338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9" name="Group 1"/>
          <p:cNvGrpSpPr/>
          <p:nvPr/>
        </p:nvGrpSpPr>
        <p:grpSpPr>
          <a:xfrm>
            <a:off x="0" y="115920"/>
            <a:ext cx="9140760" cy="6548400"/>
            <a:chOff x="0" y="115920"/>
            <a:chExt cx="9140760" cy="6548400"/>
          </a:xfrm>
        </p:grpSpPr>
        <p:grpSp>
          <p:nvGrpSpPr>
            <p:cNvPr id="7410" name="Group 2"/>
            <p:cNvGrpSpPr/>
            <p:nvPr/>
          </p:nvGrpSpPr>
          <p:grpSpPr>
            <a:xfrm>
              <a:off x="0" y="115920"/>
              <a:ext cx="9140760" cy="6548400"/>
              <a:chOff x="0" y="115920"/>
              <a:chExt cx="9140760" cy="6548400"/>
            </a:xfrm>
          </p:grpSpPr>
          <p:sp>
            <p:nvSpPr>
              <p:cNvPr id="741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1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1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1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16" name="Picture 8" descr=""/>
          <p:cNvPicPr/>
          <p:nvPr/>
        </p:nvPicPr>
        <p:blipFill>
          <a:blip r:embed="rId3"/>
          <a:stretch/>
        </p:blipFill>
        <p:spPr>
          <a:xfrm>
            <a:off x="250920" y="333360"/>
            <a:ext cx="1417680" cy="879480"/>
          </a:xfrm>
          <a:prstGeom prst="rect">
            <a:avLst/>
          </a:prstGeom>
          <a:ln w="0">
            <a:noFill/>
          </a:ln>
        </p:spPr>
      </p:pic>
      <p:sp>
        <p:nvSpPr>
          <p:cNvPr id="7417" name="Text Box 9"/>
          <p:cNvSpPr/>
          <p:nvPr/>
        </p:nvSpPr>
        <p:spPr>
          <a:xfrm>
            <a:off x="468360" y="1603440"/>
            <a:ext cx="82072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8" name="Group 1"/>
          <p:cNvGrpSpPr/>
          <p:nvPr/>
        </p:nvGrpSpPr>
        <p:grpSpPr>
          <a:xfrm>
            <a:off x="0" y="115920"/>
            <a:ext cx="9140760" cy="6548400"/>
            <a:chOff x="0" y="115920"/>
            <a:chExt cx="9140760" cy="6548400"/>
          </a:xfrm>
        </p:grpSpPr>
        <p:grpSp>
          <p:nvGrpSpPr>
            <p:cNvPr id="7419" name="Group 2"/>
            <p:cNvGrpSpPr/>
            <p:nvPr/>
          </p:nvGrpSpPr>
          <p:grpSpPr>
            <a:xfrm>
              <a:off x="0" y="115920"/>
              <a:ext cx="9140760" cy="6548400"/>
              <a:chOff x="0" y="115920"/>
              <a:chExt cx="9140760" cy="6548400"/>
            </a:xfrm>
          </p:grpSpPr>
          <p:sp>
            <p:nvSpPr>
              <p:cNvPr id="742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2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2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2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25" name="Picture 8" descr=""/>
          <p:cNvPicPr/>
          <p:nvPr/>
        </p:nvPicPr>
        <p:blipFill>
          <a:blip r:embed="rId3"/>
          <a:stretch/>
        </p:blipFill>
        <p:spPr>
          <a:xfrm>
            <a:off x="250920" y="333360"/>
            <a:ext cx="1417680" cy="879480"/>
          </a:xfrm>
          <a:prstGeom prst="rect">
            <a:avLst/>
          </a:prstGeom>
          <a:ln w="0">
            <a:noFill/>
          </a:ln>
        </p:spPr>
      </p:pic>
      <p:sp>
        <p:nvSpPr>
          <p:cNvPr id="7426" name="Text Box 9"/>
          <p:cNvSpPr/>
          <p:nvPr/>
        </p:nvSpPr>
        <p:spPr>
          <a:xfrm>
            <a:off x="250920" y="1603440"/>
            <a:ext cx="86374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ffffff"/>
              </a:solidFill>
              <a:latin typeface="Times New Roman"/>
            </a:endParaRPr>
          </a:p>
        </p:txBody>
      </p:sp>
      <p:grpSp>
        <p:nvGrpSpPr>
          <p:cNvPr id="7428" name="Group 2"/>
          <p:cNvGrpSpPr/>
          <p:nvPr/>
        </p:nvGrpSpPr>
        <p:grpSpPr>
          <a:xfrm>
            <a:off x="0" y="115920"/>
            <a:ext cx="9140760" cy="6548400"/>
            <a:chOff x="0" y="115920"/>
            <a:chExt cx="9140760" cy="6548400"/>
          </a:xfrm>
        </p:grpSpPr>
        <p:grpSp>
          <p:nvGrpSpPr>
            <p:cNvPr id="7429" name="Group 3"/>
            <p:cNvGrpSpPr/>
            <p:nvPr/>
          </p:nvGrpSpPr>
          <p:grpSpPr>
            <a:xfrm>
              <a:off x="0" y="115920"/>
              <a:ext cx="9140760" cy="6548400"/>
              <a:chOff x="0" y="115920"/>
              <a:chExt cx="9140760" cy="6548400"/>
            </a:xfrm>
          </p:grpSpPr>
          <p:sp>
            <p:nvSpPr>
              <p:cNvPr id="74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35" name="Picture 9"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6" name="Group 1"/>
          <p:cNvGrpSpPr/>
          <p:nvPr/>
        </p:nvGrpSpPr>
        <p:grpSpPr>
          <a:xfrm>
            <a:off x="0" y="115920"/>
            <a:ext cx="9140760" cy="6548400"/>
            <a:chOff x="0" y="115920"/>
            <a:chExt cx="9140760" cy="6548400"/>
          </a:xfrm>
        </p:grpSpPr>
        <p:grpSp>
          <p:nvGrpSpPr>
            <p:cNvPr id="7437" name="Group 2"/>
            <p:cNvGrpSpPr/>
            <p:nvPr/>
          </p:nvGrpSpPr>
          <p:grpSpPr>
            <a:xfrm>
              <a:off x="0" y="115920"/>
              <a:ext cx="9140760" cy="6548400"/>
              <a:chOff x="0" y="115920"/>
              <a:chExt cx="9140760" cy="6548400"/>
            </a:xfrm>
          </p:grpSpPr>
          <p:sp>
            <p:nvSpPr>
              <p:cNvPr id="74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4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43" name="Picture 8" descr=""/>
          <p:cNvPicPr/>
          <p:nvPr/>
        </p:nvPicPr>
        <p:blipFill>
          <a:blip r:embed="rId3"/>
          <a:stretch/>
        </p:blipFill>
        <p:spPr>
          <a:xfrm>
            <a:off x="250920" y="333360"/>
            <a:ext cx="1417680" cy="879480"/>
          </a:xfrm>
          <a:prstGeom prst="rect">
            <a:avLst/>
          </a:prstGeom>
          <a:ln w="0">
            <a:noFill/>
          </a:ln>
        </p:spPr>
      </p:pic>
      <p:sp>
        <p:nvSpPr>
          <p:cNvPr id="7444" name="Text Box 9"/>
          <p:cNvSpPr/>
          <p:nvPr/>
        </p:nvSpPr>
        <p:spPr>
          <a:xfrm>
            <a:off x="611280" y="1603440"/>
            <a:ext cx="784836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45" name="Group 1"/>
          <p:cNvGrpSpPr/>
          <p:nvPr/>
        </p:nvGrpSpPr>
        <p:grpSpPr>
          <a:xfrm>
            <a:off x="0" y="115920"/>
            <a:ext cx="9140760" cy="6548400"/>
            <a:chOff x="0" y="115920"/>
            <a:chExt cx="9140760" cy="6548400"/>
          </a:xfrm>
        </p:grpSpPr>
        <p:grpSp>
          <p:nvGrpSpPr>
            <p:cNvPr id="7446" name="Group 2"/>
            <p:cNvGrpSpPr/>
            <p:nvPr/>
          </p:nvGrpSpPr>
          <p:grpSpPr>
            <a:xfrm>
              <a:off x="0" y="115920"/>
              <a:ext cx="9140760" cy="6548400"/>
              <a:chOff x="0" y="115920"/>
              <a:chExt cx="9140760" cy="6548400"/>
            </a:xfrm>
          </p:grpSpPr>
          <p:sp>
            <p:nvSpPr>
              <p:cNvPr id="744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52" name="Picture 8" descr=""/>
          <p:cNvPicPr/>
          <p:nvPr/>
        </p:nvPicPr>
        <p:blipFill>
          <a:blip r:embed="rId3"/>
          <a:stretch/>
        </p:blipFill>
        <p:spPr>
          <a:xfrm>
            <a:off x="250920" y="333360"/>
            <a:ext cx="1417680" cy="879480"/>
          </a:xfrm>
          <a:prstGeom prst="rect">
            <a:avLst/>
          </a:prstGeom>
          <a:ln w="0">
            <a:noFill/>
          </a:ln>
        </p:spPr>
      </p:pic>
      <p:sp>
        <p:nvSpPr>
          <p:cNvPr id="7453" name="Text Box 9"/>
          <p:cNvSpPr/>
          <p:nvPr/>
        </p:nvSpPr>
        <p:spPr>
          <a:xfrm>
            <a:off x="181080" y="1603440"/>
            <a:ext cx="827856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54" name="Group 1"/>
          <p:cNvGrpSpPr/>
          <p:nvPr/>
        </p:nvGrpSpPr>
        <p:grpSpPr>
          <a:xfrm>
            <a:off x="0" y="115920"/>
            <a:ext cx="9140760" cy="6548400"/>
            <a:chOff x="0" y="115920"/>
            <a:chExt cx="9140760" cy="6548400"/>
          </a:xfrm>
        </p:grpSpPr>
        <p:grpSp>
          <p:nvGrpSpPr>
            <p:cNvPr id="7455" name="Group 2"/>
            <p:cNvGrpSpPr/>
            <p:nvPr/>
          </p:nvGrpSpPr>
          <p:grpSpPr>
            <a:xfrm>
              <a:off x="0" y="115920"/>
              <a:ext cx="9140760" cy="6548400"/>
              <a:chOff x="0" y="115920"/>
              <a:chExt cx="9140760" cy="6548400"/>
            </a:xfrm>
          </p:grpSpPr>
          <p:sp>
            <p:nvSpPr>
              <p:cNvPr id="745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1" name="Picture 8" descr=""/>
          <p:cNvPicPr/>
          <p:nvPr/>
        </p:nvPicPr>
        <p:blipFill>
          <a:blip r:embed="rId3"/>
          <a:stretch/>
        </p:blipFill>
        <p:spPr>
          <a:xfrm>
            <a:off x="250920" y="333360"/>
            <a:ext cx="1417680" cy="879480"/>
          </a:xfrm>
          <a:prstGeom prst="rect">
            <a:avLst/>
          </a:prstGeom>
          <a:ln w="0">
            <a:noFill/>
          </a:ln>
        </p:spPr>
      </p:pic>
      <p:sp>
        <p:nvSpPr>
          <p:cNvPr id="7462" name="Text Box 9"/>
          <p:cNvSpPr/>
          <p:nvPr/>
        </p:nvSpPr>
        <p:spPr>
          <a:xfrm>
            <a:off x="181080" y="2681280"/>
            <a:ext cx="8278560" cy="1814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3" name="Group 1"/>
          <p:cNvGrpSpPr/>
          <p:nvPr/>
        </p:nvGrpSpPr>
        <p:grpSpPr>
          <a:xfrm>
            <a:off x="0" y="115920"/>
            <a:ext cx="9140760" cy="6548400"/>
            <a:chOff x="0" y="115920"/>
            <a:chExt cx="9140760" cy="6548400"/>
          </a:xfrm>
        </p:grpSpPr>
        <p:grpSp>
          <p:nvGrpSpPr>
            <p:cNvPr id="7464" name="Group 2"/>
            <p:cNvGrpSpPr/>
            <p:nvPr/>
          </p:nvGrpSpPr>
          <p:grpSpPr>
            <a:xfrm>
              <a:off x="0" y="115920"/>
              <a:ext cx="9140760" cy="6548400"/>
              <a:chOff x="0" y="115920"/>
              <a:chExt cx="9140760" cy="6548400"/>
            </a:xfrm>
          </p:grpSpPr>
          <p:sp>
            <p:nvSpPr>
              <p:cNvPr id="746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6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6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0" name="Picture 8" descr=""/>
          <p:cNvPicPr/>
          <p:nvPr/>
        </p:nvPicPr>
        <p:blipFill>
          <a:blip r:embed="rId3"/>
          <a:stretch/>
        </p:blipFill>
        <p:spPr>
          <a:xfrm>
            <a:off x="250920" y="333360"/>
            <a:ext cx="1417680" cy="879480"/>
          </a:xfrm>
          <a:prstGeom prst="rect">
            <a:avLst/>
          </a:prstGeom>
          <a:ln w="0">
            <a:noFill/>
          </a:ln>
        </p:spPr>
      </p:pic>
      <p:sp>
        <p:nvSpPr>
          <p:cNvPr id="7471" name="Text Box 9"/>
          <p:cNvSpPr/>
          <p:nvPr/>
        </p:nvSpPr>
        <p:spPr>
          <a:xfrm>
            <a:off x="539640" y="1819440"/>
            <a:ext cx="8064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2" name="Group 1"/>
          <p:cNvGrpSpPr/>
          <p:nvPr/>
        </p:nvGrpSpPr>
        <p:grpSpPr>
          <a:xfrm>
            <a:off x="0" y="115920"/>
            <a:ext cx="9140760" cy="6548400"/>
            <a:chOff x="0" y="115920"/>
            <a:chExt cx="9140760" cy="6548400"/>
          </a:xfrm>
        </p:grpSpPr>
        <p:grpSp>
          <p:nvGrpSpPr>
            <p:cNvPr id="7473" name="Group 2"/>
            <p:cNvGrpSpPr/>
            <p:nvPr/>
          </p:nvGrpSpPr>
          <p:grpSpPr>
            <a:xfrm>
              <a:off x="0" y="115920"/>
              <a:ext cx="9140760" cy="6548400"/>
              <a:chOff x="0" y="115920"/>
              <a:chExt cx="9140760" cy="6548400"/>
            </a:xfrm>
          </p:grpSpPr>
          <p:sp>
            <p:nvSpPr>
              <p:cNvPr id="74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9" name="Picture 8" descr=""/>
          <p:cNvPicPr/>
          <p:nvPr/>
        </p:nvPicPr>
        <p:blipFill>
          <a:blip r:embed="rId3"/>
          <a:stretch/>
        </p:blipFill>
        <p:spPr>
          <a:xfrm>
            <a:off x="250920" y="333360"/>
            <a:ext cx="1417680" cy="879480"/>
          </a:xfrm>
          <a:prstGeom prst="rect">
            <a:avLst/>
          </a:prstGeom>
          <a:ln w="0">
            <a:noFill/>
          </a:ln>
        </p:spPr>
      </p:pic>
      <p:sp>
        <p:nvSpPr>
          <p:cNvPr id="7480" name="Text Box 9"/>
          <p:cNvSpPr/>
          <p:nvPr/>
        </p:nvSpPr>
        <p:spPr>
          <a:xfrm>
            <a:off x="539640" y="2681280"/>
            <a:ext cx="7920000" cy="1814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1" name="Group 1"/>
          <p:cNvGrpSpPr/>
          <p:nvPr/>
        </p:nvGrpSpPr>
        <p:grpSpPr>
          <a:xfrm>
            <a:off x="0" y="115920"/>
            <a:ext cx="9140760" cy="6548400"/>
            <a:chOff x="0" y="115920"/>
            <a:chExt cx="9140760" cy="6548400"/>
          </a:xfrm>
        </p:grpSpPr>
        <p:grpSp>
          <p:nvGrpSpPr>
            <p:cNvPr id="7482" name="Group 2"/>
            <p:cNvGrpSpPr/>
            <p:nvPr/>
          </p:nvGrpSpPr>
          <p:grpSpPr>
            <a:xfrm>
              <a:off x="0" y="115920"/>
              <a:ext cx="9140760" cy="6548400"/>
              <a:chOff x="0" y="115920"/>
              <a:chExt cx="9140760" cy="6548400"/>
            </a:xfrm>
          </p:grpSpPr>
          <p:sp>
            <p:nvSpPr>
              <p:cNvPr id="748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8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8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8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88" name="Picture 8" descr=""/>
          <p:cNvPicPr/>
          <p:nvPr/>
        </p:nvPicPr>
        <p:blipFill>
          <a:blip r:embed="rId3"/>
          <a:stretch/>
        </p:blipFill>
        <p:spPr>
          <a:xfrm>
            <a:off x="250920" y="333360"/>
            <a:ext cx="1417680" cy="879480"/>
          </a:xfrm>
          <a:prstGeom prst="rect">
            <a:avLst/>
          </a:prstGeom>
          <a:ln w="0">
            <a:noFill/>
          </a:ln>
        </p:spPr>
      </p:pic>
      <p:sp>
        <p:nvSpPr>
          <p:cNvPr id="7489" name="Text Box 9"/>
          <p:cNvSpPr/>
          <p:nvPr/>
        </p:nvSpPr>
        <p:spPr>
          <a:xfrm>
            <a:off x="179280" y="1819440"/>
            <a:ext cx="828036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491" name="Picture 2" descr=""/>
          <p:cNvPicPr/>
          <p:nvPr/>
        </p:nvPicPr>
        <p:blipFill>
          <a:blip r:embed="rId1"/>
          <a:stretch/>
        </p:blipFill>
        <p:spPr>
          <a:xfrm>
            <a:off x="0" y="0"/>
            <a:ext cx="9144000" cy="1368360"/>
          </a:xfrm>
          <a:prstGeom prst="rect">
            <a:avLst/>
          </a:prstGeom>
          <a:ln w="0">
            <a:noFill/>
          </a:ln>
        </p:spPr>
      </p:pic>
      <p:pic>
        <p:nvPicPr>
          <p:cNvPr id="7492" name="Picture 3" descr=""/>
          <p:cNvPicPr/>
          <p:nvPr/>
        </p:nvPicPr>
        <p:blipFill>
          <a:blip r:embed="rId2"/>
          <a:stretch/>
        </p:blipFill>
        <p:spPr>
          <a:xfrm>
            <a:off x="1258920" y="2060640"/>
            <a:ext cx="1297080" cy="1528560"/>
          </a:xfrm>
          <a:prstGeom prst="rect">
            <a:avLst/>
          </a:prstGeom>
          <a:ln w="0">
            <a:noFill/>
          </a:ln>
        </p:spPr>
      </p:pic>
      <p:pic>
        <p:nvPicPr>
          <p:cNvPr id="7493" name="Picture 4" descr=""/>
          <p:cNvPicPr/>
          <p:nvPr/>
        </p:nvPicPr>
        <p:blipFill>
          <a:blip r:embed="rId3"/>
          <a:stretch/>
        </p:blipFill>
        <p:spPr>
          <a:xfrm>
            <a:off x="6948360" y="1989000"/>
            <a:ext cx="1444680" cy="1573200"/>
          </a:xfrm>
          <a:prstGeom prst="rect">
            <a:avLst/>
          </a:prstGeom>
          <a:ln w="0">
            <a:noFill/>
          </a:ln>
        </p:spPr>
      </p:pic>
      <p:sp>
        <p:nvSpPr>
          <p:cNvPr id="7494"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4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26920" y="1484280"/>
            <a:ext cx="759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179280" y="981000"/>
            <a:ext cx="8425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250920" y="1212840"/>
            <a:ext cx="8497800" cy="4572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95280" y="1413000"/>
            <a:ext cx="820908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395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179280" y="1125360"/>
            <a:ext cx="8425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ffffff"/>
              </a:solidFill>
              <a:latin typeface="Times New Roman"/>
            </a:endParaRPr>
          </a:p>
        </p:txBody>
      </p:sp>
      <p:grpSp>
        <p:nvGrpSpPr>
          <p:cNvPr id="6807" name="Group 2"/>
          <p:cNvGrpSpPr/>
          <p:nvPr/>
        </p:nvGrpSpPr>
        <p:grpSpPr>
          <a:xfrm>
            <a:off x="0" y="0"/>
            <a:ext cx="9140760" cy="6548400"/>
            <a:chOff x="0" y="0"/>
            <a:chExt cx="9140760" cy="6548400"/>
          </a:xfrm>
        </p:grpSpPr>
        <p:grpSp>
          <p:nvGrpSpPr>
            <p:cNvPr id="6808" name="Group 3"/>
            <p:cNvGrpSpPr/>
            <p:nvPr/>
          </p:nvGrpSpPr>
          <p:grpSpPr>
            <a:xfrm>
              <a:off x="0" y="0"/>
              <a:ext cx="9140760" cy="6548400"/>
              <a:chOff x="0" y="0"/>
              <a:chExt cx="9140760" cy="6548400"/>
            </a:xfrm>
          </p:grpSpPr>
          <p:sp>
            <p:nvSpPr>
              <p:cNvPr id="6809"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179280" y="1125360"/>
            <a:ext cx="8425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ffffff"/>
              </a:solidFill>
              <a:latin typeface="Times New Roman"/>
            </a:endParaRPr>
          </a:p>
        </p:txBody>
      </p:sp>
      <p:grpSp>
        <p:nvGrpSpPr>
          <p:cNvPr id="6816" name="Group 2"/>
          <p:cNvGrpSpPr/>
          <p:nvPr/>
        </p:nvGrpSpPr>
        <p:grpSpPr>
          <a:xfrm>
            <a:off x="0" y="0"/>
            <a:ext cx="9140760" cy="6548400"/>
            <a:chOff x="0" y="0"/>
            <a:chExt cx="9140760" cy="6548400"/>
          </a:xfrm>
        </p:grpSpPr>
        <p:grpSp>
          <p:nvGrpSpPr>
            <p:cNvPr id="6817" name="Group 3"/>
            <p:cNvGrpSpPr/>
            <p:nvPr/>
          </p:nvGrpSpPr>
          <p:grpSpPr>
            <a:xfrm>
              <a:off x="0" y="0"/>
              <a:ext cx="9140760" cy="6548400"/>
              <a:chOff x="0" y="0"/>
              <a:chExt cx="9140760" cy="6548400"/>
            </a:xfrm>
          </p:grpSpPr>
          <p:sp>
            <p:nvSpPr>
              <p:cNvPr id="6818"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ffffff"/>
              </a:solidFill>
              <a:latin typeface="Times New Roman"/>
            </a:endParaRPr>
          </a:p>
        </p:txBody>
      </p:sp>
      <p:grpSp>
        <p:nvGrpSpPr>
          <p:cNvPr id="6825" name="Group 2"/>
          <p:cNvGrpSpPr/>
          <p:nvPr/>
        </p:nvGrpSpPr>
        <p:grpSpPr>
          <a:xfrm>
            <a:off x="0" y="0"/>
            <a:ext cx="9140760" cy="6548400"/>
            <a:chOff x="0" y="0"/>
            <a:chExt cx="9140760" cy="6548400"/>
          </a:xfrm>
        </p:grpSpPr>
        <p:grpSp>
          <p:nvGrpSpPr>
            <p:cNvPr id="6826" name="Group 3"/>
            <p:cNvGrpSpPr/>
            <p:nvPr/>
          </p:nvGrpSpPr>
          <p:grpSpPr>
            <a:xfrm>
              <a:off x="0" y="0"/>
              <a:ext cx="9140760" cy="6548400"/>
              <a:chOff x="0" y="0"/>
              <a:chExt cx="9140760" cy="6548400"/>
            </a:xfrm>
          </p:grpSpPr>
          <p:sp>
            <p:nvSpPr>
              <p:cNvPr id="6827"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539640" y="981000"/>
            <a:ext cx="79200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395280" y="1392120"/>
            <a:ext cx="811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250920" y="1052640"/>
            <a:ext cx="86374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324000" y="1125360"/>
            <a:ext cx="8569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250920" y="981000"/>
            <a:ext cx="8637480" cy="46436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Text Box 1"/>
          <p:cNvSpPr/>
          <p:nvPr/>
        </p:nvSpPr>
        <p:spPr>
          <a:xfrm>
            <a:off x="539640" y="1233360"/>
            <a:ext cx="806472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ffffff"/>
              </a:solidFill>
              <a:latin typeface="Times New Roman"/>
            </a:endParaRPr>
          </a:p>
        </p:txBody>
      </p:sp>
      <p:grpSp>
        <p:nvGrpSpPr>
          <p:cNvPr id="7068" name="Group 2"/>
          <p:cNvGrpSpPr/>
          <p:nvPr/>
        </p:nvGrpSpPr>
        <p:grpSpPr>
          <a:xfrm>
            <a:off x="0" y="115920"/>
            <a:ext cx="9140760" cy="6548400"/>
            <a:chOff x="0" y="115920"/>
            <a:chExt cx="9140760" cy="6548400"/>
          </a:xfrm>
        </p:grpSpPr>
        <p:grpSp>
          <p:nvGrpSpPr>
            <p:cNvPr id="7069" name="Group 3"/>
            <p:cNvGrpSpPr/>
            <p:nvPr/>
          </p:nvGrpSpPr>
          <p:grpSpPr>
            <a:xfrm>
              <a:off x="0" y="115920"/>
              <a:ext cx="9140760" cy="6548400"/>
              <a:chOff x="0" y="115920"/>
              <a:chExt cx="9140760" cy="6548400"/>
            </a:xfrm>
          </p:grpSpPr>
          <p:sp>
            <p:nvSpPr>
              <p:cNvPr id="70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5"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ffffff"/>
              </a:solidFill>
              <a:latin typeface="Times New Roman"/>
            </a:endParaRPr>
          </a:p>
        </p:txBody>
      </p:sp>
      <p:grpSp>
        <p:nvGrpSpPr>
          <p:cNvPr id="7077" name="Group 2"/>
          <p:cNvGrpSpPr/>
          <p:nvPr/>
        </p:nvGrpSpPr>
        <p:grpSpPr>
          <a:xfrm>
            <a:off x="0" y="115920"/>
            <a:ext cx="9140760" cy="6548400"/>
            <a:chOff x="0" y="115920"/>
            <a:chExt cx="9140760" cy="6548400"/>
          </a:xfrm>
        </p:grpSpPr>
        <p:grpSp>
          <p:nvGrpSpPr>
            <p:cNvPr id="7078" name="Group 3"/>
            <p:cNvGrpSpPr/>
            <p:nvPr/>
          </p:nvGrpSpPr>
          <p:grpSpPr>
            <a:xfrm>
              <a:off x="0" y="115920"/>
              <a:ext cx="9140760" cy="6548400"/>
              <a:chOff x="0" y="115920"/>
              <a:chExt cx="9140760" cy="6548400"/>
            </a:xfrm>
          </p:grpSpPr>
          <p:sp>
            <p:nvSpPr>
              <p:cNvPr id="70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4"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ffffff"/>
              </a:solidFill>
              <a:latin typeface="Times New Roman"/>
            </a:endParaRPr>
          </a:p>
        </p:txBody>
      </p:sp>
      <p:grpSp>
        <p:nvGrpSpPr>
          <p:cNvPr id="7086" name="Group 2"/>
          <p:cNvGrpSpPr/>
          <p:nvPr/>
        </p:nvGrpSpPr>
        <p:grpSpPr>
          <a:xfrm>
            <a:off x="0" y="115920"/>
            <a:ext cx="9140760" cy="6548400"/>
            <a:chOff x="0" y="115920"/>
            <a:chExt cx="9140760" cy="6548400"/>
          </a:xfrm>
        </p:grpSpPr>
        <p:grpSp>
          <p:nvGrpSpPr>
            <p:cNvPr id="7087" name="Group 3"/>
            <p:cNvGrpSpPr/>
            <p:nvPr/>
          </p:nvGrpSpPr>
          <p:grpSpPr>
            <a:xfrm>
              <a:off x="0" y="115920"/>
              <a:ext cx="9140760" cy="6548400"/>
              <a:chOff x="0" y="115920"/>
              <a:chExt cx="9140760" cy="6548400"/>
            </a:xfrm>
          </p:grpSpPr>
          <p:sp>
            <p:nvSpPr>
              <p:cNvPr id="70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3"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ffffff"/>
              </a:solidFill>
              <a:latin typeface="Times New Roman"/>
            </a:endParaRPr>
          </a:p>
        </p:txBody>
      </p:sp>
      <p:grpSp>
        <p:nvGrpSpPr>
          <p:cNvPr id="7095" name="Group 2"/>
          <p:cNvGrpSpPr/>
          <p:nvPr/>
        </p:nvGrpSpPr>
        <p:grpSpPr>
          <a:xfrm>
            <a:off x="0" y="115920"/>
            <a:ext cx="9140760" cy="6548400"/>
            <a:chOff x="0" y="115920"/>
            <a:chExt cx="9140760" cy="6548400"/>
          </a:xfrm>
        </p:grpSpPr>
        <p:grpSp>
          <p:nvGrpSpPr>
            <p:cNvPr id="7096" name="Group 3"/>
            <p:cNvGrpSpPr/>
            <p:nvPr/>
          </p:nvGrpSpPr>
          <p:grpSpPr>
            <a:xfrm>
              <a:off x="0" y="115920"/>
              <a:ext cx="9140760" cy="6548400"/>
              <a:chOff x="0" y="115920"/>
              <a:chExt cx="9140760" cy="6548400"/>
            </a:xfrm>
          </p:grpSpPr>
          <p:sp>
            <p:nvSpPr>
              <p:cNvPr id="70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3"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ffffff"/>
              </a:solidFill>
              <a:latin typeface="Times New Roman"/>
            </a:endParaRPr>
          </a:p>
        </p:txBody>
      </p:sp>
      <p:grpSp>
        <p:nvGrpSpPr>
          <p:cNvPr id="7104" name="Group 2"/>
          <p:cNvGrpSpPr/>
          <p:nvPr/>
        </p:nvGrpSpPr>
        <p:grpSpPr>
          <a:xfrm>
            <a:off x="0" y="115920"/>
            <a:ext cx="9140760" cy="6548400"/>
            <a:chOff x="0" y="115920"/>
            <a:chExt cx="9140760" cy="6548400"/>
          </a:xfrm>
        </p:grpSpPr>
        <p:grpSp>
          <p:nvGrpSpPr>
            <p:cNvPr id="7105" name="Group 3"/>
            <p:cNvGrpSpPr/>
            <p:nvPr/>
          </p:nvGrpSpPr>
          <p:grpSpPr>
            <a:xfrm>
              <a:off x="0" y="115920"/>
              <a:ext cx="9140760" cy="6548400"/>
              <a:chOff x="0" y="115920"/>
              <a:chExt cx="9140760" cy="6548400"/>
            </a:xfrm>
          </p:grpSpPr>
          <p:sp>
            <p:nvSpPr>
              <p:cNvPr id="71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1"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2"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ffffff"/>
              </a:solidFill>
              <a:latin typeface="Times New Roman"/>
            </a:endParaRPr>
          </a:p>
        </p:txBody>
      </p:sp>
      <p:grpSp>
        <p:nvGrpSpPr>
          <p:cNvPr id="7113" name="Group 2"/>
          <p:cNvGrpSpPr/>
          <p:nvPr/>
        </p:nvGrpSpPr>
        <p:grpSpPr>
          <a:xfrm>
            <a:off x="0" y="115920"/>
            <a:ext cx="9140760" cy="6548400"/>
            <a:chOff x="0" y="115920"/>
            <a:chExt cx="9140760" cy="6548400"/>
          </a:xfrm>
        </p:grpSpPr>
        <p:grpSp>
          <p:nvGrpSpPr>
            <p:cNvPr id="7114" name="Group 3"/>
            <p:cNvGrpSpPr/>
            <p:nvPr/>
          </p:nvGrpSpPr>
          <p:grpSpPr>
            <a:xfrm>
              <a:off x="0" y="115920"/>
              <a:ext cx="9140760" cy="6548400"/>
              <a:chOff x="0" y="115920"/>
              <a:chExt cx="9140760" cy="6548400"/>
            </a:xfrm>
          </p:grpSpPr>
          <p:sp>
            <p:nvSpPr>
              <p:cNvPr id="71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0"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1"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ffffff"/>
              </a:solidFill>
              <a:latin typeface="Times New Roman"/>
            </a:endParaRPr>
          </a:p>
        </p:txBody>
      </p:sp>
      <p:grpSp>
        <p:nvGrpSpPr>
          <p:cNvPr id="7122" name="Group 2"/>
          <p:cNvGrpSpPr/>
          <p:nvPr/>
        </p:nvGrpSpPr>
        <p:grpSpPr>
          <a:xfrm>
            <a:off x="0" y="115920"/>
            <a:ext cx="9140760" cy="6548400"/>
            <a:chOff x="0" y="115920"/>
            <a:chExt cx="9140760" cy="6548400"/>
          </a:xfrm>
        </p:grpSpPr>
        <p:grpSp>
          <p:nvGrpSpPr>
            <p:cNvPr id="7123" name="Group 3"/>
            <p:cNvGrpSpPr/>
            <p:nvPr/>
          </p:nvGrpSpPr>
          <p:grpSpPr>
            <a:xfrm>
              <a:off x="0" y="115920"/>
              <a:ext cx="9140760" cy="6548400"/>
              <a:chOff x="0" y="115920"/>
              <a:chExt cx="9140760" cy="6548400"/>
            </a:xfrm>
          </p:grpSpPr>
          <p:sp>
            <p:nvSpPr>
              <p:cNvPr id="71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9"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ffffff"/>
              </a:solidFill>
              <a:latin typeface="Times New Roman"/>
            </a:endParaRPr>
          </a:p>
        </p:txBody>
      </p:sp>
      <p:grpSp>
        <p:nvGrpSpPr>
          <p:cNvPr id="7131" name="Group 2"/>
          <p:cNvGrpSpPr/>
          <p:nvPr/>
        </p:nvGrpSpPr>
        <p:grpSpPr>
          <a:xfrm>
            <a:off x="0" y="115920"/>
            <a:ext cx="9140760" cy="6548400"/>
            <a:chOff x="0" y="115920"/>
            <a:chExt cx="9140760" cy="6548400"/>
          </a:xfrm>
        </p:grpSpPr>
        <p:grpSp>
          <p:nvGrpSpPr>
            <p:cNvPr id="7132" name="Group 3"/>
            <p:cNvGrpSpPr/>
            <p:nvPr/>
          </p:nvGrpSpPr>
          <p:grpSpPr>
            <a:xfrm>
              <a:off x="0" y="115920"/>
              <a:ext cx="9140760" cy="6548400"/>
              <a:chOff x="0" y="115920"/>
              <a:chExt cx="9140760" cy="6548400"/>
            </a:xfrm>
          </p:grpSpPr>
          <p:sp>
            <p:nvSpPr>
              <p:cNvPr id="71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8"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ffffff"/>
              </a:solidFill>
              <a:latin typeface="Times New Roman"/>
            </a:endParaRPr>
          </a:p>
        </p:txBody>
      </p:sp>
      <p:grpSp>
        <p:nvGrpSpPr>
          <p:cNvPr id="7140" name="Group 2"/>
          <p:cNvGrpSpPr/>
          <p:nvPr/>
        </p:nvGrpSpPr>
        <p:grpSpPr>
          <a:xfrm>
            <a:off x="0" y="115920"/>
            <a:ext cx="9140760" cy="6548400"/>
            <a:chOff x="0" y="115920"/>
            <a:chExt cx="9140760" cy="6548400"/>
          </a:xfrm>
        </p:grpSpPr>
        <p:grpSp>
          <p:nvGrpSpPr>
            <p:cNvPr id="7141" name="Group 3"/>
            <p:cNvGrpSpPr/>
            <p:nvPr/>
          </p:nvGrpSpPr>
          <p:grpSpPr>
            <a:xfrm>
              <a:off x="0" y="115920"/>
              <a:ext cx="9140760" cy="6548400"/>
              <a:chOff x="0" y="115920"/>
              <a:chExt cx="9140760" cy="6548400"/>
            </a:xfrm>
          </p:grpSpPr>
          <p:sp>
            <p:nvSpPr>
              <p:cNvPr id="71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7"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ffffff"/>
              </a:solidFill>
              <a:latin typeface="Times New Roman"/>
            </a:endParaRPr>
          </a:p>
        </p:txBody>
      </p:sp>
      <p:grpSp>
        <p:nvGrpSpPr>
          <p:cNvPr id="7149" name="Group 2"/>
          <p:cNvGrpSpPr/>
          <p:nvPr/>
        </p:nvGrpSpPr>
        <p:grpSpPr>
          <a:xfrm>
            <a:off x="0" y="115920"/>
            <a:ext cx="9140760" cy="6548400"/>
            <a:chOff x="0" y="115920"/>
            <a:chExt cx="9140760" cy="6548400"/>
          </a:xfrm>
        </p:grpSpPr>
        <p:grpSp>
          <p:nvGrpSpPr>
            <p:cNvPr id="7150" name="Group 3"/>
            <p:cNvGrpSpPr/>
            <p:nvPr/>
          </p:nvGrpSpPr>
          <p:grpSpPr>
            <a:xfrm>
              <a:off x="0" y="115920"/>
              <a:ext cx="9140760" cy="6548400"/>
              <a:chOff x="0" y="115920"/>
              <a:chExt cx="9140760" cy="6548400"/>
            </a:xfrm>
          </p:grpSpPr>
          <p:sp>
            <p:nvSpPr>
              <p:cNvPr id="71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6"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ffffff"/>
              </a:solidFill>
              <a:latin typeface="Times New Roman"/>
            </a:endParaRPr>
          </a:p>
        </p:txBody>
      </p:sp>
      <p:grpSp>
        <p:nvGrpSpPr>
          <p:cNvPr id="7158" name="Group 2"/>
          <p:cNvGrpSpPr/>
          <p:nvPr/>
        </p:nvGrpSpPr>
        <p:grpSpPr>
          <a:xfrm>
            <a:off x="0" y="115920"/>
            <a:ext cx="9140760" cy="6548400"/>
            <a:chOff x="0" y="115920"/>
            <a:chExt cx="9140760" cy="6548400"/>
          </a:xfrm>
        </p:grpSpPr>
        <p:grpSp>
          <p:nvGrpSpPr>
            <p:cNvPr id="7159" name="Group 3"/>
            <p:cNvGrpSpPr/>
            <p:nvPr/>
          </p:nvGrpSpPr>
          <p:grpSpPr>
            <a:xfrm>
              <a:off x="0" y="115920"/>
              <a:ext cx="9140760" cy="6548400"/>
              <a:chOff x="0" y="115920"/>
              <a:chExt cx="9140760" cy="6548400"/>
            </a:xfrm>
          </p:grpSpPr>
          <p:sp>
            <p:nvSpPr>
              <p:cNvPr id="71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5"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ffffff"/>
              </a:solidFill>
              <a:latin typeface="Times New Roman"/>
            </a:endParaRPr>
          </a:p>
        </p:txBody>
      </p:sp>
      <p:grpSp>
        <p:nvGrpSpPr>
          <p:cNvPr id="7167" name="Group 2"/>
          <p:cNvGrpSpPr/>
          <p:nvPr/>
        </p:nvGrpSpPr>
        <p:grpSpPr>
          <a:xfrm>
            <a:off x="0" y="115920"/>
            <a:ext cx="9140760" cy="6548400"/>
            <a:chOff x="0" y="115920"/>
            <a:chExt cx="9140760" cy="6548400"/>
          </a:xfrm>
        </p:grpSpPr>
        <p:grpSp>
          <p:nvGrpSpPr>
            <p:cNvPr id="7168" name="Group 3"/>
            <p:cNvGrpSpPr/>
            <p:nvPr/>
          </p:nvGrpSpPr>
          <p:grpSpPr>
            <a:xfrm>
              <a:off x="0" y="115920"/>
              <a:ext cx="9140760" cy="6548400"/>
              <a:chOff x="0" y="115920"/>
              <a:chExt cx="9140760" cy="6548400"/>
            </a:xfrm>
          </p:grpSpPr>
          <p:sp>
            <p:nvSpPr>
              <p:cNvPr id="71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4"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ffffff"/>
              </a:solidFill>
              <a:latin typeface="Times New Roman"/>
            </a:endParaRPr>
          </a:p>
        </p:txBody>
      </p:sp>
      <p:grpSp>
        <p:nvGrpSpPr>
          <p:cNvPr id="7176" name="Group 2"/>
          <p:cNvGrpSpPr/>
          <p:nvPr/>
        </p:nvGrpSpPr>
        <p:grpSpPr>
          <a:xfrm>
            <a:off x="0" y="115920"/>
            <a:ext cx="9140760" cy="6548400"/>
            <a:chOff x="0" y="115920"/>
            <a:chExt cx="9140760" cy="6548400"/>
          </a:xfrm>
        </p:grpSpPr>
        <p:grpSp>
          <p:nvGrpSpPr>
            <p:cNvPr id="7177" name="Group 3"/>
            <p:cNvGrpSpPr/>
            <p:nvPr/>
          </p:nvGrpSpPr>
          <p:grpSpPr>
            <a:xfrm>
              <a:off x="0" y="115920"/>
              <a:ext cx="9140760" cy="6548400"/>
              <a:chOff x="0" y="115920"/>
              <a:chExt cx="9140760" cy="6548400"/>
            </a:xfrm>
          </p:grpSpPr>
          <p:sp>
            <p:nvSpPr>
              <p:cNvPr id="71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3"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ffffff"/>
              </a:solidFill>
              <a:latin typeface="Times New Roman"/>
            </a:endParaRPr>
          </a:p>
        </p:txBody>
      </p:sp>
      <p:grpSp>
        <p:nvGrpSpPr>
          <p:cNvPr id="7185" name="Group 2"/>
          <p:cNvGrpSpPr/>
          <p:nvPr/>
        </p:nvGrpSpPr>
        <p:grpSpPr>
          <a:xfrm>
            <a:off x="0" y="115920"/>
            <a:ext cx="9140760" cy="6548400"/>
            <a:chOff x="0" y="115920"/>
            <a:chExt cx="9140760" cy="6548400"/>
          </a:xfrm>
        </p:grpSpPr>
        <p:grpSp>
          <p:nvGrpSpPr>
            <p:cNvPr id="7186" name="Group 3"/>
            <p:cNvGrpSpPr/>
            <p:nvPr/>
          </p:nvGrpSpPr>
          <p:grpSpPr>
            <a:xfrm>
              <a:off x="0" y="115920"/>
              <a:ext cx="9140760" cy="6548400"/>
              <a:chOff x="0" y="115920"/>
              <a:chExt cx="9140760" cy="6548400"/>
            </a:xfrm>
          </p:grpSpPr>
          <p:sp>
            <p:nvSpPr>
              <p:cNvPr id="71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250920" y="1197000"/>
            <a:ext cx="856908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ffffff"/>
              </a:solidFill>
              <a:latin typeface="Times New Roman"/>
            </a:endParaRPr>
          </a:p>
        </p:txBody>
      </p:sp>
      <p:grpSp>
        <p:nvGrpSpPr>
          <p:cNvPr id="7194" name="Group 2"/>
          <p:cNvGrpSpPr/>
          <p:nvPr/>
        </p:nvGrpSpPr>
        <p:grpSpPr>
          <a:xfrm>
            <a:off x="0" y="115920"/>
            <a:ext cx="9140760" cy="6548400"/>
            <a:chOff x="0" y="115920"/>
            <a:chExt cx="9140760" cy="6548400"/>
          </a:xfrm>
        </p:grpSpPr>
        <p:grpSp>
          <p:nvGrpSpPr>
            <p:cNvPr id="7195" name="Group 3"/>
            <p:cNvGrpSpPr/>
            <p:nvPr/>
          </p:nvGrpSpPr>
          <p:grpSpPr>
            <a:xfrm>
              <a:off x="0" y="115920"/>
              <a:ext cx="9140760" cy="6548400"/>
              <a:chOff x="0" y="115920"/>
              <a:chExt cx="9140760" cy="6548400"/>
            </a:xfrm>
          </p:grpSpPr>
          <p:sp>
            <p:nvSpPr>
              <p:cNvPr id="71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1"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ffffff"/>
              </a:solidFill>
              <a:latin typeface="Times New Roman"/>
            </a:endParaRPr>
          </a:p>
        </p:txBody>
      </p:sp>
      <p:grpSp>
        <p:nvGrpSpPr>
          <p:cNvPr id="7203" name="Group 2"/>
          <p:cNvGrpSpPr/>
          <p:nvPr/>
        </p:nvGrpSpPr>
        <p:grpSpPr>
          <a:xfrm>
            <a:off x="0" y="115920"/>
            <a:ext cx="9140760" cy="6548400"/>
            <a:chOff x="0" y="115920"/>
            <a:chExt cx="9140760" cy="6548400"/>
          </a:xfrm>
        </p:grpSpPr>
        <p:grpSp>
          <p:nvGrpSpPr>
            <p:cNvPr id="7204" name="Group 3"/>
            <p:cNvGrpSpPr/>
            <p:nvPr/>
          </p:nvGrpSpPr>
          <p:grpSpPr>
            <a:xfrm>
              <a:off x="0" y="115920"/>
              <a:ext cx="9140760" cy="6548400"/>
              <a:chOff x="0" y="115920"/>
              <a:chExt cx="9140760" cy="6548400"/>
            </a:xfrm>
          </p:grpSpPr>
          <p:sp>
            <p:nvSpPr>
              <p:cNvPr id="72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0"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ffffff"/>
              </a:solidFill>
              <a:latin typeface="Times New Roman"/>
            </a:endParaRPr>
          </a:p>
        </p:txBody>
      </p:sp>
      <p:grpSp>
        <p:nvGrpSpPr>
          <p:cNvPr id="7212" name="Group 2"/>
          <p:cNvGrpSpPr/>
          <p:nvPr/>
        </p:nvGrpSpPr>
        <p:grpSpPr>
          <a:xfrm>
            <a:off x="0" y="115920"/>
            <a:ext cx="9140760" cy="6548400"/>
            <a:chOff x="0" y="115920"/>
            <a:chExt cx="9140760" cy="6548400"/>
          </a:xfrm>
        </p:grpSpPr>
        <p:grpSp>
          <p:nvGrpSpPr>
            <p:cNvPr id="7213" name="Group 3"/>
            <p:cNvGrpSpPr/>
            <p:nvPr/>
          </p:nvGrpSpPr>
          <p:grpSpPr>
            <a:xfrm>
              <a:off x="0" y="115920"/>
              <a:ext cx="9140760" cy="6548400"/>
              <a:chOff x="0" y="115920"/>
              <a:chExt cx="9140760" cy="6548400"/>
            </a:xfrm>
          </p:grpSpPr>
          <p:sp>
            <p:nvSpPr>
              <p:cNvPr id="72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9"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ffffff"/>
              </a:solidFill>
              <a:latin typeface="Times New Roman"/>
            </a:endParaRPr>
          </a:p>
        </p:txBody>
      </p:sp>
      <p:grpSp>
        <p:nvGrpSpPr>
          <p:cNvPr id="7221" name="Group 2"/>
          <p:cNvGrpSpPr/>
          <p:nvPr/>
        </p:nvGrpSpPr>
        <p:grpSpPr>
          <a:xfrm>
            <a:off x="0" y="115920"/>
            <a:ext cx="9140760" cy="6548400"/>
            <a:chOff x="0" y="115920"/>
            <a:chExt cx="9140760" cy="6548400"/>
          </a:xfrm>
        </p:grpSpPr>
        <p:grpSp>
          <p:nvGrpSpPr>
            <p:cNvPr id="7222" name="Group 3"/>
            <p:cNvGrpSpPr/>
            <p:nvPr/>
          </p:nvGrpSpPr>
          <p:grpSpPr>
            <a:xfrm>
              <a:off x="0" y="115920"/>
              <a:ext cx="9140760" cy="6548400"/>
              <a:chOff x="0" y="115920"/>
              <a:chExt cx="9140760" cy="6548400"/>
            </a:xfrm>
          </p:grpSpPr>
          <p:sp>
            <p:nvSpPr>
              <p:cNvPr id="72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8"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ffffff"/>
              </a:solidFill>
              <a:latin typeface="Times New Roman"/>
            </a:endParaRPr>
          </a:p>
        </p:txBody>
      </p:sp>
      <p:grpSp>
        <p:nvGrpSpPr>
          <p:cNvPr id="7230" name="Group 2"/>
          <p:cNvGrpSpPr/>
          <p:nvPr/>
        </p:nvGrpSpPr>
        <p:grpSpPr>
          <a:xfrm>
            <a:off x="0" y="115920"/>
            <a:ext cx="9140760" cy="6548400"/>
            <a:chOff x="0" y="115920"/>
            <a:chExt cx="9140760" cy="6548400"/>
          </a:xfrm>
        </p:grpSpPr>
        <p:grpSp>
          <p:nvGrpSpPr>
            <p:cNvPr id="7231" name="Group 3"/>
            <p:cNvGrpSpPr/>
            <p:nvPr/>
          </p:nvGrpSpPr>
          <p:grpSpPr>
            <a:xfrm>
              <a:off x="0" y="115920"/>
              <a:ext cx="9140760" cy="6548400"/>
              <a:chOff x="0" y="115920"/>
              <a:chExt cx="9140760" cy="6548400"/>
            </a:xfrm>
          </p:grpSpPr>
          <p:sp>
            <p:nvSpPr>
              <p:cNvPr id="72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7"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ffffff"/>
              </a:solidFill>
              <a:latin typeface="Times New Roman"/>
            </a:endParaRPr>
          </a:p>
        </p:txBody>
      </p:sp>
      <p:grpSp>
        <p:nvGrpSpPr>
          <p:cNvPr id="7239" name="Group 2"/>
          <p:cNvGrpSpPr/>
          <p:nvPr/>
        </p:nvGrpSpPr>
        <p:grpSpPr>
          <a:xfrm>
            <a:off x="0" y="115920"/>
            <a:ext cx="9140760" cy="6548400"/>
            <a:chOff x="0" y="115920"/>
            <a:chExt cx="9140760" cy="6548400"/>
          </a:xfrm>
        </p:grpSpPr>
        <p:grpSp>
          <p:nvGrpSpPr>
            <p:cNvPr id="7240" name="Group 3"/>
            <p:cNvGrpSpPr/>
            <p:nvPr/>
          </p:nvGrpSpPr>
          <p:grpSpPr>
            <a:xfrm>
              <a:off x="0" y="115920"/>
              <a:ext cx="9140760" cy="6548400"/>
              <a:chOff x="0" y="115920"/>
              <a:chExt cx="9140760" cy="6548400"/>
            </a:xfrm>
          </p:grpSpPr>
          <p:sp>
            <p:nvSpPr>
              <p:cNvPr id="72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6"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ffffff"/>
              </a:solidFill>
              <a:latin typeface="Times New Roman"/>
            </a:endParaRPr>
          </a:p>
        </p:txBody>
      </p:sp>
      <p:grpSp>
        <p:nvGrpSpPr>
          <p:cNvPr id="7248" name="Group 2"/>
          <p:cNvGrpSpPr/>
          <p:nvPr/>
        </p:nvGrpSpPr>
        <p:grpSpPr>
          <a:xfrm>
            <a:off x="0" y="115920"/>
            <a:ext cx="9140760" cy="6548400"/>
            <a:chOff x="0" y="115920"/>
            <a:chExt cx="9140760" cy="6548400"/>
          </a:xfrm>
        </p:grpSpPr>
        <p:grpSp>
          <p:nvGrpSpPr>
            <p:cNvPr id="7249" name="Group 3"/>
            <p:cNvGrpSpPr/>
            <p:nvPr/>
          </p:nvGrpSpPr>
          <p:grpSpPr>
            <a:xfrm>
              <a:off x="0" y="115920"/>
              <a:ext cx="9140760" cy="6548400"/>
              <a:chOff x="0" y="115920"/>
              <a:chExt cx="9140760" cy="6548400"/>
            </a:xfrm>
          </p:grpSpPr>
          <p:sp>
            <p:nvSpPr>
              <p:cNvPr id="72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5"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6"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ffffff"/>
              </a:solidFill>
              <a:latin typeface="Times New Roman"/>
            </a:endParaRPr>
          </a:p>
        </p:txBody>
      </p:sp>
      <p:grpSp>
        <p:nvGrpSpPr>
          <p:cNvPr id="7257" name="Group 2"/>
          <p:cNvGrpSpPr/>
          <p:nvPr/>
        </p:nvGrpSpPr>
        <p:grpSpPr>
          <a:xfrm>
            <a:off x="0" y="115920"/>
            <a:ext cx="9140760" cy="6548400"/>
            <a:chOff x="0" y="115920"/>
            <a:chExt cx="9140760" cy="6548400"/>
          </a:xfrm>
        </p:grpSpPr>
        <p:grpSp>
          <p:nvGrpSpPr>
            <p:cNvPr id="7258" name="Group 3"/>
            <p:cNvGrpSpPr/>
            <p:nvPr/>
          </p:nvGrpSpPr>
          <p:grpSpPr>
            <a:xfrm>
              <a:off x="0" y="115920"/>
              <a:ext cx="9140760" cy="6548400"/>
              <a:chOff x="0" y="115920"/>
              <a:chExt cx="9140760" cy="6548400"/>
            </a:xfrm>
          </p:grpSpPr>
          <p:sp>
            <p:nvSpPr>
              <p:cNvPr id="72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4"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5" name="Group 1"/>
          <p:cNvGrpSpPr/>
          <p:nvPr/>
        </p:nvGrpSpPr>
        <p:grpSpPr>
          <a:xfrm>
            <a:off x="0" y="115920"/>
            <a:ext cx="9140760" cy="6548400"/>
            <a:chOff x="0" y="115920"/>
            <a:chExt cx="9140760" cy="6548400"/>
          </a:xfrm>
        </p:grpSpPr>
        <p:grpSp>
          <p:nvGrpSpPr>
            <p:cNvPr id="7266" name="Group 2"/>
            <p:cNvGrpSpPr/>
            <p:nvPr/>
          </p:nvGrpSpPr>
          <p:grpSpPr>
            <a:xfrm>
              <a:off x="0" y="115920"/>
              <a:ext cx="9140760" cy="6548400"/>
              <a:chOff x="0" y="115920"/>
              <a:chExt cx="9140760" cy="6548400"/>
            </a:xfrm>
          </p:grpSpPr>
          <p:sp>
            <p:nvSpPr>
              <p:cNvPr id="726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2" name="Picture 8" descr=""/>
          <p:cNvPicPr/>
          <p:nvPr/>
        </p:nvPicPr>
        <p:blipFill>
          <a:blip r:embed="rId3"/>
          <a:stretch/>
        </p:blipFill>
        <p:spPr>
          <a:xfrm>
            <a:off x="250920" y="333360"/>
            <a:ext cx="1417680" cy="879480"/>
          </a:xfrm>
          <a:prstGeom prst="rect">
            <a:avLst/>
          </a:prstGeom>
          <a:ln w="0">
            <a:noFill/>
          </a:ln>
        </p:spPr>
      </p:pic>
      <p:sp>
        <p:nvSpPr>
          <p:cNvPr id="7273" name="Text Box 9"/>
          <p:cNvSpPr/>
          <p:nvPr/>
        </p:nvSpPr>
        <p:spPr>
          <a:xfrm>
            <a:off x="250920" y="1555920"/>
            <a:ext cx="8497800" cy="3970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4"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ffffff"/>
              </a:solidFill>
              <a:latin typeface="Times New Roman"/>
            </a:endParaRPr>
          </a:p>
        </p:txBody>
      </p:sp>
      <p:grpSp>
        <p:nvGrpSpPr>
          <p:cNvPr id="7275" name="Group 2"/>
          <p:cNvGrpSpPr/>
          <p:nvPr/>
        </p:nvGrpSpPr>
        <p:grpSpPr>
          <a:xfrm>
            <a:off x="0" y="115920"/>
            <a:ext cx="9140760" cy="6548400"/>
            <a:chOff x="0" y="115920"/>
            <a:chExt cx="9140760" cy="6548400"/>
          </a:xfrm>
        </p:grpSpPr>
        <p:grpSp>
          <p:nvGrpSpPr>
            <p:cNvPr id="7276" name="Group 3"/>
            <p:cNvGrpSpPr/>
            <p:nvPr/>
          </p:nvGrpSpPr>
          <p:grpSpPr>
            <a:xfrm>
              <a:off x="0" y="115920"/>
              <a:ext cx="9140760" cy="6548400"/>
              <a:chOff x="0" y="115920"/>
              <a:chExt cx="9140760" cy="6548400"/>
            </a:xfrm>
          </p:grpSpPr>
          <p:sp>
            <p:nvSpPr>
              <p:cNvPr id="72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27Z</dcterms:modified>
  <cp:revision>1</cp:revision>
  <dc:subject/>
  <dc:title/>
</cp:coreProperties>
</file>